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521" name="PlaceHolder 1"/>
          <p:cNvSpPr>
            <a:spLocks noGrp="1"/>
          </p:cNvSpPr>
          <p:nvPr>
            <p:ph type="hdr"/>
          </p:nvPr>
        </p:nvSpPr>
        <p:spPr>
          <a:xfrm>
            <a:off x="0" y="0"/>
            <a:ext cx="30780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8"/>
          </p:nvPr>
        </p:nvSpPr>
        <p:spPr>
          <a:xfrm>
            <a:off x="4022280" y="0"/>
            <a:ext cx="307836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3"/>
          <p:cNvSpPr>
            <a:spLocks noGrp="1"/>
          </p:cNvSpPr>
          <p:nvPr>
            <p:ph type="sldImg"/>
          </p:nvPr>
        </p:nvSpPr>
        <p:spPr>
          <a:xfrm>
            <a:off x="1526760" y="1123560"/>
            <a:ext cx="4048200" cy="3035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524" name="PlaceHolder 4"/>
          <p:cNvSpPr>
            <a:spLocks noGrp="1"/>
          </p:cNvSpPr>
          <p:nvPr>
            <p:ph type="body"/>
          </p:nvPr>
        </p:nvSpPr>
        <p:spPr>
          <a:xfrm>
            <a:off x="709200" y="4327560"/>
            <a:ext cx="5683320" cy="35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5" name="PlaceHolder 5"/>
          <p:cNvSpPr>
            <a:spLocks noGrp="1"/>
          </p:cNvSpPr>
          <p:nvPr>
            <p:ph type="ftr" idx="29"/>
          </p:nvPr>
        </p:nvSpPr>
        <p:spPr>
          <a:xfrm>
            <a:off x="0" y="8540280"/>
            <a:ext cx="30780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30"/>
          </p:nvPr>
        </p:nvSpPr>
        <p:spPr>
          <a:xfrm>
            <a:off x="4022280" y="8540280"/>
            <a:ext cx="307836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32F1-54FA-4EF4-8CBA-AD35779C2A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527120" y="1123920"/>
            <a:ext cx="4048200" cy="3035160"/>
          </a:xfrm>
          <a:prstGeom prst="rect">
            <a:avLst/>
          </a:prstGeom>
          <a:ln w="0">
            <a:noFill/>
          </a:ln>
        </p:spPr>
      </p:sp>
      <p:sp>
        <p:nvSpPr>
          <p:cNvPr id="585"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El índice BODE ha demostrado constituir una buena previsión de la supervivencia en una amplia muestra de pacientes con EPO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B:</a:t>
            </a:r>
            <a:r>
              <a:rPr b="0" lang="es-ES" sz="1200" spc="-1" strike="noStrike">
                <a:solidFill>
                  <a:srgbClr val="000000"/>
                </a:solidFill>
                <a:latin typeface="Calibri"/>
              </a:rPr>
              <a:t> Body mass index o índice masa corpo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O:</a:t>
            </a:r>
            <a:r>
              <a:rPr b="0" lang="es-ES" sz="1200" spc="-1" strike="noStrike">
                <a:solidFill>
                  <a:srgbClr val="000000"/>
                </a:solidFill>
                <a:latin typeface="Calibri"/>
              </a:rPr>
              <a:t> Obstrucción al flujo aéreo en términos del Flujo de volumen ventilatorio en porciento del predicho (FEV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D: </a:t>
            </a:r>
            <a:r>
              <a:rPr b="0" lang="es-ES" sz="1200" spc="-1" strike="noStrike">
                <a:solidFill>
                  <a:srgbClr val="000000"/>
                </a:solidFill>
                <a:latin typeface="Calibri"/>
              </a:rPr>
              <a:t>Disnea medida mediante la escala internacional Medical Research Coucil (M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E:</a:t>
            </a:r>
            <a:r>
              <a:rPr b="0" lang="es-ES" sz="1200" spc="-1" strike="noStrike">
                <a:solidFill>
                  <a:srgbClr val="000000"/>
                </a:solidFill>
                <a:latin typeface="Calibri"/>
              </a:rPr>
              <a:t> Ejercicio medido mediante la distancia recorrida en la prueba de la marcha de 6 minu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iene una puntuación entre 0 a 10 puntos, y estima la supervivencia a cuatro años de la siguiente manera: 0-2 puntos: 82%; 3-4 puntos: 69%; 5-6 puntos: 60%; y 7-10 puntos: 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principal aporte del índice BODE radica en su capacidad para poder predecir la mortalidad en los pacientes con EPOC. A lo largo de los últimos años han sido múltiples los estudios que le han atribuido otras capacidades, como la de predecir hospitalizaciones, la de modificarse con diferentes tratamientos como la rehabilitación pulmonar y la cirugía de reducción de volume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D95A4-AA1F-4809-870F-C3E97AEA34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4A0DC5-13BE-436D-AB35-22BBBA876A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2E347-9D39-4DFD-BB02-61D2DF8A44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ADBDA-F535-4282-879C-0A974BF299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60FE27-B029-46B3-A106-B6DFDA13A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8C752-8D63-4CCF-98BB-2A0DC3959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718F8B-F416-4F56-A598-7DFDA5974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368B6F-8CA5-4D3C-AFD6-64AFFE1E56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AE102B-EF92-469A-ADD8-0C332C6FB6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E60AB7-BF13-42A3-8646-B134D0CF09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5CC52D-0D47-4DF3-822C-67069C9AE9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30C561-DCDE-4DE8-AD40-6DF10294DF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3F4238-DFB5-44C8-A785-9752A39C49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EF6E6C-45D5-4326-91EB-45CBE8B266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C53382-B254-43B0-B756-78BAF85458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5AEC20-45F6-49CB-8EDC-C059CA934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1EA64-4D00-4C77-B8C5-0ECB4E80F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965FF9-3C0B-4F70-91BC-C8245A7523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FD9942-7C69-4F94-BD4A-D991F9B07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626860-36EF-40E9-85E3-8F418D68CD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9CC920-DB90-40CE-8F44-DCE36469A1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148844-534B-4CD0-BA6F-D10B403E42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898215-B175-45DA-A983-186173412B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936EEE-994A-4AB4-B082-7F4E70779C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156B72-32A4-42DB-97BD-2BA4F92A0D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B46CA4-F75F-40AB-AB1C-11AC71676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F8EA77-D008-4F1B-AF55-C7B3589EA8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CC880-D382-44A6-89F0-D86267150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0B15B-48D6-4949-891F-10BD3A126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38F556-EDD9-453D-9002-7F95EE7C98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6341B8-0307-4921-8333-8ACE1A0C4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CC0300-021B-4203-A6AB-07F384E03D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92FA41-2868-4799-A475-CF9FA662CD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B54210-E085-484F-A2E0-3F3ACEE351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41F6B6-7F3C-4E36-9230-FFAAA9483E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AF8DE8-B294-4A58-9B49-2EA0B533B6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912F50-AAB0-47D8-9482-F2FA02320A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253F6-79AD-44A1-BACD-6C0E85935E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8E1352-C470-4BD5-9C29-F261627CA3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856C8C-2BC6-4FF0-925E-5B83213427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9341E-0E06-4B7E-888C-BB173D2D7F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B3425B-2B57-4912-AC79-E3C4ABA718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73CA7B-3E16-43B1-8E7A-540016B5D3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949514-8D11-4571-9FAC-2E20D5E6DE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32AAF5-F31B-49B2-9F34-0AD80F5E6B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F0A4B-D354-41A3-8DD0-639676FD7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DA6DA-BEE0-4FFD-A156-D62842769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F50BD-65EF-478C-BB3E-BFD4B3942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7353-8ECC-4A87-9BB5-EF26C3A2C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8626F-E8B6-4EBC-9879-21BBFA1E3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F8658-D0E1-4C8F-A1CD-1EAC94E36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91061-6CFD-413A-8B39-AFA10A695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D60D-7FE5-4E7C-BA0B-5AE6260BA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9C74-780D-468A-B128-2DFFAEC97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8D775-3CA0-41FF-A7C7-934C36E8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C4B88-E217-4D89-AD5D-EDDF66096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AD716-0A11-448A-9079-51BCC8191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B3A37-27CF-4D78-BCAD-AB2ECF94A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91EFC-0D8C-4612-B741-4AE726FB1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6836C-199E-4BD3-870B-ABAFAF21E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78B9E-81E0-4490-B6D3-2ACB6C988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B3857-5F9A-4A73-A462-F8A071C51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F123B-C69A-485C-B480-A746A1350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597B9-0AC7-4844-8057-D84C1808A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38AE3-995F-419A-BA58-3BDBA4D93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5EDDA-890D-4B81-875F-1460952B1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F5851-1B4F-4D36-A3ED-CCD0BCE11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482DE-56D9-4151-829A-C137380F9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0E75B-9083-407B-BE8B-26A7581A8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199B9E-8CE7-4F7A-A75F-82922C9BD0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D918E-2BE9-4FE4-B91F-37EE72675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4C896-4A9F-454A-A0BF-5060ECC8C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29619-1EF9-42C4-9CA6-636170217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592FD-7C76-49B7-9A0E-DF517142C8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6C8E3-F836-4B0A-B624-ADC2380A3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CB2C7-BF53-4F3D-88C5-612DFF7DB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6A112-E408-411A-8895-387E3A03A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9E5E6-95E8-42F1-A86C-B02FF3A2B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1E6FAF-C300-4FA5-831A-D4D3207EB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3E7167-9B54-4800-AF2E-24F7FD8050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3D89C4-BB1E-4BD3-B54F-C198887BAC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37372C-087A-4E1B-A07E-E0DA7D870A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834DA8-ACBF-426D-BFFF-627A177301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5C457-4EBE-4B32-8C1A-E2CD2C498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3F2F6-B0AE-4B3E-962A-AC4A66FCA8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4851A-3F8F-436B-835D-EFBA13AF5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FC5247-17EA-441A-81E0-4CDD4884E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4FD25-A948-4ACE-9F65-847C89B6A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3B4EF-D40F-4D11-B6C2-8F448E899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4408F-1543-46E0-919C-3A2EE7251A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210D9-DC28-4BD3-93E1-B2641DBF4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EBB279-295F-4CB5-8F93-DB5E102D1A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618D81-E93A-4C1B-8C1E-035047DF05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A5D630-F5C9-4F71-8B9F-99F2FEB0A9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1DEFED-C20B-4A4D-AE09-874F78E2F4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EA0A23-E63A-4F62-832A-0E05D5A3A3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2B15B-ED90-4B30-8F2B-68E946AC14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B33D6C-83FE-44C9-8372-30B929431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12DBB5-97CF-4CC4-B026-A3E7DFC81E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F08E0-549C-4EC6-BF82-318FCE358D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8916F-8540-46F1-9D64-CA2F0100A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53175-CB2C-4E90-AC85-EE55D8F41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72ACD-9F46-4B68-AC3F-5C9433AEB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5AF057-2A48-43A1-BDA3-4970A4987D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2FF0FC-630A-4709-9A21-54C3404FDE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12D0DC-1752-4FFC-873C-2C9A3B9A48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812CF-ACF8-4F6C-B6C3-1E3013734A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9C6E5-40FC-40C7-A2E9-94EAACA7CE6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64360" y="-6480"/>
            <a:ext cx="92088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64360" y="-6480"/>
            <a:ext cx="920880" cy="13716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2E3B-D6CC-481E-934C-F720437979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64360" y="-6480"/>
            <a:ext cx="920880" cy="13716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D4F1-F701-4397-B36C-0408B3AA09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64360" y="-6480"/>
            <a:ext cx="920880" cy="13716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5E6E-5CEE-424B-AEA4-6FE684EE3D35}"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095800" y="165240"/>
            <a:ext cx="363384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64360" y="-6480"/>
            <a:ext cx="920880" cy="1371600"/>
          </a:xfrm>
          <a:prstGeom prst="rect">
            <a:avLst/>
          </a:prstGeom>
          <a:ln w="0">
            <a:noFill/>
          </a:ln>
        </p:spPr>
      </p:pic>
      <p:pic>
        <p:nvPicPr>
          <p:cNvPr id="85" name="Picture 2" descr="foto hospital"/>
          <p:cNvPicPr/>
          <p:nvPr/>
        </p:nvPicPr>
        <p:blipFill>
          <a:blip r:embed="rId3"/>
          <a:stretch/>
        </p:blipFill>
        <p:spPr>
          <a:xfrm>
            <a:off x="8064360" y="-6480"/>
            <a:ext cx="920880" cy="13716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64360" y="-6480"/>
            <a:ext cx="920880" cy="13716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D185-43C0-4F37-87C8-A21D37EA66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64360" y="-6480"/>
            <a:ext cx="920880" cy="13716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8763-F20D-4E0A-9D28-FF4220D649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64360" y="-6480"/>
            <a:ext cx="920880" cy="13716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FD17-EF70-4E03-852E-C2A199D355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64360" y="-6480"/>
            <a:ext cx="920880" cy="13716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F05D-C5BE-4FD4-9936-F828AFFD78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64360" y="-6480"/>
            <a:ext cx="920880" cy="13716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E685-49ED-4B72-B4A5-C4AB3C48A9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64360" y="-6480"/>
            <a:ext cx="920880" cy="13716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8490-6CE1-4668-8AEA-BD7B52E822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3068280"/>
            <a:ext cx="8424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br>
              <a:rPr sz="3200"/>
            </a:br>
            <a:r>
              <a:rPr b="1" i="1" lang="en-US" sz="3200" spc="-1" strike="noStrike">
                <a:solidFill>
                  <a:srgbClr val="ffffff"/>
                </a:solidFill>
                <a:latin typeface="Calibri"/>
              </a:rPr>
              <a:t> </a:t>
            </a:r>
            <a:endParaRPr b="1" lang="en-US" sz="3200" spc="-1" strike="noStrike">
              <a:solidFill>
                <a:srgbClr val="ffffff"/>
              </a:solidFill>
              <a:latin typeface="Verdana"/>
            </a:endParaRPr>
          </a:p>
        </p:txBody>
      </p:sp>
      <p:sp>
        <p:nvSpPr>
          <p:cNvPr id="528" name="PlaceHolder 2"/>
          <p:cNvSpPr>
            <a:spLocks noGrp="1"/>
          </p:cNvSpPr>
          <p:nvPr>
            <p:ph type="subTitle"/>
          </p:nvPr>
        </p:nvSpPr>
        <p:spPr>
          <a:xfrm>
            <a:off x="213840" y="4214520"/>
            <a:ext cx="5891400" cy="2351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Autores:   Dr. Pablo Segundo Salinas Vázquez</a:t>
            </a:r>
            <a:endParaRPr b="1" lang="en-US" sz="24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                  </a:t>
            </a:r>
            <a:r>
              <a:rPr b="1" i="1" lang="en-US" sz="2400" spc="-1" strike="noStrike">
                <a:solidFill>
                  <a:srgbClr val="003366"/>
                </a:solidFill>
                <a:latin typeface="Calibri"/>
              </a:rPr>
              <a:t>Dr. Sergio Fernández García</a:t>
            </a:r>
            <a:endParaRPr b="1" lang="en-US" sz="24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                 </a:t>
            </a:r>
            <a:r>
              <a:rPr b="1" i="1" lang="en-US" sz="2400" spc="-1" strike="noStrike">
                <a:solidFill>
                  <a:srgbClr val="003366"/>
                </a:solidFill>
                <a:latin typeface="Calibri"/>
              </a:rPr>
              <a:t>Dr. Donel González Díaz.</a:t>
            </a:r>
            <a:endParaRPr b="1" lang="en-US" sz="24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                </a:t>
            </a:r>
            <a:r>
              <a:rPr b="1" i="1" lang="en-US" sz="2400" spc="-1" strike="noStrike">
                <a:solidFill>
                  <a:srgbClr val="003366"/>
                </a:solidFill>
                <a:latin typeface="Calibri"/>
              </a:rPr>
              <a:t>Dra. Drialis Díaz Garrido. </a:t>
            </a:r>
            <a:endParaRPr b="1" lang="en-US" sz="24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               </a:t>
            </a:r>
            <a:r>
              <a:rPr b="1" i="1" lang="en-US" sz="2400" spc="-1" strike="noStrike">
                <a:solidFill>
                  <a:srgbClr val="003366"/>
                </a:solidFill>
                <a:latin typeface="Calibri"/>
              </a:rPr>
              <a:t>Dra: Laura Hernández Moreno</a:t>
            </a:r>
            <a:endParaRPr b="1" lang="en-US" sz="2400" spc="-1" strike="noStrike">
              <a:solidFill>
                <a:srgbClr val="003366"/>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   </a:t>
            </a:r>
            <a:r>
              <a:rPr b="1" i="1" lang="en-US" sz="2400" spc="-1" strike="noStrike">
                <a:solidFill>
                  <a:srgbClr val="003366"/>
                </a:solidFill>
                <a:latin typeface="Calibri"/>
              </a:rPr>
              <a:t>Servicio de Neumología. </a:t>
            </a:r>
            <a:endParaRPr b="1" lang="en-US" sz="2400" spc="-1" strike="noStrike">
              <a:solidFill>
                <a:srgbClr val="003366"/>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      </a:t>
            </a:r>
            <a:r>
              <a:rPr b="1" i="1" lang="en-US" sz="2400" spc="-1" strike="noStrike">
                <a:solidFill>
                  <a:srgbClr val="003366"/>
                </a:solidFill>
                <a:latin typeface="Calibri"/>
              </a:rPr>
              <a:t>La Habana, 2020</a:t>
            </a:r>
            <a:endParaRPr b="1" lang="en-US" sz="2400" spc="-1" strike="noStrike">
              <a:solidFill>
                <a:srgbClr val="003366"/>
              </a:solidFill>
              <a:latin typeface="Verdana"/>
            </a:endParaRPr>
          </a:p>
        </p:txBody>
      </p:sp>
      <p:pic>
        <p:nvPicPr>
          <p:cNvPr id="529" name="Picture 34" descr=""/>
          <p:cNvPicPr/>
          <p:nvPr/>
        </p:nvPicPr>
        <p:blipFill>
          <a:blip r:embed="rId1"/>
          <a:stretch/>
        </p:blipFill>
        <p:spPr>
          <a:xfrm>
            <a:off x="0" y="0"/>
            <a:ext cx="2593800" cy="1512720"/>
          </a:xfrm>
          <a:prstGeom prst="rect">
            <a:avLst/>
          </a:prstGeom>
          <a:ln w="0">
            <a:noFill/>
          </a:ln>
        </p:spPr>
      </p:pic>
      <p:sp>
        <p:nvSpPr>
          <p:cNvPr id="530" name="4 Rectángulo"/>
          <p:cNvSpPr/>
          <p:nvPr/>
        </p:nvSpPr>
        <p:spPr>
          <a:xfrm>
            <a:off x="0" y="1285920"/>
            <a:ext cx="5214960" cy="1902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Arial"/>
              </a:rPr>
              <a:t>Aplicación del índice de BODE en pacientes con enfermedad pulmonar obstructiva crónica</a:t>
            </a:r>
            <a:endParaRPr b="0" lang="en-US" sz="2200" spc="-1" strike="noStrike">
              <a:solidFill>
                <a:srgbClr val="00336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57"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58" name="Marcador de contenido 6" descr=""/>
          <p:cNvPicPr/>
          <p:nvPr/>
        </p:nvPicPr>
        <p:blipFill>
          <a:blip r:embed="rId1"/>
          <a:stretch/>
        </p:blipFill>
        <p:spPr>
          <a:xfrm>
            <a:off x="468360" y="1773360"/>
            <a:ext cx="7848720" cy="4392360"/>
          </a:xfrm>
          <a:prstGeom prst="rect">
            <a:avLst/>
          </a:prstGeom>
          <a:ln w="0">
            <a:noFill/>
          </a:ln>
        </p:spPr>
      </p:pic>
      <p:sp>
        <p:nvSpPr>
          <p:cNvPr id="559" name="Rectángulo 4"/>
          <p:cNvSpPr/>
          <p:nvPr/>
        </p:nvSpPr>
        <p:spPr>
          <a:xfrm>
            <a:off x="3429000" y="2571840"/>
            <a:ext cx="2496960" cy="2743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66"/>
              </a:solidFill>
              <a:latin typeface="Arial"/>
            </a:endParaRPr>
          </a:p>
        </p:txBody>
      </p:sp>
      <p:sp>
        <p:nvSpPr>
          <p:cNvPr id="560" name="5 Rectángulo"/>
          <p:cNvSpPr/>
          <p:nvPr/>
        </p:nvSpPr>
        <p:spPr>
          <a:xfrm>
            <a:off x="4939560" y="6286680"/>
            <a:ext cx="402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pic>
        <p:nvPicPr>
          <p:cNvPr id="562" name="Marcador de contenido 7" descr=""/>
          <p:cNvPicPr/>
          <p:nvPr/>
        </p:nvPicPr>
        <p:blipFill>
          <a:blip r:embed="rId1"/>
          <a:stretch/>
        </p:blipFill>
        <p:spPr>
          <a:xfrm>
            <a:off x="684360" y="1628640"/>
            <a:ext cx="7561080" cy="4537080"/>
          </a:xfrm>
          <a:prstGeom prst="rect">
            <a:avLst/>
          </a:prstGeom>
          <a:ln w="0">
            <a:noFill/>
          </a:ln>
        </p:spPr>
      </p:pic>
      <p:sp>
        <p:nvSpPr>
          <p:cNvPr id="563"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sp>
        <p:nvSpPr>
          <p:cNvPr id="564" name="Rectángulo 4"/>
          <p:cNvSpPr/>
          <p:nvPr/>
        </p:nvSpPr>
        <p:spPr>
          <a:xfrm>
            <a:off x="2987640" y="2781360"/>
            <a:ext cx="1478160" cy="2558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66"/>
              </a:solidFill>
              <a:latin typeface="Arial"/>
            </a:endParaRPr>
          </a:p>
        </p:txBody>
      </p:sp>
      <p:sp>
        <p:nvSpPr>
          <p:cNvPr id="565" name="5 Rectángulo"/>
          <p:cNvSpPr/>
          <p:nvPr/>
        </p:nvSpPr>
        <p:spPr>
          <a:xfrm>
            <a:off x="4939560" y="6286680"/>
            <a:ext cx="402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67"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68" name="Marcador de contenido 6" descr=""/>
          <p:cNvPicPr/>
          <p:nvPr/>
        </p:nvPicPr>
        <p:blipFill>
          <a:blip r:embed="rId1"/>
          <a:stretch/>
        </p:blipFill>
        <p:spPr>
          <a:xfrm>
            <a:off x="755640" y="1916280"/>
            <a:ext cx="7470720" cy="4559040"/>
          </a:xfrm>
          <a:prstGeom prst="rect">
            <a:avLst/>
          </a:prstGeom>
          <a:ln w="0">
            <a:noFill/>
          </a:ln>
        </p:spPr>
      </p:pic>
      <p:sp>
        <p:nvSpPr>
          <p:cNvPr id="569" name="Rectángulo 4"/>
          <p:cNvSpPr/>
          <p:nvPr/>
        </p:nvSpPr>
        <p:spPr>
          <a:xfrm>
            <a:off x="2916360" y="2781360"/>
            <a:ext cx="1869840" cy="28605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66"/>
              </a:solidFill>
              <a:latin typeface="Arial"/>
            </a:endParaRPr>
          </a:p>
        </p:txBody>
      </p:sp>
      <p:sp>
        <p:nvSpPr>
          <p:cNvPr id="570" name="5 Rectángulo"/>
          <p:cNvSpPr/>
          <p:nvPr/>
        </p:nvSpPr>
        <p:spPr>
          <a:xfrm>
            <a:off x="4939560" y="6286680"/>
            <a:ext cx="402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72" name="Rectangle 1"/>
          <p:cNvSpPr/>
          <p:nvPr/>
        </p:nvSpPr>
        <p:spPr>
          <a:xfrm>
            <a:off x="684360" y="1774080"/>
            <a:ext cx="77533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Calibri"/>
              </a:rPr>
              <a:t>Tabla 1.  Distribuci</a:t>
            </a:r>
            <a:r>
              <a:rPr b="1" lang="es-ES" sz="1800" spc="-1" strike="noStrike">
                <a:solidFill>
                  <a:srgbClr val="003366"/>
                </a:solidFill>
                <a:latin typeface="Calibri"/>
                <a:ea typeface="Calibri"/>
              </a:rPr>
              <a:t>ó</a:t>
            </a:r>
            <a:r>
              <a:rPr b="1" lang="es-ES" sz="1800" spc="-1" strike="noStrike">
                <a:solidFill>
                  <a:srgbClr val="003366"/>
                </a:solidFill>
                <a:latin typeface="Arial"/>
                <a:ea typeface="Calibri"/>
              </a:rPr>
              <a:t>n de pacientes seg</a:t>
            </a:r>
            <a:r>
              <a:rPr b="1" lang="es-ES" sz="1800" spc="-1" strike="noStrike">
                <a:solidFill>
                  <a:srgbClr val="003366"/>
                </a:solidFill>
                <a:latin typeface="Calibri"/>
                <a:ea typeface="Calibri"/>
              </a:rPr>
              <a:t>ú</a:t>
            </a:r>
            <a:r>
              <a:rPr b="1" lang="es-ES" sz="1800" spc="-1" strike="noStrike">
                <a:solidFill>
                  <a:srgbClr val="003366"/>
                </a:solidFill>
                <a:latin typeface="Arial"/>
                <a:ea typeface="Calibri"/>
              </a:rPr>
              <a:t>n FEV1, test PM6m y BODE</a:t>
            </a:r>
            <a:endParaRPr b="0" lang="en-US" sz="1800" spc="-1" strike="noStrike">
              <a:solidFill>
                <a:srgbClr val="003366"/>
              </a:solidFill>
              <a:latin typeface="Arial"/>
            </a:endParaRPr>
          </a:p>
        </p:txBody>
      </p:sp>
      <p:sp>
        <p:nvSpPr>
          <p:cNvPr id="573"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graphicFrame>
        <p:nvGraphicFramePr>
          <p:cNvPr id="574" name=""/>
          <p:cNvGraphicFramePr/>
          <p:nvPr/>
        </p:nvGraphicFramePr>
        <p:xfrm>
          <a:off x="0" y="2205000"/>
          <a:ext cx="9144000" cy="4297320"/>
        </p:xfrm>
        <a:graphic>
          <a:graphicData uri="http://schemas.openxmlformats.org/drawingml/2006/table">
            <a:tbl>
              <a:tblPr/>
              <a:tblGrid>
                <a:gridCol w="1519200"/>
                <a:gridCol w="1478160"/>
                <a:gridCol w="1639800"/>
                <a:gridCol w="1357200"/>
                <a:gridCol w="1496880"/>
                <a:gridCol w="1652760"/>
              </a:tblGrid>
              <a:tr h="1646280">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Gravedad de la EPOC</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Cantidad promedio de metros recorridos</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Valores promedio escala MRC</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Puntaje promedio según BODE</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  de mortalidad al año </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 de Supervivencia a los 5 años</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noFill/>
                  </a:tcPr>
                </a:tc>
              </a:tr>
              <a:tr h="660240">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Arial"/>
                        </a:rPr>
                        <a:t>Leve</a:t>
                      </a:r>
                      <a:endParaRPr b="0" lang="en-US" sz="1400" spc="-1" strike="noStrike">
                        <a:solidFill>
                          <a:srgbClr val="00336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353, 75</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2,24 ≥ 2</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2,04</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20,0%</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80,0%</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r>
              <a:tr h="658800">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oderada</a:t>
                      </a:r>
                      <a:endParaRPr b="0" lang="en-US" sz="14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241,81</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2,32 ≥ 2</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3,66</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37,0%</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63,0%</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73200">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Grave</a:t>
                      </a:r>
                      <a:endParaRPr b="0" lang="en-US" sz="14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189,33</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2,37 ≥ 2</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5,77</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58,8%</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41,2%</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58800">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uy grave</a:t>
                      </a:r>
                      <a:endParaRPr b="0" lang="en-US" sz="14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106,07</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3,96 ≥ 2</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8,04</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80,7%</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17,3%</a:t>
                      </a:r>
                      <a:endParaRPr b="0" lang="en-US" sz="12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75" name="5 Rectángulo"/>
          <p:cNvSpPr/>
          <p:nvPr/>
        </p:nvSpPr>
        <p:spPr>
          <a:xfrm>
            <a:off x="5109480" y="6488280"/>
            <a:ext cx="402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77" name="Rectángulo 5"/>
          <p:cNvSpPr/>
          <p:nvPr/>
        </p:nvSpPr>
        <p:spPr>
          <a:xfrm>
            <a:off x="395280" y="1125360"/>
            <a:ext cx="849636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3366"/>
                </a:solidFill>
                <a:latin typeface="Arial"/>
                <a:ea typeface="Calibri"/>
              </a:rPr>
              <a:t> </a:t>
            </a:r>
            <a:endParaRPr b="0" lang="en-US" sz="1800" spc="-1" strike="noStrike">
              <a:solidFill>
                <a:srgbClr val="003366"/>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3366"/>
                </a:solidFill>
                <a:latin typeface="Arial"/>
                <a:ea typeface="Calibri"/>
              </a:rPr>
              <a:t>Tabla 2. Concordancia entre la gravedad de la EPOC y los resultados del índice de BODE</a:t>
            </a:r>
            <a:endParaRPr b="0" lang="en-US" sz="1800" spc="-1" strike="noStrike">
              <a:solidFill>
                <a:srgbClr val="003366"/>
              </a:solidFill>
              <a:latin typeface="Arial"/>
            </a:endParaRPr>
          </a:p>
        </p:txBody>
      </p:sp>
      <p:sp>
        <p:nvSpPr>
          <p:cNvPr id="578"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graphicFrame>
        <p:nvGraphicFramePr>
          <p:cNvPr id="579" name=""/>
          <p:cNvGraphicFramePr/>
          <p:nvPr/>
        </p:nvGraphicFramePr>
        <p:xfrm>
          <a:off x="326880" y="2421000"/>
          <a:ext cx="8637840" cy="4263840"/>
        </p:xfrm>
        <a:graphic>
          <a:graphicData uri="http://schemas.openxmlformats.org/drawingml/2006/table">
            <a:tbl>
              <a:tblPr/>
              <a:tblGrid>
                <a:gridCol w="1839960"/>
                <a:gridCol w="2373480"/>
                <a:gridCol w="1460520"/>
                <a:gridCol w="1042920"/>
                <a:gridCol w="1920960"/>
              </a:tblGrid>
              <a:tr h="320760">
                <a:tc gridSpan="5">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64d"/>
                          </a:solidFill>
                          <a:latin typeface="Arial"/>
                          <a:ea typeface="Arial"/>
                        </a:rPr>
                        <a:t>Concordancia</a:t>
                      </a:r>
                      <a:r>
                        <a:rPr b="0" lang="es-ES" sz="1400" spc="-1" strike="noStrike">
                          <a:solidFill>
                            <a:srgbClr val="00264d"/>
                          </a:solidFill>
                          <a:latin typeface="Arial"/>
                          <a:ea typeface="Arial"/>
                        </a:rPr>
                        <a:t> </a:t>
                      </a:r>
                      <a:endParaRPr b="0" lang="en-US" sz="14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49000">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Gravedad de la EPOC</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1872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Índice BODE</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18720">
                      <a:solidFill>
                        <a:srgbClr val="ffffff"/>
                      </a:solidFill>
                    </a:lnT>
                    <a:lnB w="5760">
                      <a:solidFill>
                        <a:srgbClr val="ffffff"/>
                      </a:solidFill>
                    </a:lnB>
                    <a:noFill/>
                  </a:tcPr>
                </a:tc>
                <a:tc>
                  <a:txBody>
                    <a:bodyPr lIns="67320" rIns="673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 de mortalidad</a:t>
                      </a:r>
                      <a:endParaRPr b="0" lang="en-US" sz="1200" spc="-1" strike="noStrike">
                        <a:solidFill>
                          <a:srgbClr val="003366"/>
                        </a:solidFill>
                        <a:latin typeface="Arial"/>
                      </a:endParaRPr>
                    </a:p>
                  </a:txBody>
                  <a:tcPr anchor="t" marL="67320" marR="67320">
                    <a:lnL w="5760">
                      <a:solidFill>
                        <a:srgbClr val="ffffff"/>
                      </a:solidFill>
                    </a:lnL>
                    <a:lnR w="5760">
                      <a:solidFill>
                        <a:srgbClr val="ffffff"/>
                      </a:solidFill>
                    </a:lnR>
                    <a:lnT w="1872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Kappa</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1872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Interpretación de la concordancia</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18720">
                      <a:solidFill>
                        <a:srgbClr val="ffffff"/>
                      </a:solidFill>
                    </a:lnT>
                    <a:lnB w="5760">
                      <a:solidFill>
                        <a:srgbClr val="ffffff"/>
                      </a:solidFill>
                    </a:lnB>
                    <a:noFill/>
                  </a:tcPr>
                </a:tc>
              </a:tr>
              <a:tr h="822600">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Leve</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2,04) ≤ 2 </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implica mortalidad del 20%</a:t>
                      </a:r>
                      <a:endParaRPr b="0" lang="en-US" sz="1200" spc="-1" strike="noStrike">
                        <a:solidFill>
                          <a:srgbClr val="003366"/>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0,41</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Moderada</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r>
              <a:tr h="876240">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Moderada</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3,66) está 3 – 4 </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 </a:t>
                      </a:r>
                      <a:endParaRPr b="0" lang="en-US" sz="12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37,0%</a:t>
                      </a:r>
                      <a:endParaRPr b="0" lang="en-US" sz="1200" spc="-1" strike="noStrike">
                        <a:solidFill>
                          <a:srgbClr val="003366"/>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0,87</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Muy buena</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r>
              <a:tr h="888840">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Grave</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5,77) está 5 – 6  </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58,8% </a:t>
                      </a:r>
                      <a:endParaRPr b="0" lang="en-US" sz="1200" spc="-1" strike="noStrike">
                        <a:solidFill>
                          <a:srgbClr val="003366"/>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0,59</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Moderada</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r>
              <a:tr h="806400">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Muy Grave</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8,04) está entre 7 y 10</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80,7% </a:t>
                      </a:r>
                      <a:endParaRPr b="0" lang="en-US" sz="1200" spc="-1" strike="noStrike">
                        <a:solidFill>
                          <a:srgbClr val="003366"/>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0,59</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c>
                  <a:txBody>
                    <a:bodyPr lIns="67320" rIns="67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64d"/>
                          </a:solidFill>
                          <a:latin typeface="Arial"/>
                          <a:ea typeface="Arial"/>
                        </a:rPr>
                        <a:t>Moderada</a:t>
                      </a:r>
                      <a:endParaRPr b="0" lang="en-US" sz="1200" spc="-1" strike="noStrike">
                        <a:solidFill>
                          <a:srgbClr val="003366"/>
                        </a:solidFill>
                        <a:latin typeface="Arial"/>
                      </a:endParaRPr>
                    </a:p>
                  </a:txBody>
                  <a:tcPr anchor="ctr" marL="67320" marR="673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80" name="5 Rectángulo"/>
          <p:cNvSpPr/>
          <p:nvPr/>
        </p:nvSpPr>
        <p:spPr>
          <a:xfrm>
            <a:off x="5109480" y="6488280"/>
            <a:ext cx="402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82" name="4 Rectángulo"/>
          <p:cNvSpPr/>
          <p:nvPr/>
        </p:nvSpPr>
        <p:spPr>
          <a:xfrm>
            <a:off x="214200" y="12859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Black"/>
              </a:rPr>
              <a:t>CONCLUSIONES:</a:t>
            </a:r>
            <a:br>
              <a:rPr sz="2400"/>
            </a:br>
            <a:endParaRPr b="0" lang="en-US" sz="2400" spc="-1" strike="noStrike">
              <a:solidFill>
                <a:srgbClr val="003366"/>
              </a:solidFill>
              <a:latin typeface="Arial"/>
            </a:endParaRPr>
          </a:p>
        </p:txBody>
      </p:sp>
      <p:sp>
        <p:nvSpPr>
          <p:cNvPr id="583" name="3 Rectángulo"/>
          <p:cNvSpPr/>
          <p:nvPr/>
        </p:nvSpPr>
        <p:spPr>
          <a:xfrm>
            <a:off x="285840" y="1779480"/>
            <a:ext cx="8501040" cy="497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Arial"/>
              </a:rPr>
              <a:t>Predominó el sexo masculino, con edad comprendida entre 60 y 69 años, </a:t>
            </a:r>
            <a:r>
              <a:rPr b="1" lang="es-ES" sz="2000" spc="-1" strike="noStrike">
                <a:solidFill>
                  <a:srgbClr val="003366"/>
                </a:solidFill>
                <a:latin typeface="Arial"/>
              </a:rPr>
              <a:t>normopesos y fumadores. </a:t>
            </a:r>
            <a:endParaRPr b="0" lang="en-US" sz="20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La EPOC moderada fue la más frecuente según su gravedad. </a:t>
            </a:r>
            <a:endParaRPr b="0" lang="en-US" sz="20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El índice BODE mostró mayor porcentaje de mortalidad en la EPOC grave y muy grave, predominantemente en pacientes entre 70 a 79 años y del sexo masculino.</a:t>
            </a:r>
            <a:endParaRPr b="0" lang="en-US" sz="20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La concordancia ente la clasificación de gravedad de la EPOC y el índice BODE fue predominantemente  moderada y buena, sobre todo en pacientes con enfermedad moderada y grave.</a:t>
            </a:r>
            <a:endParaRPr b="0" lang="en-US" sz="20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2" name="Rectangle 3"/>
          <p:cNvSpPr/>
          <p:nvPr/>
        </p:nvSpPr>
        <p:spPr>
          <a:xfrm>
            <a:off x="214200" y="1357200"/>
            <a:ext cx="8642520" cy="37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Black"/>
              </a:rPr>
              <a:t>INTRODUCCIÓN:</a:t>
            </a:r>
            <a:r>
              <a:rPr b="1" lang="en-US" sz="2400" spc="-1" strike="noStrike">
                <a:solidFill>
                  <a:srgbClr val="003366"/>
                </a:solidFill>
                <a:latin typeface="Calibri"/>
              </a:rPr>
              <a:t>  </a:t>
            </a:r>
            <a:endParaRPr b="0" lang="en-US" sz="24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3" name="4 Rectángulo"/>
          <p:cNvSpPr/>
          <p:nvPr/>
        </p:nvSpPr>
        <p:spPr>
          <a:xfrm>
            <a:off x="357120" y="1822320"/>
            <a:ext cx="8501040" cy="503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Según la Organización Mundial de la Salud (OMS), se estima que más de 80 millones de personas padecen EPOC, de moderada a grave, con aumento en las últimas décadas y es 3-4 veces más frecuente en hombres que en mujeres, (15 % en fumadores, el 12,8 % en exfumadores y el 4,1 % en no fumadores).</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La prevalencia está entre el 2,5 y el 3,5 % de la población y asciende al 19 % en los mayores de 65 años.</a:t>
            </a:r>
            <a:r>
              <a:rPr b="0" lang="es-ES" sz="2400" spc="-1" strike="noStrike">
                <a:solidFill>
                  <a:srgbClr val="003366"/>
                </a:solidFill>
                <a:latin typeface="Arial"/>
              </a:rPr>
              <a:t> </a:t>
            </a:r>
            <a:r>
              <a:rPr b="1" lang="es-ES" sz="2400" spc="-1" strike="noStrike">
                <a:solidFill>
                  <a:srgbClr val="003366"/>
                </a:solidFill>
                <a:latin typeface="Arial"/>
              </a:rPr>
              <a:t>Será causante del 4,1 % de los años de vida ajustados por incapacidad.</a:t>
            </a:r>
            <a:r>
              <a:rPr b="1" lang="es-ES" sz="1800" spc="-1" strike="noStrike">
                <a:solidFill>
                  <a:srgbClr val="003366"/>
                </a:solidFill>
                <a:latin typeface="Arial"/>
              </a:rPr>
              <a:t> </a:t>
            </a:r>
            <a:endParaRPr b="0" lang="en-US" sz="18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5" name="Rectangle 3"/>
          <p:cNvSpPr/>
          <p:nvPr/>
        </p:nvSpPr>
        <p:spPr>
          <a:xfrm>
            <a:off x="214200" y="1143000"/>
            <a:ext cx="8642520" cy="36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Black"/>
              </a:rPr>
              <a:t>INTRODUCCIÓN:</a:t>
            </a:r>
            <a:r>
              <a:rPr b="1" lang="en-US" sz="2400" spc="-1" strike="noStrike">
                <a:solidFill>
                  <a:srgbClr val="003366"/>
                </a:solidFill>
                <a:latin typeface="Calibri"/>
              </a:rPr>
              <a:t>  </a:t>
            </a:r>
            <a:endParaRPr b="0" lang="en-US" sz="24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6" name="4 Rectángulo"/>
          <p:cNvSpPr/>
          <p:nvPr/>
        </p:nvSpPr>
        <p:spPr>
          <a:xfrm>
            <a:off x="357120" y="1714680"/>
            <a:ext cx="8501040" cy="653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3366"/>
                </a:solidFill>
                <a:latin typeface="Arial"/>
              </a:rPr>
              <a:t>La EPOC recibe una atención priorizada, ocupa el primer lugar en el mundo de procesos crónicos torácicos y en Cuba está dentro de las primeras 10 causas de morbilidad y mortalidad. Son poco frecuentes los estudios realizados en Cuba sobre la utilidad del índice BODE. </a:t>
            </a:r>
            <a:endParaRPr b="0" lang="en-US" sz="23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3366"/>
                </a:solidFill>
                <a:latin typeface="Arial"/>
              </a:rPr>
              <a:t> </a:t>
            </a:r>
            <a:endParaRPr b="0" lang="en-US" sz="23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3366"/>
                </a:solidFill>
                <a:latin typeface="Arial"/>
              </a:rPr>
              <a:t>El conocimiento que puedan aportar los resultados de este estudio servirá para una mejor comprensión del problema, mejorar el manejo terapéutico, la calidad de vida, reinserción laboral y disminución de ausencia laboral del paciente y sobre todo aumentar la supervivencia y por consiguiente disminuir la mortalidad. </a:t>
            </a:r>
            <a:endParaRPr b="0" lang="en-US" sz="23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8" name="3 Rectángulo"/>
          <p:cNvSpPr/>
          <p:nvPr/>
        </p:nvSpPr>
        <p:spPr>
          <a:xfrm>
            <a:off x="142920" y="1357200"/>
            <a:ext cx="8643960" cy="4719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Black"/>
              </a:rPr>
              <a:t>Preguntas de la investigación:</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Cuál será el resultado de la aplicación del índice de BODE en pacientes con enfermedad pulmonar obstructiva crónica? </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Existirá relación entre la gravedad de la EPOC y los aspectos demográficos? </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Existirá concordancia entre la gravedad de la EPOC y el índice de BOD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40" name="3 Rectángulo"/>
          <p:cNvSpPr/>
          <p:nvPr/>
        </p:nvSpPr>
        <p:spPr>
          <a:xfrm>
            <a:off x="214200" y="15717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3366"/>
                </a:solidFill>
                <a:latin typeface="Arial Black"/>
              </a:rPr>
              <a:t>OBJETIVO GENERAL: </a:t>
            </a:r>
            <a:br>
              <a:rPr sz="2400"/>
            </a:br>
            <a:endParaRPr b="0" lang="en-US" sz="2400" spc="-1" strike="noStrike">
              <a:solidFill>
                <a:srgbClr val="003366"/>
              </a:solidFill>
              <a:latin typeface="Arial"/>
            </a:endParaRPr>
          </a:p>
        </p:txBody>
      </p:sp>
      <p:sp>
        <p:nvSpPr>
          <p:cNvPr id="541" name="4 Rectángulo"/>
          <p:cNvSpPr/>
          <p:nvPr/>
        </p:nvSpPr>
        <p:spPr>
          <a:xfrm>
            <a:off x="285840" y="2714760"/>
            <a:ext cx="8462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Evaluar los resultados de la aplicación del índice del BODE en los pacientes con diagnóstico de enfermedad pulmonar obstructiva crónic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Calibri"/>
              </a:rPr>
              <a:t>JORNADA</a:t>
            </a:r>
            <a:r>
              <a:rPr b="1" i="1" lang="es-ES" sz="2800" spc="-1" strike="noStrike">
                <a:solidFill>
                  <a:srgbClr val="ffffff"/>
                </a:solidFill>
                <a:latin typeface="Verdana"/>
              </a:rPr>
              <a:t> DE TEMAS TERMINADOS</a:t>
            </a:r>
            <a:endParaRPr b="1" lang="en-US" sz="2800" spc="-1" strike="noStrike">
              <a:solidFill>
                <a:srgbClr val="ffffff"/>
              </a:solidFill>
              <a:latin typeface="Verdana"/>
            </a:endParaRPr>
          </a:p>
        </p:txBody>
      </p:sp>
      <p:sp>
        <p:nvSpPr>
          <p:cNvPr id="543" name="8 Rectángulo"/>
          <p:cNvSpPr/>
          <p:nvPr/>
        </p:nvSpPr>
        <p:spPr>
          <a:xfrm>
            <a:off x="500040" y="1285920"/>
            <a:ext cx="554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3366"/>
                </a:solidFill>
                <a:latin typeface="Arial Black"/>
              </a:rPr>
              <a:t>OBJETIVOS ESPECÍFICOS: </a:t>
            </a:r>
            <a:br>
              <a:rPr sz="2400"/>
            </a:br>
            <a:endParaRPr b="0" lang="en-US" sz="2400" spc="-1" strike="noStrike">
              <a:solidFill>
                <a:srgbClr val="003366"/>
              </a:solidFill>
              <a:latin typeface="Arial"/>
            </a:endParaRPr>
          </a:p>
        </p:txBody>
      </p:sp>
      <p:sp>
        <p:nvSpPr>
          <p:cNvPr id="544" name="9 Rectángulo"/>
          <p:cNvSpPr/>
          <p:nvPr/>
        </p:nvSpPr>
        <p:spPr>
          <a:xfrm>
            <a:off x="214200" y="1714680"/>
            <a:ext cx="86457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1.Caracterizar los pacientes según aspectos demográficos. </a:t>
            </a:r>
            <a:endParaRPr b="0" lang="en-US" sz="2400" spc="-1" strike="noStrike">
              <a:solidFill>
                <a:srgbClr val="003366"/>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2.Clasificar a los pacientes según la gravedad de la enfermedad pulmonar obstructiva crónica. </a:t>
            </a:r>
            <a:endParaRPr b="0" lang="en-US" sz="2400" spc="-1" strike="noStrike">
              <a:solidFill>
                <a:srgbClr val="003366"/>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3.Clasificar los resultados del índice de masa corporal, el grado disnea y la marcha a los 6 minutos en los pacientes objeto de estudio. </a:t>
            </a:r>
            <a:endParaRPr b="0" lang="en-US" sz="2400" spc="-1" strike="noStrike">
              <a:solidFill>
                <a:srgbClr val="003366"/>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4.Identificar la concordancia entre la gravedad de la enfermedad pulmonar obstructiva crónica y los resultados del índice de BOD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46" name="3 Rectángulo"/>
          <p:cNvSpPr/>
          <p:nvPr/>
        </p:nvSpPr>
        <p:spPr>
          <a:xfrm>
            <a:off x="214200" y="12859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Black"/>
              </a:rPr>
              <a:t>DISEÑO METODOLÓGICO:</a:t>
            </a:r>
            <a:br>
              <a:rPr sz="2400"/>
            </a:br>
            <a:endParaRPr b="0" lang="en-US" sz="2400" spc="-1" strike="noStrike">
              <a:solidFill>
                <a:srgbClr val="003366"/>
              </a:solidFill>
              <a:latin typeface="Arial"/>
            </a:endParaRPr>
          </a:p>
        </p:txBody>
      </p:sp>
      <p:sp>
        <p:nvSpPr>
          <p:cNvPr id="547" name="4 Rectángulo"/>
          <p:cNvSpPr/>
          <p:nvPr/>
        </p:nvSpPr>
        <p:spPr>
          <a:xfrm>
            <a:off x="324000" y="1773360"/>
            <a:ext cx="8215200" cy="5404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e realizó un estudio descriptivo transversal, en pacientes con diagnóstico de EPOC en el periodo comprendido entre abril del 2019 y mayo del 2020.</a:t>
            </a:r>
            <a:endParaRPr b="0" lang="en-US" sz="2000" spc="-1" strike="noStrike">
              <a:solidFill>
                <a:srgbClr val="003366"/>
              </a:solidFill>
              <a:latin typeface="Arial"/>
            </a:endParaRPr>
          </a:p>
          <a:p>
            <a:pPr algn="just">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66"/>
                </a:solidFill>
                <a:latin typeface="Arial"/>
              </a:rPr>
              <a:t>El universo estuvo conformado por los pacientes con diagnóstico de EPOC, confirmada por espirometría forzada. (n=178)</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Arial"/>
              </a:rPr>
              <a:t>La muestra se conformó por 63 </a:t>
            </a:r>
            <a:r>
              <a:rPr b="1" lang="es-AR" sz="2000" spc="-1" strike="noStrike">
                <a:solidFill>
                  <a:srgbClr val="003366"/>
                </a:solidFill>
                <a:latin typeface="Arial"/>
              </a:rPr>
              <a:t>pacientes con diagnóstico de EPOC confirmado por espirometría forzada, que ingresaron en el </a:t>
            </a:r>
            <a:r>
              <a:rPr b="1" lang="es-MX" sz="2000" spc="-1" strike="noStrike">
                <a:solidFill>
                  <a:srgbClr val="003366"/>
                </a:solidFill>
                <a:latin typeface="Arial"/>
              </a:rPr>
              <a:t>servicio de Neumología y </a:t>
            </a:r>
            <a:r>
              <a:rPr b="1" lang="es-CO" sz="2000" spc="-1" strike="noStrike">
                <a:solidFill>
                  <a:srgbClr val="003366"/>
                </a:solidFill>
                <a:latin typeface="Arial"/>
              </a:rPr>
              <a:t>que cumplieron los criterios de selección.</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Arial"/>
              </a:rPr>
              <a:t>Las variables estudiadas fueron: edad, sexo, hábito de fumar, gravedad de la EPOC, estado nutricional, FEV1 (% teórico), prueba de la marcha en 6 min, escala de disnea (según MRC) e índice de BODE</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49" name="Rectangle 5"/>
          <p:cNvSpPr/>
          <p:nvPr/>
        </p:nvSpPr>
        <p:spPr>
          <a:xfrm>
            <a:off x="468360" y="1068480"/>
            <a:ext cx="8675640" cy="579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Criterios de inclusión</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Arial"/>
              </a:rPr>
              <a:t>Pacientes de 18 años o más de edad, sin distinción de sexo, que acepten participar en el estudio, previa firma de consentimiento informado</a:t>
            </a:r>
            <a:r>
              <a:rPr b="0" lang="es-ES" sz="2000" spc="-1" strike="noStrike">
                <a:solidFill>
                  <a:srgbClr val="003366"/>
                </a:solidFill>
                <a:latin typeface="Arial"/>
              </a:rPr>
              <a:t>.</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Criterios de exclusión</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Arial"/>
              </a:rPr>
              <a:t>Pacientes con alguna enfermedad o impedimento físico motor y psicológico. </a:t>
            </a:r>
            <a:endParaRPr b="0" lang="en-US" sz="20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Arial"/>
              </a:rPr>
              <a:t>Pacientes que se encuentren con una franca exacerbación que no les permita realizar los procedimientos necesarios para el desarrollo de la investigación</a:t>
            </a:r>
            <a:endParaRPr b="0" lang="en-US" sz="20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Arial"/>
              </a:rPr>
              <a:t>Pacientes con diagnóstico mixto asma/EPOC y patologías pleuropulmonares asociadas.</a:t>
            </a:r>
            <a:r>
              <a:rPr b="0" lang="es-MX" sz="2000" spc="-1" strike="noStrike">
                <a:solidFill>
                  <a:srgbClr val="003366"/>
                </a:solidFill>
                <a:latin typeface="Arial"/>
              </a:rPr>
              <a:t> </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Criterios de salida</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Arial"/>
              </a:rPr>
              <a:t>Pacientes que una vez comenzado el estudio, de manera voluntaria, no deseen participar más en el mism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51"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52" name="Marcador de contenido 11" descr=""/>
          <p:cNvPicPr/>
          <p:nvPr/>
        </p:nvPicPr>
        <p:blipFill>
          <a:blip r:embed="rId1"/>
          <a:stretch/>
        </p:blipFill>
        <p:spPr>
          <a:xfrm>
            <a:off x="1258920" y="1844640"/>
            <a:ext cx="7085160" cy="4013280"/>
          </a:xfrm>
          <a:prstGeom prst="rect">
            <a:avLst/>
          </a:prstGeom>
          <a:ln w="0">
            <a:noFill/>
          </a:ln>
        </p:spPr>
      </p:pic>
      <p:sp>
        <p:nvSpPr>
          <p:cNvPr id="553" name="Rectángulo 4"/>
          <p:cNvSpPr/>
          <p:nvPr/>
        </p:nvSpPr>
        <p:spPr>
          <a:xfrm>
            <a:off x="3276720" y="2349360"/>
            <a:ext cx="1869840" cy="30830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C" sz="1800" spc="-1" strike="noStrike">
                <a:solidFill>
                  <a:srgbClr val="ffffff"/>
                </a:solidFill>
                <a:latin typeface="Verdana"/>
              </a:rPr>
              <a:t>c</a:t>
            </a:r>
            <a:endParaRPr b="0" lang="en-US" sz="1800" spc="-1" strike="noStrike">
              <a:solidFill>
                <a:srgbClr val="003366"/>
              </a:solidFill>
              <a:latin typeface="Arial"/>
            </a:endParaRPr>
          </a:p>
        </p:txBody>
      </p:sp>
      <p:graphicFrame>
        <p:nvGraphicFramePr>
          <p:cNvPr id="554" name=""/>
          <p:cNvGraphicFramePr/>
          <p:nvPr/>
        </p:nvGraphicFramePr>
        <p:xfrm>
          <a:off x="0" y="5786280"/>
          <a:ext cx="4681440" cy="476280"/>
        </p:xfrm>
        <a:graphic>
          <a:graphicData uri="http://schemas.openxmlformats.org/drawingml/2006/table">
            <a:tbl>
              <a:tblPr/>
              <a:tblGrid>
                <a:gridCol w="1776240"/>
                <a:gridCol w="936720"/>
                <a:gridCol w="943200"/>
                <a:gridCol w="1025280"/>
              </a:tblGrid>
              <a:tr h="476280">
                <a:tc>
                  <a:txBody>
                    <a:bodyPr lIns="68760" rIns="68760" tIns="0" bIns="0" anchor="ctr">
                      <a:noAutofit/>
                    </a:bodyPr>
                    <a:p>
                      <a:pPr algn="ctr">
                        <a:lnSpc>
                          <a:spcPct val="107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Edad promedio ± DE</a:t>
                      </a:r>
                      <a:endParaRPr b="0" lang="en-US" sz="14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6dce5"/>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65,3 ± 3,8</a:t>
                      </a:r>
                      <a:endParaRPr b="0" lang="en-US" sz="14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66,9 ± 7,4</a:t>
                      </a:r>
                      <a:endParaRPr b="0" lang="en-US" sz="14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28302"/>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66,3 ±  5,7</a:t>
                      </a:r>
                      <a:endParaRPr b="0" lang="en-US" sz="1400" spc="-1" strike="noStrike">
                        <a:solidFill>
                          <a:srgbClr val="00336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a5a5a5"/>
                    </a:solidFill>
                  </a:tcPr>
                </a:tc>
              </a:tr>
            </a:tbl>
          </a:graphicData>
        </a:graphic>
      </p:graphicFrame>
      <p:sp>
        <p:nvSpPr>
          <p:cNvPr id="555" name="6 Rectángulo"/>
          <p:cNvSpPr/>
          <p:nvPr/>
        </p:nvSpPr>
        <p:spPr>
          <a:xfrm>
            <a:off x="4939560" y="6286680"/>
            <a:ext cx="402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Donel</cp:lastModifiedBy>
  <dcterms:modified xsi:type="dcterms:W3CDTF">2020-11-06T04:04:45Z</dcterms:modified>
  <cp:revision>89</cp:revision>
  <dc:subject/>
  <dc:title>PowerPoint Template</dc:title>
</cp:coreProperties>
</file>