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9D35C-6F1C-46F3-BC5C-D34DA490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A3850-08E4-4DA7-93D6-0133CBF2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8D7E7-10EE-4711-B82C-FB277CE3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07748-AE17-4DBC-AC48-A0FDF25F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81676-7C8A-4387-96AC-F8A73A72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67A71-50BB-4B43-80C6-0C619EE7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A4882-6231-47B2-80EC-24DB9DB0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7C8C1-7A32-4205-9457-B2F07133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E934F-B3E8-4596-A5BF-C95DE1D3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B9B7C-D164-4F6A-A380-C172049C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7A8A5-EDE3-4153-855F-D25133FE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9DA2A-AD10-4AE7-BAA4-C5347469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16740-C00D-45AE-BFFC-5BBA16EC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D2931-7793-4921-9635-A8919C58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380BA-4C5D-456F-B104-C087AF92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43503-2BCE-4899-9CDE-9168144B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5C299-B8A2-467F-B977-834997B8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FE06F-FAE2-4AE9-8BEC-429E09CF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EDD08-1632-4613-80C3-217EE31F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43BF5-4D8F-4F0F-81BC-0FC75199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1DDD1-DA4B-4575-9A59-EF3C8644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78F4C-08E6-4EA5-A1ED-7A589BBF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C31D8-E461-4FC1-A877-6FB247C2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F2EBD-C17A-4022-AD9F-EF002666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756E3-D402-41B2-A3DD-8A1DB0E7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38CA6-B4FC-4B95-A1FB-AEAC699B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A33C3-1080-4F5A-B9D0-26411483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46197-4E63-404E-AFCF-A00C7CD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92019-43EB-4197-AD54-484CB742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5F589-F4BC-4E0B-89C7-94A6FF05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BF504-B23E-475A-A213-7ADB944C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01F80-8743-4C6F-AD0A-10BD643C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8CB91-F554-4012-8FA0-545272B8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3DD64-619D-4F9A-85D5-45C916E3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74B12-9FC0-4D83-AF2F-B39D5E5E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CE5F1-2BFA-4236-9EFE-6FF3D70C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F9D78-3E58-4904-8C47-5EF15868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C3869-F616-49D0-AC36-342EE7DE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A3B83-9952-487F-9B8C-1DCE6DCC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752B6-9F28-4EDC-B4C7-9F06E16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D507A-A841-4032-A4DC-3C3BF8EF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DE130-2EFD-4BF2-896B-71FD0968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590E1-28B9-453C-A514-FE48AFA5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BEFD7-D30B-493E-93D2-9A7E58B5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B7497-C3FA-428B-9201-790D1D2B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648-2164-4F77-B0A8-392A7664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7E5-FFAC-4FD1-9D99-346F14C0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FB4-1B93-4D70-9244-2510E3D5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52F-FAE6-4D66-AD8E-F8F16847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D6B-E569-4ACD-8064-EE0C3C91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681-5355-4977-AAFD-57613051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825-0155-4D86-96D8-CC12488A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124-838E-4E27-8E9C-6002C77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9D9-79AC-4685-9A2D-87709FD1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805-A593-4203-AC07-BD8F4D02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07F-283A-43B9-99D0-07622695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E48-C69F-45B8-B0D7-857EAFED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2123-1D41-4725-B085-F412F710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463A-FE8C-4B62-8882-1B88296A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409A-2318-45AE-B753-35961000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977D-88AE-4AB6-9D5D-9420E49F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C7F5-624A-4F3F-8748-95B2C657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62C3-62C0-48D9-BDF6-CA4A1722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1096-97BC-4C6D-8AEE-EAB8C92A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D9D8-28B0-45F9-B96C-7C054008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97CC-FE72-45E6-99EE-65461906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9879-F194-4D0A-8EA2-45F2E4AE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3AD4-0D28-4568-BDD4-78539FF2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71B6-8C14-4E77-81EF-FA44A2DA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2F84-FE65-4348-B592-AAC5BD1C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D9CED-08D8-4CF5-80AB-0106702A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B261-5B5A-4F3D-9813-6466F11E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3C9B-D3BB-4C81-B3A7-75E6FEC5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48CD-8EE0-4BF0-9D54-33F9E06C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89DC-87F0-4B68-B160-A1DA0E96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3135-D2F7-473D-9073-F7EDDDD3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56E5-A89A-4233-92A4-75EF444D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6990-91BA-4200-9242-2580BD3E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9D6A-FA81-4F27-9DD2-2C269F15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98EB-5BF2-40C1-9234-F2BEEB32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953C-7393-4B03-BFF0-0887DBAA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DB8A-D8E1-4378-89B9-0324E26D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85B0-84F1-48DC-89D8-95AED247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59994-F52F-4FD3-8B19-33CFA73C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EA69-9C84-4774-BD9A-7FA98B62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E4706-036B-4811-99FF-B185F10C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F1D0-9BCC-417A-A41F-35221C3E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6FF53-FBE6-431A-8408-8FCA1F5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D529E-36B8-4C8A-990D-18C96302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7B55D-3448-42FD-AAEA-54DE63F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A5CF-20E8-4D68-B8E8-76BD999F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A58E2-EF80-4FED-A146-1156743A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FDB1C-EC38-4E6B-9FEE-CB62A2C1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F9C39-9AAB-459F-8F75-7412E28F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D9E54-5DFF-49FE-82AC-9C54B269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4114F-2D14-46B4-891C-5CA5A921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81157-38D0-48B8-AC61-E276ABC2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26BA1-A85F-4566-8C97-E9796B98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AD60F-D03E-47E2-966A-BB1FCFDA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47900-A2F0-4A28-86BC-32C6250A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0168-3467-419E-8FCE-53A95407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5528-5ADF-4D89-B0F9-DE932FE8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5A302-AF25-40AE-9923-719B099C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82F50-5076-4AD0-A510-029EB492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A9530-12DF-4928-B58E-5822992E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86464-5BA0-43E2-AD0E-4E2321CE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76D50-8B00-4EEB-87BF-6B98E5EE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D9246-739D-4023-A875-4C4363A0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27B7-FD61-47D7-AA4F-005E15BDD1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6576-58AA-4EF6-AD2D-16A590C3B7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AB8A-9425-497B-82ED-93DC9F7F08DB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095800" y="165240"/>
            <a:ext cx="363384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D6E6-7A51-4ED0-A2D7-59BA680064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FF2A-05BE-4CB1-9CB5-D79274AB8B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CF6C-1D82-49A9-9F63-C630DEA65D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1D25-41B2-49A0-88BE-F75BDFBC86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79AC-BDF5-419F-B11F-3A58D52492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6350-A983-402C-AC4B-548FECC5C7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1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22" name="4 Rectángulo"/>
          <p:cNvSpPr/>
          <p:nvPr/>
        </p:nvSpPr>
        <p:spPr>
          <a:xfrm>
            <a:off x="142920" y="15717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GT" sz="2400" spc="-1" strike="noStrike">
                <a:solidFill>
                  <a:srgbClr val="003366"/>
                </a:solidFill>
                <a:latin typeface="Calibri"/>
              </a:rPr>
              <a:t>Caracterización de los enfermos con neumonía asociada a la ventilación mecánica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0" y="4149720"/>
            <a:ext cx="6300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Autores:   Dr. Carlos Gabriel Velazco Taipacañ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. Sergio Fernández Garcí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. Donel González Díaz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a. Drialis Díaz Garrido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             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Dra: Hilev de las Mercedes Larrondo Muguerci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</a:rPr>
              <a:t>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Servicio de Neumologí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1" i="1" lang="en-US" sz="2000" spc="-1" strike="noStrike">
                <a:solidFill>
                  <a:srgbClr val="003366"/>
                </a:solidFill>
                <a:latin typeface="Calibri"/>
              </a:rPr>
              <a:t>La Habana, 202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CuadroTexto 9"/>
          <p:cNvSpPr/>
          <p:nvPr/>
        </p:nvSpPr>
        <p:spPr>
          <a:xfrm>
            <a:off x="468360" y="170028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Calibri"/>
              </a:rPr>
              <a:t>Gráfico 2. Distribución de los pacientes según hallazgos en la radiografía simple de tórax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7" name="Marcador de contenido 8" descr=""/>
          <p:cNvPicPr/>
          <p:nvPr/>
        </p:nvPicPr>
        <p:blipFill>
          <a:blip r:embed="rId1"/>
          <a:stretch/>
        </p:blipFill>
        <p:spPr>
          <a:xfrm>
            <a:off x="539640" y="4272120"/>
            <a:ext cx="8217000" cy="2585880"/>
          </a:xfrm>
          <a:prstGeom prst="rect">
            <a:avLst/>
          </a:prstGeom>
          <a:ln w="0">
            <a:noFill/>
          </a:ln>
        </p:spPr>
      </p:pic>
      <p:pic>
        <p:nvPicPr>
          <p:cNvPr id="558" name="Imagen 7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78440" cy="2208240"/>
          </a:xfrm>
          <a:prstGeom prst="rect">
            <a:avLst/>
          </a:prstGeom>
          <a:ln w="0">
            <a:noFill/>
          </a:ln>
        </p:spPr>
      </p:pic>
      <p:sp>
        <p:nvSpPr>
          <p:cNvPr id="559" name="Rectángulo 4"/>
          <p:cNvSpPr/>
          <p:nvPr/>
        </p:nvSpPr>
        <p:spPr>
          <a:xfrm>
            <a:off x="5940360" y="2565360"/>
            <a:ext cx="830160" cy="1695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ángulo 4"/>
          <p:cNvSpPr/>
          <p:nvPr/>
        </p:nvSpPr>
        <p:spPr>
          <a:xfrm>
            <a:off x="4427640" y="4724280"/>
            <a:ext cx="1046160" cy="213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Imagen 3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616720" cy="3341520"/>
          </a:xfrm>
          <a:prstGeom prst="rect">
            <a:avLst/>
          </a:prstGeom>
          <a:ln w="0">
            <a:noFill/>
          </a:ln>
        </p:spPr>
      </p:pic>
      <p:sp>
        <p:nvSpPr>
          <p:cNvPr id="563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CuadroTexto 9"/>
          <p:cNvSpPr/>
          <p:nvPr/>
        </p:nvSpPr>
        <p:spPr>
          <a:xfrm>
            <a:off x="468360" y="170028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Calibri"/>
              </a:rPr>
              <a:t>Gráfico 3. Distribución de los pacientes segú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iempo de ventilación mecánic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CuadroTexto 8"/>
          <p:cNvSpPr/>
          <p:nvPr/>
        </p:nvSpPr>
        <p:spPr>
          <a:xfrm>
            <a:off x="4471920" y="64911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Marcador de contenido 4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6050160" cy="3554280"/>
          </a:xfrm>
          <a:prstGeom prst="rect">
            <a:avLst/>
          </a:prstGeom>
          <a:ln w="0">
            <a:noFill/>
          </a:ln>
        </p:spPr>
      </p:pic>
      <p:sp>
        <p:nvSpPr>
          <p:cNvPr id="568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CuadroTexto 9"/>
          <p:cNvSpPr/>
          <p:nvPr/>
        </p:nvSpPr>
        <p:spPr>
          <a:xfrm>
            <a:off x="468360" y="1700280"/>
            <a:ext cx="80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Calibri"/>
              </a:rPr>
              <a:t>Gráfico 4. Distribución de los pacientes segú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forma de aislamiento del microorganism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CuadroTexto 8"/>
          <p:cNvSpPr/>
          <p:nvPr/>
        </p:nvSpPr>
        <p:spPr>
          <a:xfrm>
            <a:off x="4471920" y="64911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3" name="Gráfico 8" descr=""/>
          <p:cNvPicPr/>
          <p:nvPr/>
        </p:nvPicPr>
        <p:blipFill>
          <a:blip r:embed="rId1"/>
          <a:stretch/>
        </p:blipFill>
        <p:spPr>
          <a:xfrm>
            <a:off x="566640" y="2706840"/>
            <a:ext cx="7291440" cy="3852720"/>
          </a:xfrm>
          <a:prstGeom prst="rect">
            <a:avLst/>
          </a:prstGeom>
          <a:ln w="0">
            <a:noFill/>
          </a:ln>
        </p:spPr>
      </p:pic>
      <p:sp>
        <p:nvSpPr>
          <p:cNvPr id="574" name="CuadroTexto 9"/>
          <p:cNvSpPr/>
          <p:nvPr/>
        </p:nvSpPr>
        <p:spPr>
          <a:xfrm>
            <a:off x="468360" y="191628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Calibri"/>
              </a:rPr>
              <a:t>Gráfico 5. Distribución de los pacientes segú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microorganismo aislad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Rectángulo 4"/>
          <p:cNvSpPr/>
          <p:nvPr/>
        </p:nvSpPr>
        <p:spPr>
          <a:xfrm>
            <a:off x="3143160" y="3071880"/>
            <a:ext cx="928800" cy="3500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CuadroTexto 8"/>
          <p:cNvSpPr/>
          <p:nvPr/>
        </p:nvSpPr>
        <p:spPr>
          <a:xfrm>
            <a:off x="0" y="65721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8" name="Marcador de contenido 4" descr=""/>
          <p:cNvPicPr/>
          <p:nvPr/>
        </p:nvPicPr>
        <p:blipFill>
          <a:blip r:embed="rId1"/>
          <a:stretch/>
        </p:blipFill>
        <p:spPr>
          <a:xfrm>
            <a:off x="1763640" y="2824200"/>
            <a:ext cx="6064200" cy="3548160"/>
          </a:xfrm>
          <a:prstGeom prst="rect">
            <a:avLst/>
          </a:prstGeom>
          <a:ln w="0">
            <a:noFill/>
          </a:ln>
        </p:spPr>
      </p:pic>
      <p:sp>
        <p:nvSpPr>
          <p:cNvPr id="579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CuadroTexto 9"/>
          <p:cNvSpPr/>
          <p:nvPr/>
        </p:nvSpPr>
        <p:spPr>
          <a:xfrm>
            <a:off x="468360" y="1916280"/>
            <a:ext cx="80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Gráfico 6. Distribución de los pacientes según estado al egres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CuadroTexto 8"/>
          <p:cNvSpPr/>
          <p:nvPr/>
        </p:nvSpPr>
        <p:spPr>
          <a:xfrm>
            <a:off x="0" y="64911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4 Rectángulo"/>
          <p:cNvSpPr/>
          <p:nvPr/>
        </p:nvSpPr>
        <p:spPr>
          <a:xfrm>
            <a:off x="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CONCLUSIONES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3 Rectángulo"/>
          <p:cNvSpPr/>
          <p:nvPr/>
        </p:nvSpPr>
        <p:spPr>
          <a:xfrm>
            <a:off x="142920" y="1714680"/>
            <a:ext cx="850104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Los pacientes con neumonía asociada al ventilador se caracterizaron por tener edad mayor de 60 años, sin diferencias de género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En las manifestaciones clínicas se observó de forma habitual hipertermia, leucocitosis, secreciones purulentas, taquicardia y polipnea, con predominio de un patrón radiológico neumónico que se acompañó de atelectasia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La aspiración de secreciones y el hemocultivo fueron las principales formas de aislamiento del microorganismo, siendo el agente etiológico mas común el staphilococus aureu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El estado de egreso (vivo) de los pacientes con neumonía asociada al ventilador, es inferior a la reportada en la mayoría de los estudios internacionale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1214280"/>
            <a:ext cx="8642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CIÓN: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3 Rectángulo"/>
          <p:cNvSpPr/>
          <p:nvPr/>
        </p:nvSpPr>
        <p:spPr>
          <a:xfrm>
            <a:off x="0" y="1571760"/>
            <a:ext cx="8786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La ventilación mecánica (VM) constituye una importante herramienta en el tratamiento de los pacientes en situación de insuficiencia respiratoria. Es utilizada hasta en un 30-50 % de los casos de insuficiencia respiratoria aguda relacionada con urgencias médicas y quirúrgicas que surgen en las uni­dades de cuidados intensivo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La neumonía asociada a ventilación mecánica (NAVM) es una complicación pulmonar, que se desarrolla después de 48-72 horas de la intubación endotraqueal en pacientes sometidos a VM. Es la complicación infecciosa más frecuente en pacientes admitidos en las Unidades de Cuidados Intensivos (UCI), afecta al 60 % de los pacientes en estado crít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0" y="1214280"/>
            <a:ext cx="8642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CIÓN: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4 Rectángulo"/>
          <p:cNvSpPr/>
          <p:nvPr/>
        </p:nvSpPr>
        <p:spPr>
          <a:xfrm>
            <a:off x="0" y="1571760"/>
            <a:ext cx="8786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5 Rectángulo"/>
          <p:cNvSpPr/>
          <p:nvPr/>
        </p:nvSpPr>
        <p:spPr>
          <a:xfrm>
            <a:off x="142920" y="1714680"/>
            <a:ext cx="878688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La NAVM incrementa la tasa de mortalidad y morbilidad de los pacientes en estado crítico. Los pacientes con VM por más de 48 horas tienen una mortalidad de 20-25 %, con un 1 % adicional por cada día de VM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3366"/>
                </a:solidFill>
                <a:latin typeface="Arial"/>
              </a:rPr>
              <a:t>Las características epidemiológicas de los pacientes con diagnóstico de NAVM, pueden variar de un hospital a otro, entre un servicio de cuidados críticos y otro, así como entre las diferentes regiones geográficas, y esta variabilidad puede ser originada por múltiples factores. Por lo tanto, de ahí el propósito de la presente investigación sea caracterizar la incidencia y el patrón clínico epidemiológico de NAVM en la Unidad de Cuidados Intensivos (UCI-8B) del Hospital Clínico Quirúrgico “Hermanos Ameijeiras”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3 Rectángulo"/>
          <p:cNvSpPr/>
          <p:nvPr/>
        </p:nvSpPr>
        <p:spPr>
          <a:xfrm>
            <a:off x="142920" y="2428920"/>
            <a:ext cx="86439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 Black"/>
              </a:rPr>
              <a:t>Pregunta de la investigació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¿Cuál es el comportamiento de los enfermos con neumonía asociada a ventilación mecánica invasiv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3 Rectángulo"/>
          <p:cNvSpPr/>
          <p:nvPr/>
        </p:nvSpPr>
        <p:spPr>
          <a:xfrm>
            <a:off x="214200" y="1214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3366"/>
                </a:solidFill>
                <a:latin typeface="Arial Black"/>
              </a:rPr>
              <a:t>OBJETIVO GENERAL: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4 Rectángulo"/>
          <p:cNvSpPr/>
          <p:nvPr/>
        </p:nvSpPr>
        <p:spPr>
          <a:xfrm>
            <a:off x="250920" y="1844640"/>
            <a:ext cx="84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Describir las características de los enfermos con Neumonía Asociada a Ventilación Mecánica Invasiva en la unidad de cuidados intensivos del Hospital Clínico Quirúrgico “Hermanos Ameijeiras”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8 Rectángulo"/>
          <p:cNvSpPr/>
          <p:nvPr/>
        </p:nvSpPr>
        <p:spPr>
          <a:xfrm>
            <a:off x="324000" y="2997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003366"/>
                </a:solidFill>
                <a:latin typeface="Arial Black"/>
              </a:rPr>
              <a:t>OBJETIVOS ESPECÍFICOS: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9 Rectángulo"/>
          <p:cNvSpPr/>
          <p:nvPr/>
        </p:nvSpPr>
        <p:spPr>
          <a:xfrm>
            <a:off x="179280" y="3716280"/>
            <a:ext cx="8645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1. Identificar la incidencia de neumonía asociada a ventilación mecánica invasiva en relación con las variables socio-demográficas y enfermedades asociada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2. Describir las manifestaciones clínico-imagenológicas en los pacientes con Neumonía Asociada a Ventilación Mecánica invasiva, según su aparició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3. Identificar los gérmenes más frecuentes y su forma de aislamient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4. Evaluar el estado del paciente a su egres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3 Rectángulo"/>
          <p:cNvSpPr/>
          <p:nvPr/>
        </p:nvSpPr>
        <p:spPr>
          <a:xfrm>
            <a:off x="250920" y="112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DISEÑO METODOLÓGICO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4 Rectángulo"/>
          <p:cNvSpPr/>
          <p:nvPr/>
        </p:nvSpPr>
        <p:spPr>
          <a:xfrm>
            <a:off x="324000" y="1638360"/>
            <a:ext cx="821520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Se realizó un estudio observacional, descriptivo, de corte transversal, en la Unidad de Cuidados Intensivos (UCI-8B), del Hospital Clínico Quirúrgico “Hermanos Ameijeiras”, durante el periodo comprendido desde de noviembre de 2018 a diciembre del 201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Universo: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 Pacientes de ambos sexos que ingresaron en la UCI-8B de forma consecutiva y que estuvieron sometidos a régimen de Ventilación Mecánica en el periodo establecid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lang="es-CO" sz="2000" spc="-1" strike="noStrike" u="sng">
                <a:solidFill>
                  <a:srgbClr val="003366"/>
                </a:solidFill>
                <a:uFillTx/>
                <a:latin typeface="Arial"/>
              </a:rPr>
              <a:t>muestra</a:t>
            </a:r>
            <a:r>
              <a:rPr b="1" lang="es-CO" sz="2000" spc="-1" strike="noStrike">
                <a:solidFill>
                  <a:srgbClr val="003366"/>
                </a:solidFill>
                <a:latin typeface="Arial"/>
              </a:rPr>
              <a:t> se conformó por 57 </a:t>
            </a:r>
            <a:r>
              <a:rPr b="1" lang="es-AR" sz="2000" spc="-1" strike="noStrike">
                <a:solidFill>
                  <a:srgbClr val="003366"/>
                </a:solidFill>
                <a:latin typeface="Arial"/>
              </a:rPr>
              <a:t>pacientes con diagnóstico de neumonía asociada a ventilación mecánica invasiva </a:t>
            </a: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1" lang="es-CO" sz="2000" spc="-1" strike="noStrike">
                <a:solidFill>
                  <a:srgbClr val="003366"/>
                </a:solidFill>
                <a:latin typeface="Arial"/>
              </a:rPr>
              <a:t>que cumplieron los criterios de selecció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3366"/>
                </a:solidFill>
                <a:latin typeface="Arial"/>
              </a:rPr>
              <a:t>Las variables estudiadas fueron: edad, sexo, criterios clínicos, radiografía de tórax, tiempo de VM previo al diagnóstico NAVM, formas de aislamiento del microorganismo y estado al egreso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179280" y="1626480"/>
            <a:ext cx="8713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Criterios de inclusión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ingresan a la UCI del piso 8B con insuficiencia respiratoria aguda tributaria de ventilación mecánica invasiva sin sepsis respiratoria previ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3366"/>
                </a:solidFill>
                <a:uFillTx/>
                <a:latin typeface="Arial"/>
              </a:rPr>
              <a:t>Criterios de exclusió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fallecieron con menos de 24 horas luego del diagnóstico de NAV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Historia Clínica incomplet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no cumplan con criterios clínicos e imagenológicos, que ya presentaba signos de sepsis respiratoria prev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acientes que no se aislé ningún microorganismo por los diferentes métodos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3 Rectángulo"/>
          <p:cNvSpPr/>
          <p:nvPr/>
        </p:nvSpPr>
        <p:spPr>
          <a:xfrm>
            <a:off x="250920" y="112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 Black"/>
              </a:rPr>
              <a:t>DISEÑO METODOLÓGICO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CuadroTexto 7"/>
          <p:cNvSpPr/>
          <p:nvPr/>
        </p:nvSpPr>
        <p:spPr>
          <a:xfrm>
            <a:off x="395280" y="1773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Tabla 1. Distribución de los pacientes con NAVM según grupo de edad y sexo</a:t>
            </a:r>
            <a:r>
              <a:rPr b="0" lang="es-MX" sz="18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7" name="Marcador de contenido 6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8516880" cy="3571920"/>
          </a:xfrm>
          <a:prstGeom prst="rect">
            <a:avLst/>
          </a:prstGeom>
          <a:ln w="0">
            <a:noFill/>
          </a:ln>
        </p:spPr>
      </p:pic>
      <p:sp>
        <p:nvSpPr>
          <p:cNvPr id="548" name="CuadroTexto 8"/>
          <p:cNvSpPr/>
          <p:nvPr/>
        </p:nvSpPr>
        <p:spPr>
          <a:xfrm>
            <a:off x="755640" y="616572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0" name="Imagen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280360" cy="3871800"/>
          </a:xfrm>
          <a:prstGeom prst="rect">
            <a:avLst/>
          </a:prstGeom>
          <a:ln w="0">
            <a:noFill/>
          </a:ln>
        </p:spPr>
      </p:pic>
      <p:sp>
        <p:nvSpPr>
          <p:cNvPr id="551" name="CuadroTexto 4"/>
          <p:cNvSpPr/>
          <p:nvPr/>
        </p:nvSpPr>
        <p:spPr>
          <a:xfrm>
            <a:off x="900000" y="1989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Gráfico 1. Distribución de pacientes según criterios clínic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3 Rectángulo"/>
          <p:cNvSpPr/>
          <p:nvPr/>
        </p:nvSpPr>
        <p:spPr>
          <a:xfrm>
            <a:off x="500040" y="12142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3366"/>
                </a:solidFill>
                <a:latin typeface="Arial Black"/>
              </a:rPr>
              <a:t>RESULTADOS:</a:t>
            </a:r>
            <a:r>
              <a:rPr b="1" lang="es-GT" sz="24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CuadroTexto 8"/>
          <p:cNvSpPr/>
          <p:nvPr/>
        </p:nvSpPr>
        <p:spPr>
          <a:xfrm>
            <a:off x="785880" y="64911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Calibri"/>
              </a:rPr>
              <a:t>FUENTE: Historia Clínica 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Donel</cp:lastModifiedBy>
  <dcterms:modified xsi:type="dcterms:W3CDTF">2020-11-06T04:54:43Z</dcterms:modified>
  <cp:revision>89</cp:revision>
  <dc:subject/>
  <dc:title>PowerPoint Template</dc:title>
</cp:coreProperties>
</file>