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60396-6E30-4E5A-867E-D9C625C1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12B17-DAAF-401E-8DA4-75461150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95BF4-7C0E-4D07-A015-70839A52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A98B-145E-4FF6-9AB7-D26DF463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439C-A34F-4D23-AFAC-66D88CD2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1A3B-7976-4085-9412-4B89AFB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D8CB-D734-4F37-B3AB-3D33DFB3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937F-6C80-4210-A291-3C63E954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80A06-BAC0-43F2-9B8A-405C5791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141E3-4DD5-4D9C-9195-AEB62C09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1D87E-16E7-4DA0-B8B9-4363CD38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454BE-7592-4535-8698-5A88A0BC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4AB7B-2A5E-465D-8866-BCA37B21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6B2A9-4371-4FEF-8E0C-EBCD26D7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FD54C-9947-41EB-911A-81599A26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560C-40B2-4E16-86F5-73C321E5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D87F-1D82-4677-9A88-936A7995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571A-01A3-4ED2-9A2C-77E0355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A66AE-E931-434F-85E2-624CDA5C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05FAA-5624-4ECC-9191-9A7101E9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1CE8-9761-4FD3-A9F2-590E8C9A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8D4B8-BB8E-4878-A3D1-F7F69843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A2342-53A8-4CCF-9A46-C44835F5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A8772-AF03-4808-8E58-F25E20F5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EE21C-DA1C-43F7-AB03-B7A5FB67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F55D2-3E4F-4A91-960D-D93D632C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21385-FFA8-4CFF-97BC-2D469051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17860-78D0-4A3D-B45D-5011C5D1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953A5-F9F1-41AB-B26C-D212A5F3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27122-6320-452E-B63D-2E258C6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7820F-4050-41B8-B04A-60C442E3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65059-9C42-469C-9AD7-1DCED584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A6AFE-1C5A-42BE-A7DB-B93AE374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65DFC-8832-4746-95E3-40270F83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91C98-8B8E-47C0-AF5F-E1F13F39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677B-072B-4F2C-B09C-7A45A386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0AD0C-678B-4BBD-8AAB-AC040EEE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CB049-88DB-43AB-A00A-2907CCDE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ABF89-AD16-474B-A803-B7957758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EE5EF-C795-449E-BC0C-A47A8F2A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0D0EC-7307-43C0-9B0F-B682E350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7C0C6-375A-469A-99AF-210D228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015BA-EA1C-4BFF-8D6D-49A9B485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1646-3050-4698-9490-F6B7CBC8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37802-FA91-46ED-8C7A-3AB40A83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66E-95EA-4961-B698-6DC0708C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6C0-33E4-438F-A23E-FC703B87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406-64CB-4A78-A438-00B1A742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584-38AC-4D8E-BB48-A685D14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AC3-E862-49C2-AF88-C4AD7706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010-7532-4CEE-ABEF-951ADAC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463-6292-46BB-9550-3D484CF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B73-45A8-4482-A955-977CE03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570-B24D-4BFB-8E06-A4AB0340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DC4-2385-4AD1-A42F-D8E49F08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6E5-E636-45A4-94F0-9097C8A9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CEC-BB68-416C-A813-175EE364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393D-F9A6-4B79-A3EB-6FEF86AE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5940-4C3D-4020-8A69-9B69FC5F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DE0D-AA22-4362-9097-08A8EC8D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4073-E0AD-4D97-A464-A63BB5ED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AC25-B116-4EB7-8BEB-6489578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D3A9-6CA2-4BB3-AD31-00B539D4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1DCE-F22B-458D-A851-3D5A1061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6B35-E97D-4896-9DE1-5DFDCAD3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EA0C-420E-4A88-92F3-D18F3E05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D79B-C923-480A-AB48-FED5D039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9ADB-CFB2-4312-93B3-E7EC8DCB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E461-178B-47BB-9661-73250E7B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F6C0-64A1-4051-B8B4-C346E296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05C7-1EB1-4400-AD6B-858E3BCE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3FFC-3333-424E-ABCB-AD4A3BD6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E02D-BBF4-4696-89DF-97FF4A54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0169-054F-4ED5-8525-90BA8ADD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494F-5895-45E5-BE76-E2B0BF19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121A-BA20-4868-9655-26828A3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03A0-8F06-4775-AA00-BE7CEDB8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9A30-522F-417A-B4A2-5CE3735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6DEC-AAC2-49B2-A6BE-E2A75ED8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DAC4-380D-4431-B548-34861E6E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90CC-8687-4817-BC68-56DB8678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D0D9-5D87-48A3-8C4F-F347AEF5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A12E-399C-4C89-AAFB-D205D125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B2BC-4DE1-4223-BBD4-2854B48E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F419-6ACC-4BF9-A5DA-7C0CF0AB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D617-B340-456C-B231-A866101C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9868-121A-4546-A002-37660E08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42C12-1C48-4598-AA7C-33D4403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2BEA4-7E1A-435F-B3F0-CF0275B6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EFCC-B902-4B63-A941-50EBA211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06C5-1FA4-4D50-8E1E-970A29FB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992E-6440-4C73-B007-16ABB4D9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1582-8BEC-4761-A9B4-D58716C5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9DEE-E367-41A6-A403-94C426DF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9328B-4332-49F5-A4A0-0AE2778F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A16E-2ADB-48DE-B4EB-0B1840B9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93384-6245-4041-9FFB-3F9EBAF4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44688-3686-48EB-889A-8CEB7F18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F640-DED4-4F6D-9FF7-677A04C6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29CB-B2F0-49C1-936A-746B97A2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04CD-1A70-45EF-96AC-FE643F8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DC74-C307-4B8E-899E-49432DC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81FB-9EB8-47E6-B23F-EA08021D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70D11-B3F3-4D95-AF94-B39E3EEF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23D88-72FA-46B2-BC80-DC1789C2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5B37D-3C90-4BC1-AE03-09E6D2C8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FE2C-CAB9-41EA-9000-2D517EA3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4B9D0-D3EE-4132-8612-795317FC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4AF-AED5-4980-82EA-D22AE31680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8761-D6D4-45F9-ABED-C5E2B16AA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BE83-7836-41C1-9CE3-CEC6C7240561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095800" y="165240"/>
            <a:ext cx="363384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ED5B-B2D1-4EB6-8C5B-F9708EA35A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BEBC-76E6-4CB2-AA04-63CFEDB80B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426F-64A4-414D-A960-946EBC24A3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B7A9-0F56-4FE9-85E1-15D3B0E3FE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8109-43CC-49F6-BA06-0A0E19A5DA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F322-835A-4F4A-9B86-4A5AFB63C1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1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22" name="4 Rectángulo"/>
          <p:cNvSpPr/>
          <p:nvPr/>
        </p:nvSpPr>
        <p:spPr>
          <a:xfrm>
            <a:off x="142920" y="15717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2400" spc="-1" strike="noStrike">
                <a:solidFill>
                  <a:srgbClr val="003366"/>
                </a:solidFill>
                <a:latin typeface="Calibri"/>
              </a:rPr>
              <a:t>Caracterización de los enfermos con neumonía asociada a la ventilación mecánica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0" y="4149720"/>
            <a:ext cx="6300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Autores:   Dr. Carlos Gabriel Velazco Taipacañ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Sergio Fernández Garc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Donel González Díaz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. Drialis Díaz Garri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 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: Hilev de las Mercedes Larrondo Muguerci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Servicio de Neumologí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La Habana, 202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CuadroTexto 9"/>
          <p:cNvSpPr/>
          <p:nvPr/>
        </p:nvSpPr>
        <p:spPr>
          <a:xfrm>
            <a:off x="468360" y="17002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alibri"/>
              </a:rPr>
              <a:t>Gráfico 2. Distribución de los pacientes según hallazgos en la radiografía simple de tórax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7" name="Marcador de contenido 8" descr=""/>
          <p:cNvPicPr/>
          <p:nvPr/>
        </p:nvPicPr>
        <p:blipFill>
          <a:blip r:embed="rId1"/>
          <a:stretch/>
        </p:blipFill>
        <p:spPr>
          <a:xfrm>
            <a:off x="539640" y="4272120"/>
            <a:ext cx="8217000" cy="2585880"/>
          </a:xfrm>
          <a:prstGeom prst="rect">
            <a:avLst/>
          </a:prstGeom>
          <a:ln w="0">
            <a:noFill/>
          </a:ln>
        </p:spPr>
      </p:pic>
      <p:pic>
        <p:nvPicPr>
          <p:cNvPr id="558" name="Imagen 7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78440" cy="2208240"/>
          </a:xfrm>
          <a:prstGeom prst="rect">
            <a:avLst/>
          </a:prstGeom>
          <a:ln w="0">
            <a:noFill/>
          </a:ln>
        </p:spPr>
      </p:pic>
      <p:sp>
        <p:nvSpPr>
          <p:cNvPr id="559" name="Rectángulo 4"/>
          <p:cNvSpPr/>
          <p:nvPr/>
        </p:nvSpPr>
        <p:spPr>
          <a:xfrm>
            <a:off x="5940360" y="2565360"/>
            <a:ext cx="830160" cy="1695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ángulo 4"/>
          <p:cNvSpPr/>
          <p:nvPr/>
        </p:nvSpPr>
        <p:spPr>
          <a:xfrm>
            <a:off x="4427640" y="4724280"/>
            <a:ext cx="104616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Imagen 3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616720" cy="3341520"/>
          </a:xfrm>
          <a:prstGeom prst="rect">
            <a:avLst/>
          </a:prstGeom>
          <a:ln w="0">
            <a:noFill/>
          </a:ln>
        </p:spPr>
      </p:pic>
      <p:sp>
        <p:nvSpPr>
          <p:cNvPr id="563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CuadroTexto 9"/>
          <p:cNvSpPr/>
          <p:nvPr/>
        </p:nvSpPr>
        <p:spPr>
          <a:xfrm>
            <a:off x="468360" y="17002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alibri"/>
              </a:rPr>
              <a:t>Gráfico 3. Distribución de los pacientes segú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iempo de ventilación mecánic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CuadroTexto 8"/>
          <p:cNvSpPr/>
          <p:nvPr/>
        </p:nvSpPr>
        <p:spPr>
          <a:xfrm>
            <a:off x="4471920" y="6491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Marcador de contenido 4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6050160" cy="3554280"/>
          </a:xfrm>
          <a:prstGeom prst="rect">
            <a:avLst/>
          </a:prstGeom>
          <a:ln w="0">
            <a:noFill/>
          </a:ln>
        </p:spPr>
      </p:pic>
      <p:sp>
        <p:nvSpPr>
          <p:cNvPr id="568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CuadroTexto 9"/>
          <p:cNvSpPr/>
          <p:nvPr/>
        </p:nvSpPr>
        <p:spPr>
          <a:xfrm>
            <a:off x="468360" y="17002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alibri"/>
              </a:rPr>
              <a:t>Gráfico 4. Distribución de los pacientes segú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forma de aislamiento del microorganism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CuadroTexto 8"/>
          <p:cNvSpPr/>
          <p:nvPr/>
        </p:nvSpPr>
        <p:spPr>
          <a:xfrm>
            <a:off x="4471920" y="6491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3" name="Gráfico 8" descr=""/>
          <p:cNvPicPr/>
          <p:nvPr/>
        </p:nvPicPr>
        <p:blipFill>
          <a:blip r:embed="rId1"/>
          <a:stretch/>
        </p:blipFill>
        <p:spPr>
          <a:xfrm>
            <a:off x="566640" y="2706840"/>
            <a:ext cx="7291440" cy="3852720"/>
          </a:xfrm>
          <a:prstGeom prst="rect">
            <a:avLst/>
          </a:prstGeom>
          <a:ln w="0">
            <a:noFill/>
          </a:ln>
        </p:spPr>
      </p:pic>
      <p:sp>
        <p:nvSpPr>
          <p:cNvPr id="574" name="CuadroTexto 9"/>
          <p:cNvSpPr/>
          <p:nvPr/>
        </p:nvSpPr>
        <p:spPr>
          <a:xfrm>
            <a:off x="468360" y="191628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alibri"/>
              </a:rPr>
              <a:t>Gráfico 5. Distribución de los pacientes segú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microorganismo aislad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Rectángulo 4"/>
          <p:cNvSpPr/>
          <p:nvPr/>
        </p:nvSpPr>
        <p:spPr>
          <a:xfrm>
            <a:off x="3143160" y="3071880"/>
            <a:ext cx="928800" cy="3500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CuadroTexto 8"/>
          <p:cNvSpPr/>
          <p:nvPr/>
        </p:nvSpPr>
        <p:spPr>
          <a:xfrm>
            <a:off x="0" y="6572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8" name="Marcador de contenido 4" descr=""/>
          <p:cNvPicPr/>
          <p:nvPr/>
        </p:nvPicPr>
        <p:blipFill>
          <a:blip r:embed="rId1"/>
          <a:stretch/>
        </p:blipFill>
        <p:spPr>
          <a:xfrm>
            <a:off x="1763640" y="2824200"/>
            <a:ext cx="6064200" cy="3548160"/>
          </a:xfrm>
          <a:prstGeom prst="rect">
            <a:avLst/>
          </a:prstGeom>
          <a:ln w="0">
            <a:noFill/>
          </a:ln>
        </p:spPr>
      </p:pic>
      <p:sp>
        <p:nvSpPr>
          <p:cNvPr id="579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CuadroTexto 9"/>
          <p:cNvSpPr/>
          <p:nvPr/>
        </p:nvSpPr>
        <p:spPr>
          <a:xfrm>
            <a:off x="468360" y="191628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Gráfico 6. Distribución de los pacientes según estado al egres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CuadroTexto 8"/>
          <p:cNvSpPr/>
          <p:nvPr/>
        </p:nvSpPr>
        <p:spPr>
          <a:xfrm>
            <a:off x="0" y="6491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4 Rectángulo"/>
          <p:cNvSpPr/>
          <p:nvPr/>
        </p:nvSpPr>
        <p:spPr>
          <a:xfrm>
            <a:off x="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CONCLUSIONES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3 Rectángulo"/>
          <p:cNvSpPr/>
          <p:nvPr/>
        </p:nvSpPr>
        <p:spPr>
          <a:xfrm>
            <a:off x="142920" y="1714680"/>
            <a:ext cx="85010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Los pacientes con neumonía asociada al ventilador se caracterizaron por tener edad mayor de 60 años, sin diferencias de género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En las manifestaciones clínicas se observó de forma habitual hipertermia, leucocitosis, secreciones purulentas, taquicardia y polipnea, con predominio de un patrón radiológico neumónico que se acompañó de atelectasia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La aspiración de secreciones y el hemocultivo fueron las principales formas de aislamiento del microorganismo, siendo el agente etiológico mas común el staphilococus aureu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El estado de egreso (vivo) de los pacientes con neumonía asociada al ventilador, es inferior a la reportada en la mayoría de los estudios internacionale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1214280"/>
            <a:ext cx="8642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3 Rectángulo"/>
          <p:cNvSpPr/>
          <p:nvPr/>
        </p:nvSpPr>
        <p:spPr>
          <a:xfrm>
            <a:off x="0" y="1571760"/>
            <a:ext cx="8786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La ventilación mecánica (VM) constituye una importante herramienta en el tratamiento de los pacientes en situación de insuficiencia respiratoria. Es utilizada hasta en un 30-50 % de los casos de insuficiencia respiratoria aguda relacionada con urgencias médicas y quirúrgicas que surgen en las uni­dades de cuidados intensivo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La neumonía asociada a ventilación mecánica (NAVM) es una complicación pulmonar, que se desarrolla después de 48-72 horas de la intubación endotraqueal en pacientes sometidos a VM. Es la complicación infecciosa más frecuente en pacientes admitidos en las Unidades de Cuidados Intensivos (UCI), afecta al 60 % de los pacientes en estado crít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0" y="1214280"/>
            <a:ext cx="8642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4 Rectángulo"/>
          <p:cNvSpPr/>
          <p:nvPr/>
        </p:nvSpPr>
        <p:spPr>
          <a:xfrm>
            <a:off x="0" y="1571760"/>
            <a:ext cx="8786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5 Rectángulo"/>
          <p:cNvSpPr/>
          <p:nvPr/>
        </p:nvSpPr>
        <p:spPr>
          <a:xfrm>
            <a:off x="142920" y="1714680"/>
            <a:ext cx="878688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La NAVM incrementa la tasa de mortalidad y morbilidad de los pacientes en estado crítico. Los pacientes con VM por más de 48 horas tienen una mortalidad de 20-25 %, con un 1 % adicional por cada día de VM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Las características epidemiológicas de los pacientes con diagnóstico de NAVM, pueden variar de un hospital a otro, entre un servicio de cuidados críticos y otro, así como entre las diferentes regiones geográficas, y esta variabilidad puede ser originada por múltiples factores. Por lo tanto, de ahí el propósito de la presente investigación sea caracterizar la incidencia y el patrón clínico epidemiológico de NAVM en la Unidad de Cuidados Intensivos (UCI-8B) del Hospital Clínico Quirúrgico “Hermanos Ameijeiras”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3 Rectángulo"/>
          <p:cNvSpPr/>
          <p:nvPr/>
        </p:nvSpPr>
        <p:spPr>
          <a:xfrm>
            <a:off x="142920" y="2428920"/>
            <a:ext cx="86439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 Black"/>
              </a:rPr>
              <a:t>Pregunta de la investigació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¿Cuál es el comportamiento de los enfermos con neumonía asociada a ventilación mecánica invasiv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3 Rectángulo"/>
          <p:cNvSpPr/>
          <p:nvPr/>
        </p:nvSpPr>
        <p:spPr>
          <a:xfrm>
            <a:off x="214200" y="121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3366"/>
                </a:solidFill>
                <a:latin typeface="Arial Black"/>
              </a:rPr>
              <a:t>OBJETIVO GENERAL: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4 Rectángulo"/>
          <p:cNvSpPr/>
          <p:nvPr/>
        </p:nvSpPr>
        <p:spPr>
          <a:xfrm>
            <a:off x="250920" y="184464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Describir las características de los enfermos con Neumonía Asociada a Ventilación Mecánica Invasiva en la unidad de cuidados intensivos del Hospital Clínico Quirúrgico “Hermanos Ameijeiras”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8 Rectángulo"/>
          <p:cNvSpPr/>
          <p:nvPr/>
        </p:nvSpPr>
        <p:spPr>
          <a:xfrm>
            <a:off x="324000" y="2997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3366"/>
                </a:solidFill>
                <a:latin typeface="Arial Black"/>
              </a:rPr>
              <a:t>OBJETIVOS ESPECÍFICOS: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9 Rectángulo"/>
          <p:cNvSpPr/>
          <p:nvPr/>
        </p:nvSpPr>
        <p:spPr>
          <a:xfrm>
            <a:off x="179280" y="3716280"/>
            <a:ext cx="8645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1. Identificar la incidencia de neumonía asociada a ventilación mecánica invasiva en relación con las variables socio-demográficas y enfermedades asociada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2. Describir las manifestaciones clínico-imagenológicas en los pacientes con Neumonía Asociada a Ventilación Mecánica invasiva, según su aparic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3. Identificar los gérmenes más frecuentes y su forma de aislamient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4. Evaluar el estado del paciente a su egres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3 Rectángulo"/>
          <p:cNvSpPr/>
          <p:nvPr/>
        </p:nvSpPr>
        <p:spPr>
          <a:xfrm>
            <a:off x="250920" y="112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DISEÑO METODOLÓGICO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4 Rectángulo"/>
          <p:cNvSpPr/>
          <p:nvPr/>
        </p:nvSpPr>
        <p:spPr>
          <a:xfrm>
            <a:off x="324000" y="1638360"/>
            <a:ext cx="821520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 realizó un estudio observacional, descriptivo, de corte transversal, en la Unidad de Cuidados Intensivos (UCI-8B), del Hospital Clínico Quirúrgico “Hermanos Ameijeiras”, durante el periodo comprendido desde de noviembre de 2018 a diciembre del 201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Universo: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 Pacientes de ambos sexos que ingresaron en la UCI-8B de forma consecutiva y que estuvieron sometidos a régimen de Ventilación Mecánica en el periodo estableci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s-CO" sz="2000" spc="-1" strike="noStrike" u="sng">
                <a:solidFill>
                  <a:srgbClr val="003366"/>
                </a:solidFill>
                <a:uFillTx/>
                <a:latin typeface="Arial"/>
              </a:rPr>
              <a:t>muestra</a:t>
            </a:r>
            <a:r>
              <a:rPr b="1" lang="es-CO" sz="2000" spc="-1" strike="noStrike">
                <a:solidFill>
                  <a:srgbClr val="003366"/>
                </a:solidFill>
                <a:latin typeface="Arial"/>
              </a:rPr>
              <a:t> se conformó por 57 </a:t>
            </a:r>
            <a:r>
              <a:rPr b="1" lang="es-AR" sz="2000" spc="-1" strike="noStrike">
                <a:solidFill>
                  <a:srgbClr val="003366"/>
                </a:solidFill>
                <a:latin typeface="Arial"/>
              </a:rPr>
              <a:t>pacientes con diagnóstico de neumonía asociada a ventilación mecánica invasiva </a:t>
            </a: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1" lang="es-CO" sz="2000" spc="-1" strike="noStrike">
                <a:solidFill>
                  <a:srgbClr val="003366"/>
                </a:solidFill>
                <a:latin typeface="Arial"/>
              </a:rPr>
              <a:t>que cumplieron los criterios de selecc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Arial"/>
              </a:rPr>
              <a:t>Las variables estudiadas fueron: edad, sexo, criterios clínicos, radiografía de tórax, tiempo de VM previo al diagnóstico NAVM, formas de aislamiento del microorganismo y estado al egreso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179280" y="1626480"/>
            <a:ext cx="8713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inclusión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ingresan a la UCI del piso 8B con insuficiencia respiratoria aguda tributaria de ventilación mecánica invasiva sin sepsis respiratoria previ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exclus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fallecieron con menos de 24 horas luego del diagnóstico de NAV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Historia Clínica incomplet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no cumplan con criterios clínicos e imagenológicos, que ya presentaba signos de sepsis respiratoria prev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no se aislé ningún microorganismo por los diferentes métodos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3 Rectángulo"/>
          <p:cNvSpPr/>
          <p:nvPr/>
        </p:nvSpPr>
        <p:spPr>
          <a:xfrm>
            <a:off x="250920" y="112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DISEÑO METODOLÓGICO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CuadroTexto 7"/>
          <p:cNvSpPr/>
          <p:nvPr/>
        </p:nvSpPr>
        <p:spPr>
          <a:xfrm>
            <a:off x="395280" y="177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Tabla 1. Distribución de los pacientes con NAVM según grupo de edad y sexo</a:t>
            </a:r>
            <a:r>
              <a:rPr b="0" lang="es-MX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7" name="Marcador de contenido 6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8516880" cy="3571920"/>
          </a:xfrm>
          <a:prstGeom prst="rect">
            <a:avLst/>
          </a:prstGeom>
          <a:ln w="0">
            <a:noFill/>
          </a:ln>
        </p:spPr>
      </p:pic>
      <p:sp>
        <p:nvSpPr>
          <p:cNvPr id="548" name="CuadroTexto 8"/>
          <p:cNvSpPr/>
          <p:nvPr/>
        </p:nvSpPr>
        <p:spPr>
          <a:xfrm>
            <a:off x="755640" y="616572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0" name="Imagen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280360" cy="3871800"/>
          </a:xfrm>
          <a:prstGeom prst="rect">
            <a:avLst/>
          </a:prstGeom>
          <a:ln w="0">
            <a:noFill/>
          </a:ln>
        </p:spPr>
      </p:pic>
      <p:sp>
        <p:nvSpPr>
          <p:cNvPr id="551" name="CuadroTexto 4"/>
          <p:cNvSpPr/>
          <p:nvPr/>
        </p:nvSpPr>
        <p:spPr>
          <a:xfrm>
            <a:off x="900000" y="1989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Gráfico 1. Distribución de pacientes según criterios clínic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CuadroTexto 8"/>
          <p:cNvSpPr/>
          <p:nvPr/>
        </p:nvSpPr>
        <p:spPr>
          <a:xfrm>
            <a:off x="785880" y="6491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Donel</cp:lastModifiedBy>
  <dcterms:modified xsi:type="dcterms:W3CDTF">2020-11-06T04:54:43Z</dcterms:modified>
  <cp:revision>89</cp:revision>
  <dc:subject/>
  <dc:title>PowerPoint Template</dc:title>
</cp:coreProperties>
</file>