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50E8D-6855-4B6E-9826-E2F95D683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6657E-94B2-4047-A537-A3043DF08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E3668-3FEB-4F94-A0B5-E916326B1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0F2CB-0347-417E-A581-7F08B3EE0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309A4-E29D-453A-8CE5-0BEC909EB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96334-29D5-4741-A3BD-48F5C43A7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28F41-8D75-4DCF-BCC6-8F5DDD88F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ED62F-05F0-4AE3-829C-9E4755817F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3E101D-C16A-4C27-B4E2-A70AD32E2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26353-788C-48DB-B97C-F48E7149F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BABB1-188A-494F-A058-6FD39B8A0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A56DF-16E6-4086-8DB0-5FABACAC9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EAEC8-9009-4AAB-A1C4-E04516B5B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472388-016B-4617-B016-42561D61B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4F614-760D-47A1-A861-55DB362613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DD73E-69F2-427A-859C-964544C11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6635E-FF11-4A17-B29E-57CAF230E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DC1AF-79AE-447E-AB67-E28DC7EAF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51D31-35F4-4913-9AAA-DDFA09C25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F370D9-7449-4FBC-8E83-24FEA0CCD7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59BB53-62FF-4F50-B101-9AFF20A1AB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D71BE-1EDF-41E8-BF4C-5BC9E7F16D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42132-B55C-4E80-B3CB-F899CEA554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28211-DAC1-42E3-B5F9-E808FF56F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F8B6D-03B1-4C2F-939A-7E43B3B77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4CB66-F26E-45EC-B03D-79FE2A11D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DEABC3-379B-4DCC-9687-4771CB3FF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54CA6-2BCA-4426-A88B-3527252EC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D9818-473D-4943-BEC6-E038030CD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BA314-6AEF-409B-B9E8-294F1B0F2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BC207-507D-41B7-8D7E-E0D585BB3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AAC0BA-E71C-4898-90DC-59302E34D0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81B64B-A4E1-47AA-AF40-45B7CC2C49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E4DEE9-CB86-4274-A73D-A2821007A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F8519-AD2B-419B-898D-F7E1EA338C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A2D911-B9C4-4B8B-B5A9-4CB442EC25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980E6-C497-4104-B26F-98509BF44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FE4FEC-7C45-4597-A591-96A358050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6F7FB-7DB2-4333-9A78-309168280A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FACB4-9194-44D3-AB5E-D3D2F5D8D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7A4E0-322F-4ECD-B0AC-B05F6B30A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4B751-4A01-4A42-93B4-F9FBB2665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63958E-5BFB-4BC8-9B11-E27222532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2EF192-6FCC-49E9-ACCF-4BE2AD9BA0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69F903-8E3B-42DE-8365-60878B1F89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02D2-E284-4E3E-8026-5CF06A80C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9E2A-597A-43B2-A8B5-34947C4D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53A51-B99A-4C6A-9593-57A9D641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C232-5CFA-414D-891D-AB21A379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5BA7-4CEC-462B-AAB7-9A6077F6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57D4-55B9-4E5E-8BD4-0D97C80A1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7913-EBED-431F-B663-CD0EBDDE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1481-9D8B-4314-A845-28A7C8EC7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5DC4-07AE-4C96-BE02-9459B272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03CE4-2574-491C-B385-9B311F02A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28FEC-9C3B-4940-A9B5-8696CB353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F3FF7-2AC3-40A3-8399-58872AA66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63DBC-3367-43E8-AE3A-7BE07454C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39A3A-0A45-46AD-9365-E82E8AF5F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A2D81-7F94-4B23-9434-DA2D8ACD1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DCC1D-3112-4097-8F3F-B6B3AC919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C1D3-FCB0-42FB-8321-8A930F3D1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86744-4C62-434D-BF45-05F6BA5CD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86E4F-84A0-4F98-BE01-7504EC087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C5EFF-556D-476B-BFE6-D03E5C03A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E8948-A33A-40A8-A09F-30C0C7921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9148B-D433-4240-8C8F-46745BCFB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199CA-FA82-45DE-AE79-D147573FF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B4547-0488-4725-81FE-CF12C29D4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DBC040-21FD-4E2F-A5E2-46BAD7F6E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9F5413-5F4B-4DA3-887C-55F848826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71F12-E519-4F05-A32C-E7A4A0C1F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3C74E-C026-4EF3-9F5D-44EEB8A65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56029-F17D-4EDC-8DD2-A54398D9B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4A5AB-E181-43A7-8B22-3BD7DCEFA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017D2-A450-4DEF-A441-29D382299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07CB9-A21A-47E4-B32E-427679EE1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4D336-F356-47F2-BAA9-4D5EC0C42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069C7-E236-4C24-87E4-FE7A966DD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0D2AFF-0D93-4846-97D8-7071CA122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CCE07-9B33-4E86-9D12-670D0CA9DF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D31063-200A-4984-AE9F-99DDFF1ED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B2F8D-C503-4C46-8098-C4E22C20D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F7679-A60E-4EF7-99E7-E4BDDE56E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F73E5-7B14-4085-8414-FCFF0CEF9D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174F72-5962-4898-8224-463B59FE6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B2D07-79C0-4BD1-B093-F5E05C9BB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0151D-7AAF-432D-A3DE-51EC64232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715B3-B6D1-4031-8BB8-1203515C1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B5A53-86E4-4F7D-A3A3-95652F417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F56FB3-E7C1-47D5-8CAF-7EB808FC2D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A471CA-7EF6-4E0E-95C9-FBCA50ADDF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24A60-A197-40C0-94EE-440E709E20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2BC27-2691-4471-9319-9FDDA8BC9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19A81-C6EB-41B6-AED3-A88392071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66F9D-6408-46A3-A599-00818868F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89EBB-378C-4BF2-B268-BE696A022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326E3-3A79-45F0-9F3A-9C5C1FED1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22D86-2B47-49E4-A5A9-D0DA6E12A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50E67-0D73-4BFD-942C-FB280EFA2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37509-68E1-434F-945C-8D15F81EF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230B7-7E03-40AB-91A3-7A71FC8CA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CFB3A-8CD9-4162-9C8A-1DD5896DA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4FA5D-4DEF-4DE7-B695-CBD177EE2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D37AEF-D290-4612-A501-2A8D8FFBD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BDC343-7FFA-4BE0-BA35-35D3FFBA36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13E3A-121E-47C1-858B-C4893C74B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035AD-8779-47E4-B742-B236B2411E9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64360" y="-6480"/>
            <a:ext cx="9208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64360" y="-6480"/>
            <a:ext cx="920880" cy="13716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0C52-70ED-4C3A-A210-1A42453CF8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64360" y="-6480"/>
            <a:ext cx="920880" cy="13716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95AA-808F-415A-8DD9-33539A6A0D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64360" y="-6480"/>
            <a:ext cx="920880" cy="13716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3FA8-18F4-40B4-8CD0-FAD621534BA9}"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095800" y="165240"/>
            <a:ext cx="363384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64360" y="-6480"/>
            <a:ext cx="920880" cy="1371600"/>
          </a:xfrm>
          <a:prstGeom prst="rect">
            <a:avLst/>
          </a:prstGeom>
          <a:ln w="0">
            <a:noFill/>
          </a:ln>
        </p:spPr>
      </p:pic>
      <p:pic>
        <p:nvPicPr>
          <p:cNvPr id="85" name="Picture 2" descr="foto hospital"/>
          <p:cNvPicPr/>
          <p:nvPr/>
        </p:nvPicPr>
        <p:blipFill>
          <a:blip r:embed="rId3"/>
          <a:stretch/>
        </p:blipFill>
        <p:spPr>
          <a:xfrm>
            <a:off x="8064360" y="-6480"/>
            <a:ext cx="920880" cy="13716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64360" y="-6480"/>
            <a:ext cx="920880" cy="13716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FF9B-4EE7-47F1-8826-E267C0B6A9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64360" y="-6480"/>
            <a:ext cx="920880" cy="13716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9C5F-5B4D-4FA3-AC9D-758E66A467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64360" y="-6480"/>
            <a:ext cx="920880" cy="13716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503B-5251-43BF-B850-43D905997F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64360" y="-6480"/>
            <a:ext cx="920880" cy="13716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AD05-9186-442C-AABA-21AE90ECC4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64360" y="-6480"/>
            <a:ext cx="920880" cy="13716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103A-2B94-4AFD-B354-2825619D1A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64360" y="-6480"/>
            <a:ext cx="920880" cy="13716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9B62-958A-439F-A6D0-8D28A51A9B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br>
              <a:rPr sz="3200"/>
            </a:br>
            <a:r>
              <a:rPr b="1" i="1" lang="en-US" sz="3200" spc="-1" strike="noStrike">
                <a:solidFill>
                  <a:srgbClr val="ffffff"/>
                </a:solidFill>
                <a:latin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Autores:   Dra. Angelica Cando Neira.</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 Sergio Fernández García</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 Donel González Díaz.</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a. Drialis Díaz Garrido. </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                   </a:t>
            </a:r>
            <a:r>
              <a:rPr b="1" i="1" lang="en-US" sz="2000" spc="-1" strike="noStrike">
                <a:solidFill>
                  <a:srgbClr val="003366"/>
                </a:solidFill>
                <a:latin typeface="Calibri"/>
              </a:rPr>
              <a:t>Dra: Laura Hernández Moreno</a:t>
            </a:r>
            <a:endParaRPr b="1" lang="en-US" sz="2000" spc="-1" strike="noStrike">
              <a:solidFill>
                <a:srgbClr val="003366"/>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   </a:t>
            </a:r>
            <a:r>
              <a:rPr b="1" i="1" lang="en-US" sz="2000" spc="-1" strike="noStrike">
                <a:solidFill>
                  <a:srgbClr val="003366"/>
                </a:solidFill>
                <a:latin typeface="Calibri"/>
              </a:rPr>
              <a:t>Servicio de Neumología. </a:t>
            </a:r>
            <a:endParaRPr b="1" lang="en-US" sz="20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La Habana, 2020</a:t>
            </a:r>
            <a:endParaRPr b="1" lang="en-US" sz="20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4 Rectángulo"/>
          <p:cNvSpPr/>
          <p:nvPr/>
        </p:nvSpPr>
        <p:spPr>
          <a:xfrm>
            <a:off x="0" y="1500120"/>
            <a:ext cx="4929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200" spc="-1" strike="noStrike">
                <a:solidFill>
                  <a:srgbClr val="003366"/>
                </a:solidFill>
                <a:latin typeface="Calibri"/>
              </a:rPr>
              <a:t>Caracterización clínica-imagenológica y funcional en pacientes egresados con diagnóstico de enfermedad pulmonar obstructiva crónica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54" name="5 Gráfico" descr=""/>
          <p:cNvPicPr/>
          <p:nvPr/>
        </p:nvPicPr>
        <p:blipFill>
          <a:blip r:embed="rId1"/>
          <a:stretch/>
        </p:blipFill>
        <p:spPr>
          <a:xfrm>
            <a:off x="0" y="0"/>
            <a:ext cx="7864560" cy="6864480"/>
          </a:xfrm>
          <a:prstGeom prst="rect">
            <a:avLst/>
          </a:prstGeom>
          <a:ln w="0">
            <a:noFill/>
          </a:ln>
        </p:spPr>
      </p:pic>
      <p:sp>
        <p:nvSpPr>
          <p:cNvPr id="555" name="6 Rectángulo"/>
          <p:cNvSpPr/>
          <p:nvPr/>
        </p:nvSpPr>
        <p:spPr>
          <a:xfrm>
            <a:off x="285840" y="1714680"/>
            <a:ext cx="8429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3. Distribución de los pacientes con EPOC según estado nutricional (IMC).</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sp>
        <p:nvSpPr>
          <p:cNvPr id="556" name="6 Rectángulo"/>
          <p:cNvSpPr/>
          <p:nvPr/>
        </p:nvSpPr>
        <p:spPr>
          <a:xfrm>
            <a:off x="5109480" y="64882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8"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59" name="6 Gráfico" descr=""/>
          <p:cNvPicPr/>
          <p:nvPr/>
        </p:nvPicPr>
        <p:blipFill>
          <a:blip r:embed="rId1"/>
          <a:stretch/>
        </p:blipFill>
        <p:spPr>
          <a:xfrm>
            <a:off x="1127160" y="2700360"/>
            <a:ext cx="6168960" cy="3809880"/>
          </a:xfrm>
          <a:prstGeom prst="rect">
            <a:avLst/>
          </a:prstGeom>
          <a:ln w="0">
            <a:noFill/>
          </a:ln>
        </p:spPr>
      </p:pic>
      <p:sp>
        <p:nvSpPr>
          <p:cNvPr id="560" name="7 Rectángulo"/>
          <p:cNvSpPr/>
          <p:nvPr/>
        </p:nvSpPr>
        <p:spPr>
          <a:xfrm>
            <a:off x="285840" y="1714680"/>
            <a:ext cx="8429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4. Distribución de los pacientes con EPOC según adicción tabáquica.</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sp>
        <p:nvSpPr>
          <p:cNvPr id="561" name="6 Rectángulo"/>
          <p:cNvSpPr/>
          <p:nvPr/>
        </p:nvSpPr>
        <p:spPr>
          <a:xfrm>
            <a:off x="5099040" y="650088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64" name="5 Rectángulo"/>
          <p:cNvSpPr/>
          <p:nvPr/>
        </p:nvSpPr>
        <p:spPr>
          <a:xfrm>
            <a:off x="285840" y="1714680"/>
            <a:ext cx="84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5. Distribución de los pacientes con EPOC según síntomas clínicos presentes. </a:t>
            </a: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pic>
        <p:nvPicPr>
          <p:cNvPr id="565" name="6 Gráfico" descr=""/>
          <p:cNvPicPr/>
          <p:nvPr/>
        </p:nvPicPr>
        <p:blipFill>
          <a:blip r:embed="rId1"/>
          <a:stretch/>
        </p:blipFill>
        <p:spPr>
          <a:xfrm>
            <a:off x="1200240" y="2487600"/>
            <a:ext cx="6669000" cy="3956040"/>
          </a:xfrm>
          <a:prstGeom prst="rect">
            <a:avLst/>
          </a:prstGeom>
          <a:ln w="0">
            <a:noFill/>
          </a:ln>
        </p:spPr>
      </p:pic>
      <p:sp>
        <p:nvSpPr>
          <p:cNvPr id="566" name="6 Rectángulo"/>
          <p:cNvSpPr/>
          <p:nvPr/>
        </p:nvSpPr>
        <p:spPr>
          <a:xfrm>
            <a:off x="5099040" y="650088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8"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69" name="5 Rectángulo"/>
          <p:cNvSpPr/>
          <p:nvPr/>
        </p:nvSpPr>
        <p:spPr>
          <a:xfrm>
            <a:off x="285840" y="1714680"/>
            <a:ext cx="84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6. Distribución de los pacientes con EPOC según el grado de severidad de la enfermedad. </a:t>
            </a: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pic>
        <p:nvPicPr>
          <p:cNvPr id="570" name="6 Gráfico" descr=""/>
          <p:cNvPicPr/>
          <p:nvPr/>
        </p:nvPicPr>
        <p:blipFill>
          <a:blip r:embed="rId1"/>
          <a:stretch/>
        </p:blipFill>
        <p:spPr>
          <a:xfrm>
            <a:off x="1127160" y="2560680"/>
            <a:ext cx="6669000" cy="3949560"/>
          </a:xfrm>
          <a:prstGeom prst="rect">
            <a:avLst/>
          </a:prstGeom>
          <a:ln w="0">
            <a:noFill/>
          </a:ln>
        </p:spPr>
      </p:pic>
      <p:sp>
        <p:nvSpPr>
          <p:cNvPr id="571" name="6 Rectángulo"/>
          <p:cNvSpPr/>
          <p:nvPr/>
        </p:nvSpPr>
        <p:spPr>
          <a:xfrm>
            <a:off x="5099040" y="650088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74" name="6 Rectángulo"/>
          <p:cNvSpPr/>
          <p:nvPr/>
        </p:nvSpPr>
        <p:spPr>
          <a:xfrm>
            <a:off x="285840" y="1714680"/>
            <a:ext cx="84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7. Distribución de los pacientes con EPOC según la presencia de hallazgos radiológicos. </a:t>
            </a: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pic>
        <p:nvPicPr>
          <p:cNvPr id="575" name="7 Gráfico" descr=""/>
          <p:cNvPicPr/>
          <p:nvPr/>
        </p:nvPicPr>
        <p:blipFill>
          <a:blip r:embed="rId1"/>
          <a:stretch/>
        </p:blipFill>
        <p:spPr>
          <a:xfrm>
            <a:off x="1127160" y="2487600"/>
            <a:ext cx="6529320" cy="4095720"/>
          </a:xfrm>
          <a:prstGeom prst="rect">
            <a:avLst/>
          </a:prstGeom>
          <a:ln w="0">
            <a:noFill/>
          </a:ln>
        </p:spPr>
      </p:pic>
      <p:sp>
        <p:nvSpPr>
          <p:cNvPr id="576" name="6 Rectángulo"/>
          <p:cNvSpPr/>
          <p:nvPr/>
        </p:nvSpPr>
        <p:spPr>
          <a:xfrm>
            <a:off x="5099040" y="650088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8" name="4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CONCLUSIONES:</a:t>
            </a:r>
            <a:br>
              <a:rPr sz="2400"/>
            </a:br>
            <a:endParaRPr b="0" lang="en-US" sz="2400" spc="-1" strike="noStrike">
              <a:solidFill>
                <a:srgbClr val="003366"/>
              </a:solidFill>
              <a:latin typeface="Arial"/>
            </a:endParaRPr>
          </a:p>
        </p:txBody>
      </p:sp>
      <p:sp>
        <p:nvSpPr>
          <p:cNvPr id="579" name="3 Rectángulo"/>
          <p:cNvSpPr/>
          <p:nvPr/>
        </p:nvSpPr>
        <p:spPr>
          <a:xfrm>
            <a:off x="285840" y="1779480"/>
            <a:ext cx="8501040" cy="4676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Arial"/>
              </a:rPr>
              <a:t>Predominó el sexo masculino, con edad comprendida entre 60 y 69 años, </a:t>
            </a:r>
            <a:r>
              <a:rPr b="1" lang="es-ES" sz="2400" spc="-1" strike="noStrike">
                <a:solidFill>
                  <a:srgbClr val="003366"/>
                </a:solidFill>
                <a:latin typeface="Arial"/>
              </a:rPr>
              <a:t>normopesos y fumadores. </a:t>
            </a:r>
            <a:endParaRPr b="0" lang="en-US" sz="24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Los síntomas clínicos predominantes fueron la tos seca y la disnea grado III. </a:t>
            </a:r>
            <a:endParaRPr b="0" lang="en-US" sz="24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La EPOC moderada fue la más frecuente en relación a su severidad y el patrón radiológico enfisematoso fue el predominante</a:t>
            </a:r>
            <a:r>
              <a:rPr b="1" lang="es-ES" sz="2000" spc="-1" strike="noStrike">
                <a:solidFill>
                  <a:srgbClr val="003366"/>
                </a:solidFill>
                <a:latin typeface="Arial"/>
              </a:rPr>
              <a:t>.</a:t>
            </a:r>
            <a:endParaRPr b="0" lang="en-US" sz="20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25" name="Rectangle 3"/>
          <p:cNvSpPr/>
          <p:nvPr/>
        </p:nvSpPr>
        <p:spPr>
          <a:xfrm>
            <a:off x="214200" y="1285920"/>
            <a:ext cx="8642520" cy="36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6" name="4 Rectángulo"/>
          <p:cNvSpPr/>
          <p:nvPr/>
        </p:nvSpPr>
        <p:spPr>
          <a:xfrm>
            <a:off x="214200" y="1785960"/>
            <a:ext cx="8501040" cy="5980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La prevalencia mundial de la enfermedad pulmonar obstructiva crónica (EPOC) oscila entre el 5 y el 10 % de la población adulta entre los 40 y 80 años. La prevalencia es de aproximadamente el 1 % en todas las edades.</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n Cuba casi un 20 % de la población está compuesta por individuos de 60 años y más, en los años venideros se incrementará por el envejecimiento poblacional. Si a esto se añade el papel demostrado de la adicción tabáquica en el desarrollo de la enfermedad y la alta prevalencia de fumadores en Cuba (24 %) de la población se puede entender los retos que se avecinan.</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28" name="4 Rectángulo"/>
          <p:cNvSpPr/>
          <p:nvPr/>
        </p:nvSpPr>
        <p:spPr>
          <a:xfrm>
            <a:off x="357120" y="1695600"/>
            <a:ext cx="850104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n Cuba, al cierre del 2018 sucedieron 4079 muertes por enfermedades crónicas de las vías respiratorias inferiores, constituyendo la sexta causa de muerte para todas las edades con una tasa ajustada anual de mortalidad de 38,7 por cada 100 mil habitantes entre los varones y 33,8 por cada 100 mil habitantes entre las mujeres. En la Habana se reportó en el mismo año una tasa de mortalidad de 42,3 fallecidos por enfermedades crónicas de las vías respiratorias inferiores por cada 100 mil habitantes. La epidemiologia y la distribución de la EPOC en la población general es todavía una asignatura pendiente.</a:t>
            </a:r>
            <a:endParaRPr b="0" lang="en-US" sz="2400" spc="-1" strike="noStrike">
              <a:solidFill>
                <a:srgbClr val="003366"/>
              </a:solidFill>
              <a:latin typeface="Arial"/>
            </a:endParaRPr>
          </a:p>
        </p:txBody>
      </p:sp>
      <p:sp>
        <p:nvSpPr>
          <p:cNvPr id="529" name="Rectangle 3"/>
          <p:cNvSpPr/>
          <p:nvPr/>
        </p:nvSpPr>
        <p:spPr>
          <a:xfrm>
            <a:off x="179280" y="1197000"/>
            <a:ext cx="8642520" cy="36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1" name="3 Rectángulo"/>
          <p:cNvSpPr/>
          <p:nvPr/>
        </p:nvSpPr>
        <p:spPr>
          <a:xfrm>
            <a:off x="142920" y="1357200"/>
            <a:ext cx="8643960" cy="4226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Black"/>
              </a:rPr>
              <a:t>Preguntas de la investigación:</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Cuáles son las características clínicas - imagenológicas y funcionales de los pacientes con diagnóstico de EPOC atendidos en el servicio de Neumología en el Hospital Clínico Quirúrgico Hermanos Ameijeiras desde diciembre 2018 hasta marzo 202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3" name="3 Rectángulo"/>
          <p:cNvSpPr/>
          <p:nvPr/>
        </p:nvSpPr>
        <p:spPr>
          <a:xfrm>
            <a:off x="214200" y="12142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 GENERAL: </a:t>
            </a:r>
            <a:br>
              <a:rPr sz="2400"/>
            </a:br>
            <a:endParaRPr b="0" lang="en-US" sz="2400" spc="-1" strike="noStrike">
              <a:solidFill>
                <a:srgbClr val="003366"/>
              </a:solidFill>
              <a:latin typeface="Arial"/>
            </a:endParaRPr>
          </a:p>
        </p:txBody>
      </p:sp>
      <p:sp>
        <p:nvSpPr>
          <p:cNvPr id="534" name="4 Rectángulo"/>
          <p:cNvSpPr/>
          <p:nvPr/>
        </p:nvSpPr>
        <p:spPr>
          <a:xfrm>
            <a:off x="324000" y="1700280"/>
            <a:ext cx="8462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Describir las características clínicas, imagenológicas y funcionales de los pacientes egresados con EPOC.</a:t>
            </a:r>
            <a:endParaRPr b="0" lang="en-US" sz="2400" spc="-1" strike="noStrike">
              <a:solidFill>
                <a:srgbClr val="003366"/>
              </a:solidFill>
              <a:latin typeface="Arial"/>
            </a:endParaRPr>
          </a:p>
        </p:txBody>
      </p:sp>
      <p:sp>
        <p:nvSpPr>
          <p:cNvPr id="535" name="8 Rectángulo"/>
          <p:cNvSpPr/>
          <p:nvPr/>
        </p:nvSpPr>
        <p:spPr>
          <a:xfrm>
            <a:off x="324000" y="2924280"/>
            <a:ext cx="55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S ESPECÍFICOS: </a:t>
            </a:r>
            <a:br>
              <a:rPr sz="2400"/>
            </a:br>
            <a:endParaRPr b="0" lang="en-US" sz="2400" spc="-1" strike="noStrike">
              <a:solidFill>
                <a:srgbClr val="003366"/>
              </a:solidFill>
              <a:latin typeface="Arial"/>
            </a:endParaRPr>
          </a:p>
        </p:txBody>
      </p:sp>
      <p:sp>
        <p:nvSpPr>
          <p:cNvPr id="536" name="9 Rectángulo"/>
          <p:cNvSpPr/>
          <p:nvPr/>
        </p:nvSpPr>
        <p:spPr>
          <a:xfrm>
            <a:off x="179280" y="3284640"/>
            <a:ext cx="8645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1.Caracterizar los pacientes según aspectos sociodemográficos.</a:t>
            </a:r>
            <a:endParaRPr b="0" lang="en-US" sz="2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2.Describir los principales síntomas clínicos y hallazgos imagenológicos de los enfermos.</a:t>
            </a:r>
            <a:endParaRPr b="0" lang="en-US" sz="24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3.Clasificar los enfermos estudiados según el grado de severidad de la enfermed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8" name="3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DISEÑO METODOLÓGICO:</a:t>
            </a:r>
            <a:br>
              <a:rPr sz="2400"/>
            </a:br>
            <a:endParaRPr b="0" lang="en-US" sz="2400" spc="-1" strike="noStrike">
              <a:solidFill>
                <a:srgbClr val="003366"/>
              </a:solidFill>
              <a:latin typeface="Arial"/>
            </a:endParaRPr>
          </a:p>
        </p:txBody>
      </p:sp>
      <p:sp>
        <p:nvSpPr>
          <p:cNvPr id="539" name="4 Rectángulo"/>
          <p:cNvSpPr/>
          <p:nvPr/>
        </p:nvSpPr>
        <p:spPr>
          <a:xfrm>
            <a:off x="324000" y="1773360"/>
            <a:ext cx="8215200" cy="5277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e realizó un estudio observacional, descriptivo y de corte transversal con los enfermos egresados por EPOC en el servicio de neumología del Hospital Clínico Quirúrgico Hermanos Ameijeiras desde diciembre del año 2018 hasta marzo del 2020.</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Universo:</a:t>
            </a:r>
            <a:r>
              <a:rPr b="1" lang="es-ES" sz="2000" spc="-1" strike="noStrike">
                <a:solidFill>
                  <a:srgbClr val="003366"/>
                </a:solidFill>
                <a:latin typeface="Arial"/>
              </a:rPr>
              <a:t> Todos los pacientes (n=326) diagnosticados con enfermedad pulmonar obstructiva crónica egresados del servicio de neumología</a:t>
            </a:r>
            <a:r>
              <a:rPr b="0" lang="es-ES" sz="2000" spc="-1" strike="noStrike">
                <a:solidFill>
                  <a:srgbClr val="003366"/>
                </a:solidFill>
                <a:latin typeface="Arial"/>
              </a:rPr>
              <a:t>.</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u="sng">
                <a:solidFill>
                  <a:srgbClr val="003366"/>
                </a:solidFill>
                <a:uFillTx/>
                <a:latin typeface="Arial"/>
              </a:rPr>
              <a:t>Muestra: </a:t>
            </a:r>
            <a:r>
              <a:rPr b="1" lang="es-ES" sz="2000" spc="-1" strike="noStrike">
                <a:solidFill>
                  <a:srgbClr val="003366"/>
                </a:solidFill>
                <a:latin typeface="Arial"/>
              </a:rPr>
              <a:t>Quedó constituida por (n=171) pacientes que fueron los que cumplieron con los siguientes criterios de inclusión y exclusión</a:t>
            </a:r>
            <a:r>
              <a:rPr b="0" lang="es-ES" sz="2000" spc="-1" strike="noStrike">
                <a:solidFill>
                  <a:srgbClr val="003366"/>
                </a:solidFill>
                <a:latin typeface="Arial"/>
              </a:rPr>
              <a:t>.</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Arial"/>
              </a:rPr>
              <a:t>Las variables estudiadas fueron: edad, sexo, adicción tabáquica, gravedad de la EPOC, estado nutricional, manifestaciones clínicas, gravedad de la EPOC según severidad y hallazgos radiológico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1" name="Rectangle 5"/>
          <p:cNvSpPr/>
          <p:nvPr/>
        </p:nvSpPr>
        <p:spPr>
          <a:xfrm>
            <a:off x="468360" y="1068480"/>
            <a:ext cx="8675640" cy="619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inclusión</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Pacientes mayores de 40 años</a:t>
            </a:r>
            <a:r>
              <a:rPr b="1" lang="es-MX" sz="2000" spc="-1" strike="noStrike">
                <a:solidFill>
                  <a:srgbClr val="003366"/>
                </a:solidFill>
                <a:latin typeface="Arial"/>
              </a:rPr>
              <a:t>, sin distinción de sexo, que acepten participar en el estudio, previa firma de consentimiento informado</a:t>
            </a:r>
            <a:r>
              <a:rPr b="0" lang="es-ES" sz="2000" spc="-1" strike="noStrike">
                <a:solidFill>
                  <a:srgbClr val="003366"/>
                </a:solidFill>
                <a:latin typeface="Arial"/>
              </a:rPr>
              <a:t>.</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exclusión</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lnSpc>
                <a:spcPct val="15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cia de solapamiento ASMA/EPOC.</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s que se encontraban con exacerbación.</a:t>
            </a:r>
            <a:endParaRPr b="0" lang="en-US" sz="2000" spc="-1" strike="noStrike">
              <a:solidFill>
                <a:srgbClr val="003366"/>
              </a:solidFill>
              <a:latin typeface="Arial"/>
            </a:endParaRPr>
          </a:p>
          <a:p>
            <a:pPr algn="just">
              <a:lnSpc>
                <a:spcPct val="15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Aquellos enfermos que presenten EPOC y cáncer de pulmón.</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s que física o mentalmente no pudieron cumplir con los exámenes correspondientes para el estudio.</a:t>
            </a:r>
            <a:endParaRPr b="0" lang="en-US" sz="20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s con diagnostico de EPOC y fallezcan durante su estancia hospitalaria y las historias clínicas no cuenten con la información necesaria para la investigación.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44" name="6 Rectángulo"/>
          <p:cNvSpPr/>
          <p:nvPr/>
        </p:nvSpPr>
        <p:spPr>
          <a:xfrm>
            <a:off x="285840" y="1714680"/>
            <a:ext cx="84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1. Distribución de los pacientes con EPOC según la edad.</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pic>
        <p:nvPicPr>
          <p:cNvPr id="545" name="7 Gráfico" descr=""/>
          <p:cNvPicPr/>
          <p:nvPr/>
        </p:nvPicPr>
        <p:blipFill>
          <a:blip r:embed="rId1"/>
          <a:stretch/>
        </p:blipFill>
        <p:spPr>
          <a:xfrm>
            <a:off x="993600" y="2567160"/>
            <a:ext cx="5870880" cy="4297320"/>
          </a:xfrm>
          <a:prstGeom prst="rect">
            <a:avLst/>
          </a:prstGeom>
          <a:ln w="0">
            <a:noFill/>
          </a:ln>
        </p:spPr>
      </p:pic>
      <p:sp>
        <p:nvSpPr>
          <p:cNvPr id="546" name="6 Rectángulo"/>
          <p:cNvSpPr/>
          <p:nvPr/>
        </p:nvSpPr>
        <p:spPr>
          <a:xfrm>
            <a:off x="5109480" y="64882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8"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49" name="7 Rectángulo"/>
          <p:cNvSpPr/>
          <p:nvPr/>
        </p:nvSpPr>
        <p:spPr>
          <a:xfrm>
            <a:off x="285840" y="1714680"/>
            <a:ext cx="84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Gráfico 2. Distribución de los pacientes con EPOC según sexo.</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Hospital Hermanos Ameijeiras. 2018 – 2020.</a:t>
            </a:r>
            <a:endParaRPr b="0" lang="en-US" sz="1800" spc="-1" strike="noStrike">
              <a:solidFill>
                <a:srgbClr val="003366"/>
              </a:solidFill>
              <a:latin typeface="Arial"/>
            </a:endParaRPr>
          </a:p>
        </p:txBody>
      </p:sp>
      <p:pic>
        <p:nvPicPr>
          <p:cNvPr id="550" name="8 Gráfico" descr=""/>
          <p:cNvPicPr/>
          <p:nvPr/>
        </p:nvPicPr>
        <p:blipFill>
          <a:blip r:embed="rId1"/>
          <a:stretch/>
        </p:blipFill>
        <p:spPr>
          <a:xfrm>
            <a:off x="2066760" y="2779560"/>
            <a:ext cx="5010480" cy="3511800"/>
          </a:xfrm>
          <a:prstGeom prst="rect">
            <a:avLst/>
          </a:prstGeom>
          <a:ln w="0">
            <a:noFill/>
          </a:ln>
        </p:spPr>
      </p:pic>
      <p:sp>
        <p:nvSpPr>
          <p:cNvPr id="551" name="6 Rectángulo"/>
          <p:cNvSpPr/>
          <p:nvPr/>
        </p:nvSpPr>
        <p:spPr>
          <a:xfrm>
            <a:off x="4939560" y="6286680"/>
            <a:ext cx="402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Calibri"/>
              </a:rPr>
              <a:t>FUENTE: Planilla de recolecc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Donel</cp:lastModifiedBy>
  <dcterms:modified xsi:type="dcterms:W3CDTF">2020-11-06T08:32:59Z</dcterms:modified>
  <cp:revision>88</cp:revision>
  <dc:subject/>
  <dc:title>PowerPoint Template</dc:title>
</cp:coreProperties>
</file>