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9DAE5-0264-4EDF-B051-D0AAED0D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7F5E2-55B9-491D-9AA6-959FEB60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E91CB-5275-45C9-88DA-211BA04F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39E26-3010-4494-B692-23FB824E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F1EF-C0BA-4C87-A62C-7BA8244B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47699-F221-43B2-81C9-464A58CC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D7EB6-45EB-49DB-8F69-4810BF91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AC5F-6CBE-4CC6-9273-8FD4985A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31F7-1FB5-4C60-B2A5-26F6815B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AC7DF-32B2-4D2F-A74A-8746889A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CE29E-CB47-46D5-A71E-F21BFE7F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E4478-7272-405D-BE2B-627BA92E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311EE-701A-4609-841F-3531A5EB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E61CC-F485-476D-941F-BC8D9007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BB76E-3CD2-4D66-861C-FE730E3E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15340-6990-4443-98E5-7B25D195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2B81D-E57D-4093-BD16-AF29BC5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B1D5C-AA2D-4CD9-A8C8-A46B47CE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D2D74-0A1F-4127-85AA-15C2AF1E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DF60E-9DA2-40FE-B737-A320CA92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B3B29-919A-4228-9EDC-21ED3690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5A96F-A165-45A5-A51B-9D5FF529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049C-31F4-49D2-B94F-AF5741E5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DE4B5-615B-4419-8D66-74F0B6AE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03862-65B5-46F4-9593-0F8890A4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A64B3-E600-42F8-BA1A-41E94CB4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59617-F093-47E1-A090-DFD2B4EE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96D41-CDEF-4F6B-9052-8D7EAB79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862C8-7CC4-42D2-8B0E-68B44B14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3CD06-ED04-4EB2-9CE8-ADD8800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60EB1-45C7-41E6-ADC3-16C081FB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C1D55-1452-43BE-8B27-0087980C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FDF84-8EE2-4CA7-9EE0-42891D00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D6A48-F57F-4E63-BBBD-037DC5CB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5A959-443D-4B84-9B94-4DDCE5A4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4A8A5-3AE5-4D95-9211-A5153759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8B230-42D8-4AAD-B4F3-5B3995EA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0F5D4-0987-49D2-A3CC-D0AB7634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6B137-63FF-492C-8BBE-6B71F94C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01533-B6D7-4591-A5F1-D2A83AF4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C8B9E-D28F-41E3-B19A-10D8DC02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7713D-0B65-4846-82BE-6E02C88A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2FE66-1E9A-4299-B113-9A61D0B9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2B98E-7637-4F3E-ABD0-723C70CE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6172E-8993-47FD-8969-BC96CA30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A4D-4CA4-4F9A-8978-EDC90852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E35-63D9-419B-B03B-5FF52317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A87-93D7-48A7-97AE-47DBF667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617-C04D-471A-AAA2-E280FFE3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089-0B85-4B03-A95A-B944952C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173-721D-4217-8745-1C14AC68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E5D-294B-418F-8180-B8BAA92B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596-995D-4678-811F-5245C9D1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B25-2173-41F0-BE14-6021F73C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15E-31A8-4D55-8C38-4CC7E272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3FF-58C5-47F8-A879-FCB34D5C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DFF-95CA-40F7-AB44-938017C1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F0E9-0130-47A8-B57F-78756CA9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606F-D223-4C81-97AD-84873AE8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4DDD-B2CF-4623-981D-B816C9B7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A08C-7BBA-4420-AB8E-0739E440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3840-8002-46E3-BA66-2BFEC9E8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B1C4-4F9A-4388-9546-A20E1B06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974B-94CD-4A35-857D-1A5ABA47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171A-A424-4CAF-BDEA-11633DD9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51EF-D464-4B0A-962E-C6F0A30E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41F8-0B70-4D03-A49E-71D8FD7D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10CF-755A-4E5D-9615-1D92CBDD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7BD6-48C1-48A6-A6A2-EB808D52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ED12-2140-4DFA-ADDF-E74B3B00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0B27-D550-49F5-9F89-B93E3B7D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D1BD7-24A1-48F3-A279-09895F41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E120-A874-4E0F-9130-13AF540E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893B-D13C-4A6F-9EAE-6BDBAC28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934B-2204-4475-A1F4-57108207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C5C0-AFC1-4AF7-9FF7-BDF3E1E7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C18F-8C6F-4709-AC5C-9C080CFC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3197-ADE6-42C3-9F99-40D4C306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BC809-E3D0-4A17-AE46-1F75170F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436A-EA06-4A9F-9903-17106D7C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A6AB-D739-4B90-BC30-06E1836B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32DB-188D-4256-AE2F-6ED9F577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CA7AF-D610-469B-9742-BAD80EC0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47FE-A796-4058-8175-F8D5634F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F4DE-5E8A-4519-9999-BB276827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E929-72A6-40B3-90C1-9F94E53B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70F6-B538-4082-8800-461F838D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6619-3B45-4D70-8684-F1E75EF5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E125-6FB9-4014-B617-B576A81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F85E-0DAC-4473-92AA-F3BFFF82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FDF8B-AF33-4FD3-AEF2-87FDE92E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5E55B-2105-4967-937D-D102824F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942B4-DB2B-4329-B811-BC3E56FB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440FF-F8F9-466C-9E99-3EAC86CE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0E15A-6206-467E-B164-A2C064FA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DB96-A7D4-403F-9CD1-74557AAB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15F02-4869-4785-BC54-1327A161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1A402-19C1-4EED-A3FA-4F214905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A162-BE2F-459E-8D62-5C66516E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82E84-278F-43AE-BCB2-404889C8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75AC5-7D04-42E6-A60B-FEBA9FE2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27D09-518E-450E-A510-A195788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7825A-847F-425E-91C7-B7204450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9AFB5-505B-4C2C-9381-33909C65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A8CBD-0D51-4277-BB96-D76DAE1D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9298-1746-472C-9DDA-41FCA221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F83D2-A264-4269-A75E-D15A4895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7D43B-FD1F-42EB-90E4-0D1F3663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BE21-0EF0-4A4C-9CE7-8A2BD06264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3EC5-F67B-4370-8A5A-70FC4E758C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853C-2129-43E3-BA36-597B59CB0625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A5E2-55CC-429D-B4B5-CF144D24D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F47B-0097-48A4-9D83-E31C48151F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F949-455C-4E76-A778-C3641FAAE5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4B31-C514-40C2-9318-AB9C57ACAB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F802-2317-4FBF-B958-76E1406F7E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D4B4-F81F-4A55-A219-D10E9BAE17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0360" y="308592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5891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Dra Raimara Larreinaga Brunet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Dra Susel Quesada Peña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Dra Nora Lim Alonso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Dr Armando Pardo Núñez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Dr Livan Santana Chil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UCI 5to B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La Habana, 2020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1042920" cy="98748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"/>
          <p:cNvSpPr/>
          <p:nvPr/>
        </p:nvSpPr>
        <p:spPr>
          <a:xfrm>
            <a:off x="-34920" y="517680"/>
            <a:ext cx="95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Caracterización de las infecciones nosocomiales en una unidad de cuidados intensiv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Result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rcRect l="21439" t="28082" r="9198" b="14961"/>
          <a:stretch/>
        </p:blipFill>
        <p:spPr>
          <a:xfrm>
            <a:off x="0" y="1052640"/>
            <a:ext cx="92232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Result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rcRect l="21439" t="27439" r="5839" b="15918"/>
          <a:stretch/>
        </p:blipFill>
        <p:spPr>
          <a:xfrm>
            <a:off x="0" y="1181160"/>
            <a:ext cx="92869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Result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0" name="Picture 4" descr=""/>
          <p:cNvPicPr/>
          <p:nvPr/>
        </p:nvPicPr>
        <p:blipFill>
          <a:blip r:embed="rId1"/>
          <a:srcRect l="21203" t="29361" r="6080" b="16239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Result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rcRect l="21439" t="27761" r="5598" b="1528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Conclusion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rcRect l="21439" t="35761" r="7521" b="23918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Conclusion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1"/>
          <a:srcRect l="22162" t="34803" r="8239" b="19118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57200" y="1337760"/>
            <a:ext cx="8229600" cy="5092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"/>
          <p:cNvPicPr/>
          <p:nvPr/>
        </p:nvPicPr>
        <p:blipFill>
          <a:blip r:embed="rId2"/>
          <a:srcRect l="22611" t="34488" r="6435" b="16088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Introducció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8" name="CuadroTexto 10"/>
          <p:cNvSpPr/>
          <p:nvPr/>
        </p:nvSpPr>
        <p:spPr>
          <a:xfrm>
            <a:off x="439560" y="1390680"/>
            <a:ext cx="44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Problema científic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Rectángulo 2"/>
          <p:cNvSpPr/>
          <p:nvPr/>
        </p:nvSpPr>
        <p:spPr>
          <a:xfrm>
            <a:off x="250920" y="261792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¿Cuáles son las características de los pacientes con infecciones nosocomiales en la unidad de cuidados intensivos? ¿Existe relación entre la estadía hospitalaria y los índices pronósticos APACHE II y SOFA; y entre los tipos de infección y el estado al egreso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Introducció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28680" y="134100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CuadroTexto 10"/>
          <p:cNvSpPr/>
          <p:nvPr/>
        </p:nvSpPr>
        <p:spPr>
          <a:xfrm>
            <a:off x="324000" y="1849320"/>
            <a:ext cx="38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Genera</a:t>
            </a:r>
            <a:r>
              <a:rPr b="1" lang="es-ES" sz="3200" spc="-1" strike="noStrike">
                <a:solidFill>
                  <a:srgbClr val="411e13"/>
                </a:solidFill>
                <a:latin typeface="Arial"/>
                <a:ea typeface="Times New Roman"/>
              </a:rPr>
              <a:t>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Rectángulo 2"/>
          <p:cNvSpPr/>
          <p:nvPr/>
        </p:nvSpPr>
        <p:spPr>
          <a:xfrm>
            <a:off x="324000" y="32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Caracterizar los pacientes con infecciones nosocomiales en la terapia intensiva polivalent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Objetiv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0920" y="-1764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81040" y="1077840"/>
            <a:ext cx="82296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CuadroTexto 10"/>
          <p:cNvSpPr/>
          <p:nvPr/>
        </p:nvSpPr>
        <p:spPr>
          <a:xfrm>
            <a:off x="838080" y="1195560"/>
            <a:ext cx="38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Específic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Rectángulo 2"/>
          <p:cNvSpPr/>
          <p:nvPr/>
        </p:nvSpPr>
        <p:spPr>
          <a:xfrm>
            <a:off x="658800" y="2060640"/>
            <a:ext cx="805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616"/>
                </a:solidFill>
                <a:latin typeface="Arial"/>
                <a:ea typeface="Times New Roman"/>
              </a:rPr>
              <a:t>Describir las pacientes según aspectos demográficos y clín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 algn="just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616"/>
                </a:solidFill>
                <a:latin typeface="Arial"/>
                <a:ea typeface="Times New Roman"/>
              </a:rPr>
              <a:t>Determinar la incidencia global de infección nosocom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 algn="just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616"/>
                </a:solidFill>
                <a:latin typeface="Arial"/>
                <a:ea typeface="Times New Roman"/>
              </a:rPr>
              <a:t>Identificar la frecuencia de las infecciones nosocomiales según tipo y dispositiv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 algn="just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616"/>
                </a:solidFill>
                <a:latin typeface="Arial"/>
                <a:ea typeface="Times New Roman"/>
              </a:rPr>
              <a:t>Identificar la posible relación entre la estadía hospitalaria en terapia intensiva polivalente, el tiempo de uso de los dispositivos y los índices pronósticos APACHE II y SOF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 algn="just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616"/>
                </a:solidFill>
                <a:latin typeface="Arial"/>
                <a:ea typeface="Times New Roman"/>
              </a:rPr>
              <a:t>Identificar la posible relación entre los tipos de infección y el estado al egres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1 Título"/>
          <p:cNvSpPr/>
          <p:nvPr/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Objetiv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Material y méto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rcRect l="19762" t="35761" r="5121" b="1848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Material y méto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rcRect l="23121" t="34803" r="10162" b="1528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Material y méto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"/>
          <a:srcRect l="21203" t="35565" r="6321" b="26803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Result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rcRect l="23844" t="33839" r="5121" b="14961"/>
          <a:stretch/>
        </p:blipFill>
        <p:spPr>
          <a:xfrm>
            <a:off x="0" y="1111320"/>
            <a:ext cx="914400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Raimy</cp:lastModifiedBy>
  <dcterms:modified xsi:type="dcterms:W3CDTF">2020-11-05T02:52:49Z</dcterms:modified>
  <cp:revision>95</cp:revision>
  <dc:subject/>
  <dc:title>PowerPoint Template</dc:title>
</cp:coreProperties>
</file>