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17253-EBEC-400A-906A-B7B52954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077F4-B463-48B8-BD8C-B005D419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9BB3-3104-4EC2-9FD2-F4CC6309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E88E6-77A4-4F1A-99D3-A49B82F5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0417D-B68C-42B0-BDBF-698DCCC8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8E1E6-B3CE-41A0-8C5E-AEEA8808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CF4C7-069C-40BC-8D04-42F167D0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755F6-71C3-458B-B35B-AC6AE346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070E6-A056-4F6F-BC56-D6A72344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F780A-3E4A-4A99-851C-F330C131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47CB0-A8F9-4626-ACE8-8391A13E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67D8-948F-45AE-9449-8487F6A8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3E148-B7AA-440B-81CF-5692151A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B5579-3E25-479A-871B-B042A215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9636-4BA4-49F3-938A-CDDC1422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02382-2911-4236-B9C9-AFF49E3A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0D714-97CF-4CB6-9246-4AC26A10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3929E-F3DA-4EF8-BA63-41B4FE91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1A818-E1FE-49A9-8050-CD4B69EB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77657-98DF-45CA-8518-EBED673D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EEF36-36F6-4134-9801-46BE13EC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C97E3-F99B-4AC4-AC1D-93332A35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EE962-38A5-4814-B37B-91BAA764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55D91-B06C-487A-888A-493195F0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B0281-62AE-42B4-9B62-3086610E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7450-AB41-47FF-AB3D-FC0AA70E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641EE-E662-49C3-B4F3-EB07A41C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E20FD-1A47-4527-9318-3F980A66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99509-589E-4A21-88D0-AE924834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92548-C2C4-4EB6-A1FE-6CEF93C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56BD1-F760-4FF2-AC0E-CEA1BA8A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9D2C4-D67C-40B5-9FA6-62182DE2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85308-EE79-416F-9EFF-AB88A0E8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357B5-1AD2-43AC-AB43-E6CB3371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EE569-8D87-4B47-B63C-B670784E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FBF38-BCDA-4FC5-A4DF-94CBAF0C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DFB35-A093-45B4-891C-F72B3598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D8F33-4FE1-450F-9FFD-64F3E912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F262D-1F3E-42A1-BBA0-4B3C91A1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1C78D-D113-4B69-A0A2-9B7ACC50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7B5CE-4320-4FCB-B631-6B830F89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5ADE3-C613-4545-A6D3-2B1CE73E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0001D-5F2B-405B-8927-74BF0F23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9BD7D-8066-417F-8FCA-4344A57F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75CA4-4884-4F84-BD75-9405EFDA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A0C-8324-4DDD-9529-99155247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9CE-4B40-4101-AA10-7874CB39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97F-C1C0-47F8-8E34-E3057741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AB6-2D8F-4330-9BC9-DC207B8B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D41-7FE5-425F-9921-1C44D20D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90C-F0BE-4A2F-8D87-83CD3200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B84-5630-41C3-BE4F-DF094BD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407-EC73-4EEC-A793-82A6D6F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383-EDB9-4E2E-BFCD-BD09D245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8C0-B0BA-4CC9-806D-4865E0B7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A94-4203-43C1-A1A0-F8AAD667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F59-D26B-4FEF-8067-687DAED8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0FBC-32CC-4A96-A8AC-02D4DA79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2F06-6C1A-4F31-B194-1687109A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1DC8-1ED3-45F0-BE8A-463E1F7E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39DF-8CD2-4BF5-8972-549B29CF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60F3-B43C-4745-82C1-DEE8C807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CBD5-58BA-44D2-8615-3CC1479A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4161-4239-498A-8E9D-68AA743B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C608-D651-42C7-8125-62C66910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4093-91C2-4144-8A16-1B5661B5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BA35-3B4E-44E2-A21C-E71FA570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222C-2A2A-4701-9A18-AB0E5E18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2662-E4D0-485F-B77F-26C06A7B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0917-8774-4AB6-99D7-C7E190A2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7C3F3-F0E7-47DB-9C88-900E68DA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5E40-C197-4FFA-85B2-472FDDB4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9E9C-1420-4774-8F98-0681CC60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CA74-2683-46F0-AF49-4A479059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F641-3C9E-4919-B0A8-83B9E54C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CE952-671C-40F6-AC8B-1B031E9C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FFDF-C068-46B2-9C2D-5F538291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428D7-160D-4E84-863B-E24495D1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877F-F882-4AD4-8689-AF85C845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D7CCA-5167-4755-9B2D-8582B444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8D4BC-ACCE-413C-AB0E-22D5F821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CBE08-78E3-446F-A0B4-50BA1778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54AB6-1D02-4649-BEBC-42560D20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BC21-F7FE-4656-8C20-E51FE757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08578-182B-4B4D-B7C5-94B7429E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15897-58E1-4B03-BEAB-9A1437B8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8ADE-5AE4-41CF-8CB0-868DD0CB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5B601-49B5-4743-9B77-2800BC62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DE63-976C-43F1-B0F8-CF6940A9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D3389-3BF7-4E06-8CF4-2EBA6B0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00A43-AFF3-4CD9-81D0-C1521678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BE238-70D4-47EE-B118-7EE8F674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D0DF-4847-4F1E-A994-DC8BAB95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3E2F-9984-4B0A-8DD1-E8C1DA73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DAB8-5D11-4739-A99F-21A01F95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B042D-B320-49E5-B109-318AB8B5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0B26D-B7BA-4E44-B1AF-656580D3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2252D-70F8-4D64-94CB-EC78F478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2E6B4-217D-446A-9D9D-DB8FAEC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8804B-5D81-423F-9BA1-CC64534A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6E1D1-32E2-4C1B-91A9-EBE90B8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48FBA-4F57-4C17-8CC4-72518A91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1D482-0AFE-410E-8F37-28E66CB0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19AC-81C9-4F3F-8E3B-6DBDBA3C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AF00E-B352-4984-960C-78FEB5A2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7E73C-E35E-4B17-882B-950F9A8B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2A1AB-29CC-495C-8F17-32475345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B66E0-E1E6-482B-93ED-55F2EFD9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598C-C776-42B1-B9E5-878F1489DC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0C04-96FE-45E0-B1AA-E3F1B45824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08E0-1958-45B6-8382-E26D7F490C26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4DEA-87A5-4E1B-8310-CE28C2238F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6476-1CE2-4320-B906-301278DEF1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91D6-D077-4739-8B01-8FF424D447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341A-05B6-4323-9ABD-2EB271F143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B2E7-4740-4B5E-8103-4102CD6021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08C5-A8CF-453C-8957-55EA0EA399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0360" y="308592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58910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Dra Raimara Larreinaga Brunet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Dra Susel Quesada Peña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Dra Nora Lim Alonso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Dr Armando Pardo Núñez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Dr Livan Santana Chil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   </a:t>
            </a:r>
            <a:r>
              <a:rPr b="1" i="1" lang="en-US" sz="1800" spc="-1" strike="noStrike">
                <a:solidFill>
                  <a:srgbClr val="003366"/>
                </a:solidFill>
                <a:latin typeface="Calibri"/>
                <a:ea typeface="Calibri"/>
              </a:rPr>
              <a:t>UCI 5to B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La Habana, 2020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1042920" cy="98748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"/>
          <p:cNvSpPr/>
          <p:nvPr/>
        </p:nvSpPr>
        <p:spPr>
          <a:xfrm>
            <a:off x="-34920" y="517680"/>
            <a:ext cx="95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Caracterización de las infecciones nosocomiales en una unidad de cuidados intensiv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Result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rcRect l="21439" t="28082" r="9198" b="14961"/>
          <a:stretch/>
        </p:blipFill>
        <p:spPr>
          <a:xfrm>
            <a:off x="0" y="1052640"/>
            <a:ext cx="92232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Result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rcRect l="21439" t="27439" r="5839" b="15918"/>
          <a:stretch/>
        </p:blipFill>
        <p:spPr>
          <a:xfrm>
            <a:off x="0" y="1181160"/>
            <a:ext cx="92869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Result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0" name="Picture 4" descr=""/>
          <p:cNvPicPr/>
          <p:nvPr/>
        </p:nvPicPr>
        <p:blipFill>
          <a:blip r:embed="rId1"/>
          <a:srcRect l="21203" t="29361" r="6080" b="16239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Result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rcRect l="21439" t="27761" r="5598" b="1528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Conclusion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rcRect l="21439" t="35761" r="7521" b="23918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Conclusion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1"/>
          <a:srcRect l="22162" t="34803" r="8239" b="19118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57200" y="1337760"/>
            <a:ext cx="8229600" cy="5092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"/>
          <p:cNvPicPr/>
          <p:nvPr/>
        </p:nvPicPr>
        <p:blipFill>
          <a:blip r:embed="rId2"/>
          <a:srcRect l="22611" t="34488" r="6435" b="16088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Introducció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8" name="CuadroTexto 10"/>
          <p:cNvSpPr/>
          <p:nvPr/>
        </p:nvSpPr>
        <p:spPr>
          <a:xfrm>
            <a:off x="439560" y="1390680"/>
            <a:ext cx="44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Problema científic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Rectángulo 2"/>
          <p:cNvSpPr/>
          <p:nvPr/>
        </p:nvSpPr>
        <p:spPr>
          <a:xfrm>
            <a:off x="250920" y="261792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¿Cuáles son las características de los pacientes con infecciones nosocomiales en la unidad de cuidados intensivos? ¿Existe relación entre la estadía hospitalaria y los índices pronósticos APACHE II y SOFA; y entre los tipos de infección y el estado al egreso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Introducció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28680" y="134100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2" name="CuadroTexto 10"/>
          <p:cNvSpPr/>
          <p:nvPr/>
        </p:nvSpPr>
        <p:spPr>
          <a:xfrm>
            <a:off x="324000" y="1849320"/>
            <a:ext cx="38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Genera</a:t>
            </a:r>
            <a:r>
              <a:rPr b="1" lang="es-ES" sz="3200" spc="-1" strike="noStrike">
                <a:solidFill>
                  <a:srgbClr val="411e13"/>
                </a:solidFill>
                <a:latin typeface="Arial"/>
                <a:ea typeface="Times New Roman"/>
              </a:rPr>
              <a:t>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Rectángulo 2"/>
          <p:cNvSpPr/>
          <p:nvPr/>
        </p:nvSpPr>
        <p:spPr>
          <a:xfrm>
            <a:off x="324000" y="32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Caracterizar los pacientes con infecciones nosocomiales en la terapia intensiva polivalent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Objetiv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10920" y="-1764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81040" y="1077840"/>
            <a:ext cx="82296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7" name="CuadroTexto 10"/>
          <p:cNvSpPr/>
          <p:nvPr/>
        </p:nvSpPr>
        <p:spPr>
          <a:xfrm>
            <a:off x="838080" y="1195560"/>
            <a:ext cx="38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Arial"/>
                <a:ea typeface="Times New Roman"/>
              </a:rPr>
              <a:t>Específic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Rectángulo 2"/>
          <p:cNvSpPr/>
          <p:nvPr/>
        </p:nvSpPr>
        <p:spPr>
          <a:xfrm>
            <a:off x="658800" y="2060640"/>
            <a:ext cx="805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616"/>
                </a:solidFill>
                <a:latin typeface="Arial"/>
                <a:ea typeface="Times New Roman"/>
              </a:rPr>
              <a:t>Describir las pacientes según aspectos demográficos y clín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 algn="just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616"/>
                </a:solidFill>
                <a:latin typeface="Arial"/>
                <a:ea typeface="Times New Roman"/>
              </a:rPr>
              <a:t>Determinar la incidencia global de infección nosocom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 algn="just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616"/>
                </a:solidFill>
                <a:latin typeface="Arial"/>
                <a:ea typeface="Times New Roman"/>
              </a:rPr>
              <a:t>Identificar la frecuencia de las infecciones nosocomiales según tipo y dispositiv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 algn="just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616"/>
                </a:solidFill>
                <a:latin typeface="Arial"/>
                <a:ea typeface="Times New Roman"/>
              </a:rPr>
              <a:t>Identificar la posible relación entre la estadía hospitalaria en terapia intensiva polivalente, el tiempo de uso de los dispositivos y los índices pronósticos APACHE II y SOF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 algn="just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616"/>
                </a:solidFill>
                <a:latin typeface="Arial"/>
                <a:ea typeface="Times New Roman"/>
              </a:rPr>
              <a:t>Identificar la posible relación entre los tipos de infección y el estado al egres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1 Título"/>
          <p:cNvSpPr/>
          <p:nvPr/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Objetiv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Material y méto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rcRect l="19762" t="35761" r="5121" b="1848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Material y méto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rcRect l="23121" t="34803" r="10162" b="1528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Material y méto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"/>
          <a:srcRect l="21203" t="35565" r="6321" b="26803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61616"/>
                </a:solidFill>
                <a:latin typeface="Verdana"/>
              </a:rPr>
              <a:t>Result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rcRect l="23844" t="33839" r="5121" b="14961"/>
          <a:stretch/>
        </p:blipFill>
        <p:spPr>
          <a:xfrm>
            <a:off x="0" y="1111320"/>
            <a:ext cx="914400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Raimy</cp:lastModifiedBy>
  <dcterms:modified xsi:type="dcterms:W3CDTF">2020-11-05T02:52:49Z</dcterms:modified>
  <cp:revision>95</cp:revision>
  <dc:subject/>
  <dc:title>PowerPoint Template</dc:title>
</cp:coreProperties>
</file>