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28"/>
          </p:nvPr>
        </p:nvSpPr>
        <p:spPr>
          <a:xfrm>
            <a:off x="4022280" y="0"/>
            <a:ext cx="3078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Img"/>
          </p:nvPr>
        </p:nvSpPr>
        <p:spPr>
          <a:xfrm>
            <a:off x="1526760" y="1123560"/>
            <a:ext cx="404820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ftr" idx="29"/>
          </p:nvPr>
        </p:nvSpPr>
        <p:spPr>
          <a:xfrm>
            <a:off x="0" y="8540280"/>
            <a:ext cx="30780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 type="sldNum" idx="30"/>
          </p:nvPr>
        </p:nvSpPr>
        <p:spPr>
          <a:xfrm>
            <a:off x="4022280" y="8540280"/>
            <a:ext cx="30783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5A86-12F9-4FF7-8F6B-19FE78F921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3 Marcador de número de diapositiva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44DD-30DA-4F23-BAB3-3CAD5C8E99E9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7BA8D-E53D-400D-87DC-1A657BED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5A1D7-3AB3-49C9-8376-99B6AEDD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262C7-ED99-4551-9105-EAAACAF9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1E4FA-2F43-4518-9CA5-162EC5B2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AFC9-7B7C-4B60-B732-693F028D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4DDBC-F5BA-4B58-AA6D-1761B865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E7DC6-8BE1-44FE-8791-7FACA71E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9443C-624A-4352-AB1D-11EF7734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E6DF4-2DDF-4A13-A4A5-E27393AB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F7FC2-185D-4180-A5D4-5A82A277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C54A9-3C0A-4CFB-956D-CBFA9EE1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7C91E-CB0F-47A8-B32F-FDE1D366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8B56F-88B2-4C17-A90B-A113DED3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59FA9-8B21-4DFC-BC1D-05DBE0E1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8F510-1BE9-43E5-8616-455C8F3D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C7D31-0A8F-4269-97C8-F2A68D3D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F0A12-5B51-4BC8-87EE-3D424F6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F0111-92B4-4C16-841C-99CB7D26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2C46F-B631-495C-8E3F-19B4B6E1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3C327-7A2E-42AC-A2F8-CB7991D1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63515-AA1A-44A0-B31B-6D49B360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84149-FA5E-4FA7-88EE-7EBEF5C8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B7927-8EA5-42CB-BFDD-6F2AA372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F6DF9-4EAD-4FE3-AD55-3346EB11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88424-E576-4C73-B59A-2EFF2479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F18ED-12D3-4230-ADEE-791C19C5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768FD-DC03-4374-8F7E-5CF5110B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11A32-8F71-4062-A1CB-419E0607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01C83-B229-429D-A361-E6B79C9B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0A89C-CE3B-4D1F-83C4-7984C90F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F2CB0-EB50-4232-AF09-F8A379E6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744FE-B9F7-43C2-8E64-539BA783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328C2-F4E3-43F4-909C-88299CA4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12656-AEAB-4864-B8BB-7AAC4238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FE43E-41F6-4768-9249-C86D7C69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DAE94-AAFF-4B31-A23C-517534D6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EA55D-137C-40EB-88D1-79E7B884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49D4B-F5A2-4EB5-AB6D-DE35A69A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262C5-E938-494F-9604-7A231866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DA4B7-97BD-48FF-B940-85FE8E64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F1277-DF12-42E5-86B9-797DC4C1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1F171-6DDF-421B-B526-6EEC5836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F12FC-BFC8-4742-9DB5-2EBBF0A4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849B0-E77C-4FCE-AD8A-99EFB7B7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9E512-41EC-45A0-BDEE-5C9B55A3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D4F-C34B-4156-B677-57BE92CB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5BF-FD8A-420C-A125-A10D0505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A94-7EBA-4EE2-9592-F63987F8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A78-71C0-4869-8F2B-A3ED97E4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203-3F1D-4371-8EDC-07B15418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87A-CCAC-4E03-A8BB-383E59D6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D1D-44BA-4547-9687-DA6B945D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632-5249-46CC-A296-A91B2FC3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89C-579A-41AD-AA8B-D82F2C54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F3F-08D3-45DF-B277-CFF5BF10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DBE-B818-4EFE-888F-201C18C3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D19-BEE7-4492-B44F-9B3D626A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F90A-C726-4C2C-BA59-B22A1016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03C1-0B0E-4242-8736-5A717EB5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B6F9-79D0-4455-AFEF-FA184A17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F4C0-798A-4F6D-A11B-5E59EAFC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EE38-944D-40A8-BC6E-BFA5EFA0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3A7B-A816-449D-9015-0697A4AA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BF90-1D05-4C72-94B4-1CD032DE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0C2C-8076-4C51-ACD9-B0EA9876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2BE9-CC7B-40A2-9539-8C79312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1177-31EF-4F0E-981B-426E7223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8381-4215-4F0B-A369-B18C5E45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A7C6-1DEE-41DA-9304-C50E9754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A4D6-87C5-4837-946D-909C0BA7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F2DD-2C00-4ECA-968D-76B2C29E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D7E9-E849-4E58-85D6-0958B6AA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3DB68-D8C7-4B7A-97D6-0E364CDF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A132-8486-409A-93F2-3677A1FF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FD31-C102-435F-83CB-CA175C21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7B96-69AF-4024-84B5-7D3DA637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ABF5-F617-429B-A4E4-0B00707A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C034-5DB5-499D-98C1-1C4C67A9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0A05-71C0-4120-81F1-0781621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3AC31-45F2-4DE0-A414-2986B17D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A697F-A4A7-45C3-81A2-02A8E927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DE085-389E-4B36-B5B1-8F7CDF8A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5E14-3472-4AC7-81EB-DA94117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1D0D0-175B-4E81-A1D4-D128558F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02A94-3264-496B-ACA9-0894FE3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FF2B-E818-4BCB-AD88-D7EF4F8A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2D554-8C54-46BA-A19D-FD21BD9D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B8342-053B-40BF-A863-3DD3ADF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83C7-01C1-48C5-B21A-168D8AAD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0307E-9083-4555-B5E0-495D3A84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F2C47-8C40-4B34-92F6-3F9DBA2E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0A564-AF35-499F-97AB-C703576B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2D8B8-F52B-4D6D-86E3-6CA8BC38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1BF78-FF11-4FA6-96EC-32139FFF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6C77F-45DC-49D6-B840-47A2EB05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DD3C0-3393-4036-BAAE-96655FF4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B10EF-E206-4431-93D7-E88A22D7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89080-73FC-4ED5-A4BC-DAD530BF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FD70C-D331-42EA-BB1B-71C7E94E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CC8A8-5FB1-4857-886C-C2D26BF6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5A573-9891-4497-AB7F-D2C43F7A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E90E3-5B59-483E-82A1-7A46EE8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D6FF0-FFC5-4838-AF34-D28DCB07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DF5E3-821D-4242-8CEA-C96E3185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D0DB5-5001-4DB1-BFA2-B45C93F0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F0877-E43D-4E69-A30B-29DA0CE0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FF8A0-B632-46D6-B9AE-A3EA4987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07F40-1A82-461F-8EAC-78D766FD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2D7F-1B9E-4822-B739-E3C1A67F76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7D72-F472-4C61-B8B0-7C0A379EA5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3B63-0B9D-493A-90AA-3C97B4AFB5E7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095800" y="165240"/>
            <a:ext cx="363384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49F8-DD60-4E76-91AE-9E500349E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73B3-7F10-451A-83BB-55F85ADB82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3081-28E0-4BEA-99A4-98002D2677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82D1-68BA-4EF2-8D6D-95B7ABF643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E680-426B-4A7F-B397-0E69DF5F7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7B1E-CEAE-4FEB-B4AA-290FC9BD4C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394920" y="4220640"/>
            <a:ext cx="58914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Autores:   Dr. 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William Chávez Torre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a. Ileidy Vega 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Rodríguez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a. Denenke Basanta Bergolla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. Pedro Pablo Pino Alfonso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. Laura Hern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á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ndez Moreno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Servicio de Neumología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La Habana, 2020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9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  <p:sp>
        <p:nvSpPr>
          <p:cNvPr id="530" name="4 Rectángulo"/>
          <p:cNvSpPr/>
          <p:nvPr/>
        </p:nvSpPr>
        <p:spPr>
          <a:xfrm>
            <a:off x="285840" y="1357200"/>
            <a:ext cx="492912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900" spc="-1" strike="noStrike">
                <a:solidFill>
                  <a:srgbClr val="003366"/>
                </a:solidFill>
                <a:latin typeface="Calisto MT"/>
              </a:rPr>
              <a:t>CARAC</a:t>
            </a:r>
            <a:r>
              <a:rPr b="0" lang="es-EC" sz="1900" spc="-1" strike="noStrike">
                <a:solidFill>
                  <a:srgbClr val="003366"/>
                </a:solidFill>
                <a:latin typeface="Calisto MT"/>
              </a:rPr>
              <a:t>T</a:t>
            </a:r>
            <a:r>
              <a:rPr b="1" lang="es-EC" sz="1900" spc="-1" strike="noStrike">
                <a:solidFill>
                  <a:srgbClr val="003366"/>
                </a:solidFill>
                <a:latin typeface="Calisto MT"/>
              </a:rPr>
              <a:t>ERIZACIÓN CLÍNICO, IMAGENOLÓGICO Y ESPIROMÉTRICO DE LOS PACIENTES CON ENFERMEDADES PULMONARES INTERSTICIALES DIFUSA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0" name="Gráfico 8" descr=""/>
          <p:cNvPicPr/>
          <p:nvPr/>
        </p:nvPicPr>
        <p:blipFill>
          <a:blip r:embed="rId1"/>
          <a:stretch/>
        </p:blipFill>
        <p:spPr>
          <a:xfrm>
            <a:off x="0" y="0"/>
            <a:ext cx="8869320" cy="6022800"/>
          </a:xfrm>
          <a:prstGeom prst="rect">
            <a:avLst/>
          </a:prstGeom>
          <a:ln w="0">
            <a:noFill/>
          </a:ln>
        </p:spPr>
      </p:pic>
      <p:sp>
        <p:nvSpPr>
          <p:cNvPr id="561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3 Rectángulo"/>
          <p:cNvSpPr/>
          <p:nvPr/>
        </p:nvSpPr>
        <p:spPr>
          <a:xfrm>
            <a:off x="500040" y="11430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4" name="Gráfico 8" descr=""/>
          <p:cNvPicPr/>
          <p:nvPr/>
        </p:nvPicPr>
        <p:blipFill>
          <a:blip r:embed="rId1"/>
          <a:stretch/>
        </p:blipFill>
        <p:spPr>
          <a:xfrm>
            <a:off x="0" y="0"/>
            <a:ext cx="9015480" cy="6053040"/>
          </a:xfrm>
          <a:prstGeom prst="rect">
            <a:avLst/>
          </a:prstGeom>
          <a:ln w="0">
            <a:noFill/>
          </a:ln>
        </p:spPr>
      </p:pic>
      <p:sp>
        <p:nvSpPr>
          <p:cNvPr id="565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Rectángulo 4"/>
          <p:cNvSpPr/>
          <p:nvPr/>
        </p:nvSpPr>
        <p:spPr>
          <a:xfrm>
            <a:off x="2928960" y="2928960"/>
            <a:ext cx="1500120" cy="3000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0" name="Gráfico 7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5931000"/>
          </a:xfrm>
          <a:prstGeom prst="rect">
            <a:avLst/>
          </a:prstGeom>
          <a:ln w="0">
            <a:noFill/>
          </a:ln>
        </p:spPr>
      </p:pic>
      <p:sp>
        <p:nvSpPr>
          <p:cNvPr id="571" name="Rectángulo 4"/>
          <p:cNvSpPr/>
          <p:nvPr/>
        </p:nvSpPr>
        <p:spPr>
          <a:xfrm>
            <a:off x="3929040" y="3071880"/>
            <a:ext cx="1428840" cy="285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4" name="Gráfico 9" descr=""/>
          <p:cNvPicPr/>
          <p:nvPr/>
        </p:nvPicPr>
        <p:blipFill>
          <a:blip r:embed="rId1"/>
          <a:stretch/>
        </p:blipFill>
        <p:spPr>
          <a:xfrm>
            <a:off x="0" y="0"/>
            <a:ext cx="8942400" cy="6102360"/>
          </a:xfrm>
          <a:prstGeom prst="rect">
            <a:avLst/>
          </a:prstGeom>
          <a:ln w="0">
            <a:noFill/>
          </a:ln>
        </p:spPr>
      </p:pic>
      <p:sp>
        <p:nvSpPr>
          <p:cNvPr id="575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Rectángulo 5"/>
          <p:cNvSpPr/>
          <p:nvPr/>
        </p:nvSpPr>
        <p:spPr>
          <a:xfrm>
            <a:off x="395280" y="1125360"/>
            <a:ext cx="849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Calibri"/>
              </a:rPr>
              <a:t>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9" name="Gráfico 8" descr=""/>
          <p:cNvPicPr/>
          <p:nvPr/>
        </p:nvPicPr>
        <p:blipFill>
          <a:blip r:embed="rId1"/>
          <a:stretch/>
        </p:blipFill>
        <p:spPr>
          <a:xfrm>
            <a:off x="0" y="0"/>
            <a:ext cx="9015480" cy="6095880"/>
          </a:xfrm>
          <a:prstGeom prst="rect">
            <a:avLst/>
          </a:prstGeom>
          <a:ln w="0">
            <a:noFill/>
          </a:ln>
        </p:spPr>
      </p:pic>
      <p:sp>
        <p:nvSpPr>
          <p:cNvPr id="580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4 Rectángulo"/>
          <p:cNvSpPr/>
          <p:nvPr/>
        </p:nvSpPr>
        <p:spPr>
          <a:xfrm>
            <a:off x="214200" y="1285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 Black"/>
              </a:rPr>
              <a:t>CONCLUSIONES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3 Rectángulo"/>
          <p:cNvSpPr/>
          <p:nvPr/>
        </p:nvSpPr>
        <p:spPr>
          <a:xfrm>
            <a:off x="285840" y="1785960"/>
            <a:ext cx="8501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3366"/>
                </a:solidFill>
                <a:latin typeface="Arial"/>
              </a:rPr>
              <a:t>Predominó el sexo masculino, con edad comprendida de 70 años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 y </a:t>
            </a:r>
            <a:r>
              <a:rPr b="1" lang="es-MX" sz="23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1" lang="es-MX" sz="2300" spc="-1" strike="noStrike">
                <a:solidFill>
                  <a:srgbClr val="003366"/>
                </a:solidFill>
                <a:latin typeface="Arial"/>
              </a:rPr>
              <a:t>s,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 siendo</a:t>
            </a: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 la disnea síntoma principal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La FPI fue el tipo de EPID que m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s se evidenció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Se obtuvo con más frecuencia un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 patrón restrictivo, existiendo </a:t>
            </a: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un predominio en alteración, en los 2/3 inferiores de los pulmones correlacion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ndose con la severidad moderada como predominant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La complicación m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s frecuente fue las infecciones respiratorias bajas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214200" y="1357200"/>
            <a:ext cx="8642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NTRODUCCIÓN: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4 Rectángulo"/>
          <p:cNvSpPr/>
          <p:nvPr/>
        </p:nvSpPr>
        <p:spPr>
          <a:xfrm>
            <a:off x="214200" y="1928880"/>
            <a:ext cx="850104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as enfermedades intersticiales pulmonares difusas (EPID) constituyen un grupo de entidades clínico-patológicas, muy heterogéneo, pero que tienen manifestaciones clínicas, radiológicas y funcionales comunes, que afectan de forma difusa a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rénquima pulmon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os datos sobre incidencia, prevalencia, complicaciones, y mortalidad, así como los estudios epidemiológicos que describen el comportamiento de las EPID a nivel poblacional, tanto en cuba como en otros países son escas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4 Rectángulo"/>
          <p:cNvSpPr/>
          <p:nvPr/>
        </p:nvSpPr>
        <p:spPr>
          <a:xfrm>
            <a:off x="214200" y="1643040"/>
            <a:ext cx="85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En general, en Estados Unidos las EPID en mayores de 18 años es de 81 por 100.000 en los hombres y 67 por 100.000en las mujer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En Europa se han realizado estudios epidemiológicos en el Reino Unido,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bservándose una incidencia de 3-6 casos/100.000 h, correspondiendo a 5.000 casos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en este orden, la fibrosis pulmonar idiopática, la sarcoidosis, la neumonía organizada criptogénica, las EPID asociadas con enfermedades del colágeno y las neumonitis por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persensibilida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Varios estudios epidemiológicos en España revelan una incidencia de EPID de 3 casos/100.000 habitantes por año, siendo las neumopatías intersticiales idiopáticas (NII) las más frecuentemente observadas (fibrosis pulmonar idiopática [FPI]-29,5%, seguido de sarcoidosis [15,2%] y EPID asociada a conectivopatías [13,3%]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179280" y="1197000"/>
            <a:ext cx="864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NTRODUCCIÓN: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3 Rectángulo"/>
          <p:cNvSpPr/>
          <p:nvPr/>
        </p:nvSpPr>
        <p:spPr>
          <a:xfrm>
            <a:off x="285840" y="1857240"/>
            <a:ext cx="864396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 Black"/>
              </a:rPr>
              <a:t>Preguntas de la investigació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3366"/>
                </a:solidFill>
                <a:latin typeface="Arial"/>
                <a:ea typeface="Arial"/>
              </a:rPr>
              <a:t>¿Qué manifestaciones, clínicas, imagenológicas, y espirométricas, caracterizan a los pacientes con diagnóstico de EPID ingresados en el </a:t>
            </a:r>
            <a:r>
              <a:rPr b="1" lang="es-EC" sz="2400" spc="-1" strike="noStrike">
                <a:solidFill>
                  <a:srgbClr val="003366"/>
                </a:solidFill>
                <a:latin typeface="Arial"/>
                <a:ea typeface="Cambria"/>
              </a:rPr>
              <a:t>Servicio de Neumología del Hospital Clínico Quirúrgico Hermanos Ameijeiras?</a:t>
            </a:r>
            <a:r>
              <a:rPr b="1" lang="es-EC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3 Rectángulo"/>
          <p:cNvSpPr/>
          <p:nvPr/>
        </p:nvSpPr>
        <p:spPr>
          <a:xfrm>
            <a:off x="214200" y="1214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3366"/>
                </a:solidFill>
                <a:latin typeface="Arial Black"/>
              </a:rPr>
              <a:t>OBJETIVO GENERAL: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4 Rectángulo"/>
          <p:cNvSpPr/>
          <p:nvPr/>
        </p:nvSpPr>
        <p:spPr>
          <a:xfrm>
            <a:off x="324000" y="1700280"/>
            <a:ext cx="846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3366"/>
                </a:solidFill>
                <a:latin typeface="Arial"/>
              </a:rPr>
              <a:t>Describir las características de los pacientes con diagnóstico de Enfermedades Pulmonares Intersticiales Difusas (EPID)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8 Rectángulo"/>
          <p:cNvSpPr/>
          <p:nvPr/>
        </p:nvSpPr>
        <p:spPr>
          <a:xfrm>
            <a:off x="324000" y="2924280"/>
            <a:ext cx="55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200" spc="-1" strike="noStrike">
                <a:solidFill>
                  <a:srgbClr val="003366"/>
                </a:solidFill>
                <a:latin typeface="Arial Black"/>
              </a:rPr>
              <a:t>OBJETIVOS ESPECÍFICOS: </a:t>
            </a:r>
            <a:br>
              <a:rPr sz="22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9 Rectángulo"/>
          <p:cNvSpPr/>
          <p:nvPr/>
        </p:nvSpPr>
        <p:spPr>
          <a:xfrm>
            <a:off x="179280" y="3284640"/>
            <a:ext cx="88218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003366"/>
                </a:solidFill>
                <a:latin typeface="Arial"/>
              </a:rPr>
              <a:t>Caracterizar a los pacientes según variables demográficas, clínicas, y funcionales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003366"/>
                </a:solidFill>
                <a:latin typeface="Arial"/>
              </a:rPr>
              <a:t>Identificar los tipos de EPID presentes en la población estudiada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003366"/>
                </a:solidFill>
                <a:latin typeface="Arial"/>
              </a:rPr>
              <a:t>Identificar la relación existente entre los hallazgos obtenidos con la espirometría forzada (severidad funcional) y la extensión imagenológica de la enfermedad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003366"/>
                </a:solidFill>
                <a:latin typeface="Arial"/>
              </a:rPr>
              <a:t>Identificar las complicaciones asociadas a las EPID</a:t>
            </a:r>
            <a:r>
              <a:rPr b="0" lang="es-EC" sz="2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3 Rectángulo"/>
          <p:cNvSpPr/>
          <p:nvPr/>
        </p:nvSpPr>
        <p:spPr>
          <a:xfrm>
            <a:off x="214200" y="1285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 Black"/>
              </a:rPr>
              <a:t>DISEÑO METODOLÓGICO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4 Rectángulo"/>
          <p:cNvSpPr/>
          <p:nvPr/>
        </p:nvSpPr>
        <p:spPr>
          <a:xfrm>
            <a:off x="357120" y="1714680"/>
            <a:ext cx="860580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 realiz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ó un estudio analítico, observacional, prospectivo, longitudinal en pacientes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gresados en el servicio de neumología en el Hospital ¨Hermanos Ameijeiras¨ con diagnóstico, y sospecha clínica y imagenológica de Enfermedad Pulmonar Intersticial Difusa en el período octubre 2017 mayo 202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3366"/>
                </a:solidFill>
                <a:uFillTx/>
                <a:latin typeface="Arial"/>
              </a:rPr>
              <a:t>Universo: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ue el total de pacientes ingresados en sala de neumología con diagnóstico, y sospecha clínica y imagenológica de EPID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es-ES" sz="2100" spc="-1" strike="noStrike" u="sng">
                <a:solidFill>
                  <a:srgbClr val="003366"/>
                </a:solidFill>
                <a:uFillTx/>
                <a:latin typeface="Arial"/>
              </a:rPr>
              <a:t>muestra</a:t>
            </a:r>
            <a:r>
              <a:rPr b="1" lang="es-ES" sz="2100" spc="-1" strike="noStrike">
                <a:solidFill>
                  <a:srgbClr val="003366"/>
                </a:solidFill>
                <a:latin typeface="Arial"/>
              </a:rPr>
              <a:t> de estudio estuvo constituida por 55 pacientes que cumplieron los criterios del estudio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100" spc="-1" strike="noStrike">
                <a:solidFill>
                  <a:srgbClr val="003366"/>
                </a:solidFill>
                <a:latin typeface="Arial"/>
              </a:rPr>
              <a:t>Las variables estudiadas fueron: edad, sexo, </a:t>
            </a: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sintomas, tipo de EPID, tipo y severidad de disfunción ventilatoria y complicaciones presentes. 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285840" y="1571760"/>
            <a:ext cx="867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Criterios de inclus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dieron su consentimiento informado para participar en el estudi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• </a:t>
            </a:r>
            <a:r>
              <a:rPr b="1" lang="es-EC" sz="2000" spc="-1" strike="noStrike">
                <a:solidFill>
                  <a:srgbClr val="003366"/>
                </a:solidFill>
                <a:latin typeface="Arial"/>
              </a:rPr>
              <a:t>Pacientes con sospecha o diagnóstico de EPID ingresados en el Servicio de Neumologí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Criterios de exclus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cuyas planillas de recolección de datos no reflejen toda la información necesaria para dar respuesta a los objetivos de la investigació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no deseen participar en el estudi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Rectángulo 4"/>
          <p:cNvSpPr/>
          <p:nvPr/>
        </p:nvSpPr>
        <p:spPr>
          <a:xfrm>
            <a:off x="6643800" y="2500200"/>
            <a:ext cx="1726920" cy="3214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8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3" name="Gráfico 6" descr=""/>
          <p:cNvPicPr/>
          <p:nvPr/>
        </p:nvPicPr>
        <p:blipFill>
          <a:blip r:embed="rId1"/>
          <a:stretch/>
        </p:blipFill>
        <p:spPr>
          <a:xfrm>
            <a:off x="0" y="0"/>
            <a:ext cx="886932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8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7" name="Gráfico 8" descr=""/>
          <p:cNvPicPr/>
          <p:nvPr/>
        </p:nvPicPr>
        <p:blipFill>
          <a:blip r:embed="rId1"/>
          <a:stretch/>
        </p:blipFill>
        <p:spPr>
          <a:xfrm>
            <a:off x="262080" y="2133720"/>
            <a:ext cx="83214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Donel</cp:lastModifiedBy>
  <dcterms:modified xsi:type="dcterms:W3CDTF">2020-11-09T08:00:06Z</dcterms:modified>
  <cp:revision>91</cp:revision>
  <dc:subject/>
  <dc:title>PowerPoint Template</dc:title>
</cp:coreProperties>
</file>