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8"/>
          </p:nvPr>
        </p:nvSpPr>
        <p:spPr>
          <a:xfrm>
            <a:off x="4022280" y="0"/>
            <a:ext cx="3078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1526760" y="1123560"/>
            <a:ext cx="404820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29"/>
          </p:nvPr>
        </p:nvSpPr>
        <p:spPr>
          <a:xfrm>
            <a:off x="0" y="8540280"/>
            <a:ext cx="3078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30"/>
          </p:nvPr>
        </p:nvSpPr>
        <p:spPr>
          <a:xfrm>
            <a:off x="4022280" y="8540280"/>
            <a:ext cx="3078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A62A-8365-4152-A51E-D303A8B8C9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3 Marcador de número de diapositiva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0449-D031-48A7-A922-497CF1EF7D19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631CF-E555-416F-9DF1-B42960BB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D753E-9AE3-4A7B-8196-018AA522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7F25-3434-4319-B177-685DB7FE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19715-12F5-47C4-BCBB-6D9DE8BF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FFD40-6EC1-44B7-ADD3-F964AF0A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A04FB-0A4E-4AD9-9A30-E6A77C1C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739D5-E771-47CE-AB10-4E141D8E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C25C0-FF6E-481B-BFED-6A755D03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17BB-969B-4488-BFEF-E5AEA046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A4030-604A-4C88-B527-4DE18205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04154-431F-4E75-8901-FAA8AD92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77103-8F0F-4D40-8869-60ED7A5D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3F9A4-4140-425B-8380-BD7ED4E6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7ECC1-B6F9-4B61-A279-452F17E5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14217-0BCC-430F-A458-4CA86BCA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5AE99-AE12-4E4D-9BE4-8A14F67F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C35A0-F0A4-459C-AB5B-F93A510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2A475-2C1A-493B-A0DB-FCF2EE07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691AC-35E0-425D-B555-04CB9518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AD2CD-8770-449B-A7D1-EBBA26F3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ABC3D-5670-4114-BE10-3037F1C4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60505-B15B-4183-B14E-D17A06C3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FC22A-6849-43FF-9A49-8458A4CA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EE87-4D09-4E6F-B0A7-19A9661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9B60C-D3FE-44AD-B32D-C5F1B871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98B4E-798A-433D-A713-D125BE9C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C99E6-C368-4EEF-8788-3E897693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D646F-B6DA-4CE9-ADA0-A6E8FE89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AB6DA-4111-42C3-83E9-F5A39A1E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481A5-5E12-4F92-959E-6CA8206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76960-967F-4C75-BBBC-98A47BE2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035A4-8C7F-4ACD-A6E2-97A5F764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BE4B-0047-43C1-9A1D-2F769079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44F07-F865-4EA6-B67A-A59AA833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046BC-028F-45B0-9CCC-01CC3633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2753B-F99D-45D6-ABF8-DCE722A5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4E4AF-C138-4ADE-90A7-1159B16C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BB5EF-4FAC-4216-B77E-50AE5A45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9ADB9-D3D1-469A-8457-EBBA66EA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8F0FC-8670-4559-B181-2F8BB9D4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F4068-4C14-452A-AA90-BA7D57EC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209BF-14DA-452B-8FF7-6F50E52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59EF5-7500-4523-9268-DCA22BB9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33E1B-A25B-4413-BA27-87211293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EDF28-FF8A-4F28-9E38-09283487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100-9C38-4130-9230-FC7A35EE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B4D-DA35-4F61-B6EC-31F32953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0A3-F371-4087-8D20-581C964A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279-A034-40CE-8BCE-07D0FB9C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84F-D00F-4E09-9AA3-6F02B141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998-AD91-4CA4-869E-D15F7FA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F4A-36FE-4BCA-AE18-2EFED80F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2FE4-FBB3-40D7-A9C0-02B4A3A7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742-D3E1-4F1D-86F3-441512E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653-8661-4AA2-B88F-4E24EF5F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98A-2BD7-45AC-B989-E0DB98A2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AF2-8651-43F3-B192-3B22961C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55F1-7FEC-4811-A863-BDE13A15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1380-61AD-4FA8-80F8-BF1F27BB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2171-F662-4B99-8A75-46310A58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9979-E1C9-46F7-B176-0F5EAF97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9BA5-401B-4D0C-A81A-BE818FBE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991C-221E-461C-B48E-135571D7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C5DA-5E15-43C1-80A0-85F8D282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C3D1-5983-4374-936D-735A0A60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028C-7370-4AF3-8FF9-448CCC9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4DFE-BA65-4E74-A4E2-1C50D1F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6E24-7476-4F66-B133-80F92252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25A4-4CB1-4ABD-A4BE-657261FB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E645-7F75-47AD-8DDD-E2B20A87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F8083-E4EE-40DA-A8C3-D9C850FD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1F3CC-1E97-48A8-8554-A6B4487E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88A04-7520-4FED-8618-B1EFD0EB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A1A4-5B4A-41D2-B920-5DC978E5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4195-B173-471F-A19C-F9DEC6C7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DE37-A773-45EF-9BC8-8BB08918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758D-586B-4F4D-AF1E-6CAA1E45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7695-E0D3-480A-A726-6BC67095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F8C3-557A-4633-B05C-8A4DA8E1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D98A-01F0-4804-83DD-E90B299C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736B-E909-447C-ABF6-8931FFB9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6AC1-E408-4738-B342-596B2BE3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107A5-DC43-4B89-89C5-833E3500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0FF0-FEBE-41B2-9FE3-6C5A2153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288A-6D1C-4349-B93A-D17FE986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F6E6-293F-473C-94E5-66E39A67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08BA2-A363-4289-AE79-EDAEF752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55847-0BC3-407F-B8AE-9E419C52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D75F-2F2D-44C0-A60E-B8D6AD0E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3E47-D510-41FE-9383-CCF5D16A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C26D-AD7D-45C6-B8C2-8549F80E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CF4B5-FE38-4165-8E6C-3D44B3FB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9F765-08FF-4612-BBA6-70AC1C8D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956B4-D8AE-430B-A585-86BA8223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9C4C1-54E4-4AB3-918F-192D1A8D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00557-C358-4ED1-BA54-AA4FC733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E2DF9-6245-4684-BB28-B70D1AD9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E14AF-2579-4884-A962-0BB2C6E3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00CFB-03DE-42E6-A719-F6EB5D1F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D974-834A-4905-816E-1B9F583C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09CDA-BFF8-44FA-9CA9-63317A1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13A2-168A-4A94-A9DD-46CEAB54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87828-BED3-4F75-9907-6A42CEAE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AACD8-75CC-4103-B58A-106CB0B0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AF1E2-C2F8-4C2D-8BE7-F74A40F4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1AA24-42E9-47A3-8247-9DF9EF17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9074-8899-42DA-894C-E299C614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7DA0A-3751-448F-884B-F378DDC7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9F19-3DEE-447B-8781-CBBD1C8729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ED77-CEB6-42CF-9916-E38C1A9553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0F0-0337-45A5-8ED7-2F230437E395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095800" y="165240"/>
            <a:ext cx="363384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B507-8FEF-4821-A18A-FCC39F5009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6C1F-6F8E-431D-BDAD-37FE1EFF26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7161-9205-49CC-AE40-BEC03999FD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B2F9-21EC-48EE-BBF7-C0541118C3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DC84-D0E6-4388-B376-BACEE3311E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6FD6-A128-4CD9-A248-1F117342CC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Autores:   Dr.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William Chávez Torre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. Ileidy Vega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Rodríguez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. Denenke Basanta Bergolla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Pedro Pablo Pino Alfonso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Laura Hern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Arial"/>
              </a:rPr>
              <a:t>á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ndez Moreno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Servicio de Neumología.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La Habana, 2020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30" name="4 Rectángulo"/>
          <p:cNvSpPr/>
          <p:nvPr/>
        </p:nvSpPr>
        <p:spPr>
          <a:xfrm>
            <a:off x="285840" y="1357200"/>
            <a:ext cx="492912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900" spc="-1" strike="noStrike">
                <a:solidFill>
                  <a:srgbClr val="003366"/>
                </a:solidFill>
                <a:latin typeface="Calisto MT"/>
              </a:rPr>
              <a:t>CARAC</a:t>
            </a:r>
            <a:r>
              <a:rPr b="0" lang="es-EC" sz="1900" spc="-1" strike="noStrike">
                <a:solidFill>
                  <a:srgbClr val="003366"/>
                </a:solidFill>
                <a:latin typeface="Calisto MT"/>
              </a:rPr>
              <a:t>T</a:t>
            </a:r>
            <a:r>
              <a:rPr b="1" lang="es-EC" sz="1900" spc="-1" strike="noStrike">
                <a:solidFill>
                  <a:srgbClr val="003366"/>
                </a:solidFill>
                <a:latin typeface="Calisto MT"/>
              </a:rPr>
              <a:t>ERIZACIÓN CLÍNICO, IMAGENOLÓGICO Y ESPIROMÉTRICO DE LOS PACIENTES CON ENFERMEDADES PULMONARES INTERSTICIALES DIFUSA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0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8869320" cy="6022800"/>
          </a:xfrm>
          <a:prstGeom prst="rect">
            <a:avLst/>
          </a:prstGeom>
          <a:ln w="0">
            <a:noFill/>
          </a:ln>
        </p:spPr>
      </p:pic>
      <p:sp>
        <p:nvSpPr>
          <p:cNvPr id="561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3 Rectángulo"/>
          <p:cNvSpPr/>
          <p:nvPr/>
        </p:nvSpPr>
        <p:spPr>
          <a:xfrm>
            <a:off x="500040" y="11430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4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053040"/>
          </a:xfrm>
          <a:prstGeom prst="rect">
            <a:avLst/>
          </a:prstGeom>
          <a:ln w="0">
            <a:noFill/>
          </a:ln>
        </p:spPr>
      </p:pic>
      <p:sp>
        <p:nvSpPr>
          <p:cNvPr id="565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Rectángulo 4"/>
          <p:cNvSpPr/>
          <p:nvPr/>
        </p:nvSpPr>
        <p:spPr>
          <a:xfrm>
            <a:off x="2928960" y="2928960"/>
            <a:ext cx="1500120" cy="3000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0" name="Gráfico 7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5931000"/>
          </a:xfrm>
          <a:prstGeom prst="rect">
            <a:avLst/>
          </a:prstGeom>
          <a:ln w="0">
            <a:noFill/>
          </a:ln>
        </p:spPr>
      </p:pic>
      <p:sp>
        <p:nvSpPr>
          <p:cNvPr id="571" name="Rectángulo 4"/>
          <p:cNvSpPr/>
          <p:nvPr/>
        </p:nvSpPr>
        <p:spPr>
          <a:xfrm>
            <a:off x="3929040" y="3071880"/>
            <a:ext cx="1428840" cy="285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4" name="Gráfico 9" descr=""/>
          <p:cNvPicPr/>
          <p:nvPr/>
        </p:nvPicPr>
        <p:blipFill>
          <a:blip r:embed="rId1"/>
          <a:stretch/>
        </p:blipFill>
        <p:spPr>
          <a:xfrm>
            <a:off x="0" y="0"/>
            <a:ext cx="8942400" cy="6102360"/>
          </a:xfrm>
          <a:prstGeom prst="rect">
            <a:avLst/>
          </a:prstGeom>
          <a:ln w="0">
            <a:noFill/>
          </a:ln>
        </p:spPr>
      </p:pic>
      <p:sp>
        <p:nvSpPr>
          <p:cNvPr id="575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Rectángulo 5"/>
          <p:cNvSpPr/>
          <p:nvPr/>
        </p:nvSpPr>
        <p:spPr>
          <a:xfrm>
            <a:off x="395280" y="1125360"/>
            <a:ext cx="849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Calibri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9" name="Gráfico 8" descr=""/>
          <p:cNvPicPr/>
          <p:nvPr/>
        </p:nvPicPr>
        <p:blipFill>
          <a:blip r:embed="rId1"/>
          <a:stretch/>
        </p:blipFill>
        <p:spPr>
          <a:xfrm>
            <a:off x="0" y="0"/>
            <a:ext cx="9015480" cy="6095880"/>
          </a:xfrm>
          <a:prstGeom prst="rect">
            <a:avLst/>
          </a:prstGeom>
          <a:ln w="0">
            <a:noFill/>
          </a:ln>
        </p:spPr>
      </p:pic>
      <p:sp>
        <p:nvSpPr>
          <p:cNvPr id="580" name="6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4 Rectángulo"/>
          <p:cNvSpPr/>
          <p:nvPr/>
        </p:nvSpPr>
        <p:spPr>
          <a:xfrm>
            <a:off x="214200" y="1285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CONCLUSIONES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3 Rectángulo"/>
          <p:cNvSpPr/>
          <p:nvPr/>
        </p:nvSpPr>
        <p:spPr>
          <a:xfrm>
            <a:off x="285840" y="1785960"/>
            <a:ext cx="8501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3366"/>
                </a:solidFill>
                <a:latin typeface="Arial"/>
              </a:rPr>
              <a:t>Predominó el sexo masculino, con edad comprendida de 70 años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1" lang="es-MX" sz="23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MX" sz="2300" spc="-1" strike="noStrike">
                <a:solidFill>
                  <a:srgbClr val="003366"/>
                </a:solidFill>
                <a:latin typeface="Arial"/>
              </a:rPr>
              <a:t>s,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 siendo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 la disnea síntoma principal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La FPI fue el tipo de EPID que m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s se evidenció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Se obtuvo con más frecuencia un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  <a:ea typeface="Arial"/>
              </a:rPr>
              <a:t> patrón restrictivo, existiendo 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un predominio en alteración, en los 2/3 inferiores de los pulmones correlacion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ndose con la severidad moderada como predominant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La complicación m</a:t>
            </a:r>
            <a:r>
              <a:rPr b="1" lang="es-ES" sz="23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1" lang="es-EC" sz="2300" spc="-1" strike="noStrike">
                <a:solidFill>
                  <a:srgbClr val="003366"/>
                </a:solidFill>
                <a:latin typeface="Arial"/>
              </a:rPr>
              <a:t>s frecuente fue las infecciones respiratorias bajas.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6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214200" y="1357200"/>
            <a:ext cx="8642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4 Rectángulo"/>
          <p:cNvSpPr/>
          <p:nvPr/>
        </p:nvSpPr>
        <p:spPr>
          <a:xfrm>
            <a:off x="214200" y="1928880"/>
            <a:ext cx="850104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as enfermedades intersticiales pulmonares difusas (EPID) constituyen un grupo de entidades clínico-patológicas, muy heterogéneo, pero que tienen manifestaciones clínicas, radiológicas y funcionales comunes, que afectan de forma difusa a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rénquima pulmon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datos sobre incidencia, prevalencia, complicaciones, y mortalidad, así como los estudios epidemiológicos que describen el comportamiento de las EPID a nivel poblacional, tanto en cuba como en otros países son escas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4 Rectángulo"/>
          <p:cNvSpPr/>
          <p:nvPr/>
        </p:nvSpPr>
        <p:spPr>
          <a:xfrm>
            <a:off x="214200" y="1643040"/>
            <a:ext cx="8501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n general, en Estados Unidos las EPID en mayores de 18 años es de 81 por 100.000 en los hombres y 67 por 100.000en las mujer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n Europa se han realizado estudios epidemiológicos en el Reino Unido,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bservándose una incidencia de 3-6 casos/100.000 h, correspondiendo a 5.000 casos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en este orden, la fibrosis pulmonar idiopática, la sarcoidosis, la neumonía organizada criptogénica, las EPID asociadas con enfermedades del colágeno y las neumonitis por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persensibilida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Varios estudios epidemiológicos en España revelan una incidencia de EPID de 3 casos/100.000 habitantes por año, siendo las neumopatías intersticiales idiopáticas (NII) las más frecuentemente observadas (fibrosis pulmonar idiopática [FPI]-29,5%, seguido de sarcoidosis [15,2%] y EPID asociada a conectivopatías [13,3%]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179280" y="1197000"/>
            <a:ext cx="864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3 Rectángulo"/>
          <p:cNvSpPr/>
          <p:nvPr/>
        </p:nvSpPr>
        <p:spPr>
          <a:xfrm>
            <a:off x="285840" y="1857240"/>
            <a:ext cx="864396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 Black"/>
              </a:rPr>
              <a:t>Preguntas de la investigació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Arial"/>
              </a:rPr>
              <a:t>¿Qué manifestaciones, clínicas, imagenológicas, y espirométricas, caracterizan a los pacientes con diagnóstico de EPID ingresados en el </a:t>
            </a: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Cambria"/>
              </a:rPr>
              <a:t>Servicio de Neumología del Hospital Clínico Quirúrgico Hermanos Ameijeiras?</a:t>
            </a:r>
            <a:r>
              <a:rPr b="1" lang="es-EC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3 Rectángulo"/>
          <p:cNvSpPr/>
          <p:nvPr/>
        </p:nvSpPr>
        <p:spPr>
          <a:xfrm>
            <a:off x="214200" y="121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3366"/>
                </a:solidFill>
                <a:latin typeface="Arial Black"/>
              </a:rPr>
              <a:t>OBJETIVO GENERAL: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4 Rectángulo"/>
          <p:cNvSpPr/>
          <p:nvPr/>
        </p:nvSpPr>
        <p:spPr>
          <a:xfrm>
            <a:off x="324000" y="1700280"/>
            <a:ext cx="846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200" spc="-1" strike="noStrike">
                <a:solidFill>
                  <a:srgbClr val="003366"/>
                </a:solidFill>
                <a:latin typeface="Arial"/>
              </a:rPr>
              <a:t>Describir las características de los pacientes con diagnóstico de Enfermedades Pulmonares Intersticiales Difusas (EPID)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8 Rectángulo"/>
          <p:cNvSpPr/>
          <p:nvPr/>
        </p:nvSpPr>
        <p:spPr>
          <a:xfrm>
            <a:off x="324000" y="292428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200" spc="-1" strike="noStrike">
                <a:solidFill>
                  <a:srgbClr val="003366"/>
                </a:solidFill>
                <a:latin typeface="Arial Black"/>
              </a:rPr>
              <a:t>OBJETIVOS ESPECÍFICOS: </a:t>
            </a:r>
            <a:br>
              <a:rPr sz="22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9 Rectángulo"/>
          <p:cNvSpPr/>
          <p:nvPr/>
        </p:nvSpPr>
        <p:spPr>
          <a:xfrm>
            <a:off x="179280" y="3284640"/>
            <a:ext cx="8821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Caracterizar a los pacientes según variables demográficas, clínicas, y funcionales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Identificar los tipos de EPID presentes en la población estudiada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Identificar la relación existente entre los hallazgos obtenidos con la espirometría forzada (severidad funcional) y la extensión imagenológica de la enfermedad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100" spc="-1" strike="noStrike">
                <a:solidFill>
                  <a:srgbClr val="003366"/>
                </a:solidFill>
                <a:latin typeface="Arial"/>
              </a:rPr>
              <a:t>Identificar las complicaciones asociadas a las EPID</a:t>
            </a:r>
            <a:r>
              <a:rPr b="0" lang="es-EC" sz="2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3 Rectángulo"/>
          <p:cNvSpPr/>
          <p:nvPr/>
        </p:nvSpPr>
        <p:spPr>
          <a:xfrm>
            <a:off x="214200" y="1285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DISEÑO METODOLÓGICO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4 Rectángulo"/>
          <p:cNvSpPr/>
          <p:nvPr/>
        </p:nvSpPr>
        <p:spPr>
          <a:xfrm>
            <a:off x="357120" y="1714680"/>
            <a:ext cx="8605800" cy="54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 realiz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ó un estudio analítico, observacional, prospectivo, longitudinal en pacientes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gresados en el servicio de neumología en el Hospital ¨Hermanos Ameijeiras¨ con diagnóstico, y sospecha clínica y imagenológica de Enfermedad Pulmonar Intersticial Difusa en el período octubre 2017 mayo 202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3366"/>
                </a:solidFill>
                <a:uFillTx/>
                <a:latin typeface="Arial"/>
              </a:rPr>
              <a:t>Universo: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ue el total de pacientes ingresados en sala de neumología con diagnóstico, y sospecha clínica y imagenológica de EPID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s-ES" sz="2100" spc="-1" strike="noStrike" u="sng">
                <a:solidFill>
                  <a:srgbClr val="003366"/>
                </a:solidFill>
                <a:uFillTx/>
                <a:latin typeface="Arial"/>
              </a:rPr>
              <a:t>muestra</a:t>
            </a:r>
            <a:r>
              <a:rPr b="1" lang="es-ES" sz="2100" spc="-1" strike="noStrike">
                <a:solidFill>
                  <a:srgbClr val="003366"/>
                </a:solidFill>
                <a:latin typeface="Arial"/>
              </a:rPr>
              <a:t> de estudio estuvo constituida por 55 pacientes que cumplieron los criterios del estudio.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100" spc="-1" strike="noStrike">
                <a:solidFill>
                  <a:srgbClr val="003366"/>
                </a:solidFill>
                <a:latin typeface="Arial"/>
              </a:rPr>
              <a:t>Las variables estudiadas fueron: edad, sexo, </a:t>
            </a:r>
            <a:r>
              <a:rPr b="1" lang="en-US" sz="2100" spc="-1" strike="noStrike">
                <a:solidFill>
                  <a:srgbClr val="003366"/>
                </a:solidFill>
                <a:latin typeface="Arial"/>
              </a:rPr>
              <a:t>sintomas, tipo de EPID, tipo y severidad de disfunción ventilatoria y complicaciones presentes. 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285840" y="1571760"/>
            <a:ext cx="867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inclus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dieron su consentimiento informado para participar en el estudi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• </a:t>
            </a:r>
            <a:r>
              <a:rPr b="1" lang="es-EC" sz="2000" spc="-1" strike="noStrike">
                <a:solidFill>
                  <a:srgbClr val="003366"/>
                </a:solidFill>
                <a:latin typeface="Arial"/>
              </a:rPr>
              <a:t>Pacientes con sospecha o diagnóstico de EPID ingresados en el Servicio de Neumolog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exclus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cuyas planillas de recolección de datos no reflejen toda la información necesaria para dar respuesta a los objetivos de la investigac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no deseen participar en el estudi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Rectángulo 4"/>
          <p:cNvSpPr/>
          <p:nvPr/>
        </p:nvSpPr>
        <p:spPr>
          <a:xfrm>
            <a:off x="6643800" y="2500200"/>
            <a:ext cx="1726920" cy="3214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C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8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3" name="Gráfico 6" descr=""/>
          <p:cNvPicPr/>
          <p:nvPr/>
        </p:nvPicPr>
        <p:blipFill>
          <a:blip r:embed="rId1"/>
          <a:stretch/>
        </p:blipFill>
        <p:spPr>
          <a:xfrm>
            <a:off x="0" y="0"/>
            <a:ext cx="886932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8 Rectángulo"/>
          <p:cNvSpPr/>
          <p:nvPr/>
        </p:nvSpPr>
        <p:spPr>
          <a:xfrm>
            <a:off x="13680" y="64882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uente: Historia Clín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7" name="Gráfico 8" descr=""/>
          <p:cNvPicPr/>
          <p:nvPr/>
        </p:nvPicPr>
        <p:blipFill>
          <a:blip r:embed="rId1"/>
          <a:stretch/>
        </p:blipFill>
        <p:spPr>
          <a:xfrm>
            <a:off x="262080" y="2133720"/>
            <a:ext cx="83214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Donel</cp:lastModifiedBy>
  <dcterms:modified xsi:type="dcterms:W3CDTF">2020-11-09T08:00:06Z</dcterms:modified>
  <cp:revision>91</cp:revision>
  <dc:subject/>
  <dc:title>PowerPoint Template</dc:title>
</cp:coreProperties>
</file>