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28"/>
          </p:nvPr>
        </p:nvSpPr>
        <p:spPr>
          <a:xfrm>
            <a:off x="4022280" y="0"/>
            <a:ext cx="3078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Img"/>
          </p:nvPr>
        </p:nvSpPr>
        <p:spPr>
          <a:xfrm>
            <a:off x="1526760" y="1123560"/>
            <a:ext cx="404820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ftr" idx="29"/>
          </p:nvPr>
        </p:nvSpPr>
        <p:spPr>
          <a:xfrm>
            <a:off x="0" y="8540280"/>
            <a:ext cx="3078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 type="sldNum" idx="30"/>
          </p:nvPr>
        </p:nvSpPr>
        <p:spPr>
          <a:xfrm>
            <a:off x="4022280" y="8540280"/>
            <a:ext cx="30783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A37C-26A4-47C4-913F-63CC5AF5D2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3 Marcador de número de diapositiva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C0B7-8297-44C1-96DC-5EB47BA2C7AA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A18FC-ABBD-4325-8CAD-3289A883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335B1-872D-43E0-BAF5-39B3DD50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1FDCE-FF94-4CB1-8494-AD25C94B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1961E-1FC8-428B-AC38-871BC8C6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2C3C3-3309-4146-BD84-69FBBDD2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2EDBE-AFBB-4D62-8AA8-A5E0C167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2FA19-4225-49AC-91B9-168ED29B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E867-5323-4B26-B622-52C2EFC3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136D9-7589-4992-ABE9-41022E4D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7E1AC-0F6C-41A0-AC12-C953CC80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CCD6C-E37C-4069-994B-372BBD9B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E6025-4623-440E-93FF-FF64B63E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89F26-1959-4DCA-95A4-55B4E5B1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4F0BA-FAF5-4662-9268-5B229C62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9DDDC-CAC1-4ABF-896F-31A98124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29EF8-7870-475B-8A43-1A69638A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8BE1B-FF8B-45FD-B576-A6AC5A69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0AE0C-4AC4-4F91-BF05-A639141D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82D54-485B-4521-99DA-8A28C890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9E2D8-518F-441C-902C-7F4BB74D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00794-4222-41AD-8F26-78800CA9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15B2E-64E1-4703-AAA0-A97DB2FB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A0A7F-F228-422B-B058-1A7331F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0DEAB-F65E-425B-A252-EBC4AD15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1AC95-1B59-497F-A776-73DEBE8C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5F346-BBDE-4653-8937-CC5E34C2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58E47-3528-45D4-BC84-C9043368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2C6B1-2800-42B3-A83A-052C079B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7C28B-AA2C-4379-B31A-2950C37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32090-4C04-4B59-8087-D70C0AC2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3C20F-D44B-4B2D-B79D-5AD62037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84563-0E3E-4794-9088-39532FD4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668A8-F86F-4964-AB33-706D2A21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67B94-C2E9-4CFC-98A4-C6745D16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77B16-A5AC-4EBC-BBD3-844C933D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F5D9D-D4D2-47B8-939B-0BF04FDB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E7B46-A3D9-4A22-9DA7-90711FE2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471A9-3CCC-405E-86F7-0F91364A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98C4F-0A87-44AE-B693-897E7382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054AB-2974-4482-A084-C238EEC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017B8-5554-4058-ADB0-792B2F95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C6D17-FC39-4FBF-8165-28C0BF67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659F7-A730-40C9-B4A8-6E24F9F9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88047-3AF0-457B-BBB5-6969B755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03B3C-7B6C-4661-90BA-B7B9AB73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6D3-EE65-42B1-ABEA-CEEE743F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AA9-D7C8-43B0-AA1A-B46D165F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085-213D-4121-B7E0-571EDDF8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672-178B-4A0E-862F-9F864D05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A7D-7211-479F-A534-4B0E85F2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8B8-339F-4802-A910-EB89B743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AC7-A41D-41CA-880B-F5B38100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510-3A29-48AE-A897-F100EA5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A34-AD60-4D7B-946C-66C0B50A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FA5-204C-498B-8C1F-286763BB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545-00B6-4856-8AC6-982113DE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F1F-FB1C-4F69-A78B-EFF163D6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92B5-BD36-4E55-8AAA-07F1426B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8168-ABF0-4EF7-A2B8-A398AF3F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3DB6-6DED-40EA-A77D-1CF3E9B7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63D7-0C2C-4BDC-8C1A-50C9AFF8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B562-39FC-4ACE-A83C-1E99AE0E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1FC4-07DC-46D9-9E3B-ECE91D7A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5A7A-8ECC-4705-8947-AD8D1F0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06D7-5FA3-4582-8D3B-911249AE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BDEA-F005-4D02-811D-B20FBE93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F7A5-2CC5-4281-BD01-CCD58942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E661-9C68-4871-B7CC-5E7094AB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F413-5233-4382-B58B-38130E64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BD36-263E-4A9A-A1AC-E847B899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83FC-6F1C-435C-AA05-D25CD554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1FA0-3ADD-490A-A884-FB5ECE49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5B22-7A0F-49B6-98E2-068DF5DD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ACDB-9748-4EF1-81B6-9C0F8CE1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9C799-E7D8-4534-8412-1E6FA764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CE96-E166-4A7A-9296-FECCBA4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3A5A7-FB14-47BB-8100-E8AD255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03FA-6C37-4524-8239-14D01459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8734-6903-441C-9C0B-EB087833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3247-F335-408F-8E71-8F15679F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B37E-D4F9-403B-B37C-168EFCB4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0603-5ADB-4ECC-8D24-7A8FE40E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F7F42-E0C7-476F-9817-17C563DE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10C65-902E-437A-A9E0-20FD871D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B97D3-3C55-4089-A26A-FB575AA7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BDBCA-0514-4C8E-8291-7C6021B8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97ED3-E221-4680-9726-681B9DE7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3F0E0-BA99-4D19-B37D-22E52946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F6BB-D711-491D-A6E6-D8A6B2A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B105-0BE3-4B1B-9496-0CF61904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FB3DD-7C40-491B-B6D4-DA509E09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05E9-551B-4984-8645-A9D7CE3C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A3901-2D94-4D9D-95AB-C22E43C9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A5554-709A-442E-8F5A-912B11E5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3F72B-DDE2-4469-8BB3-BC2797A8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2A9B7-C1DC-4273-AB82-EE5CAE1C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726C7-4803-4FBC-942E-3C504824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0B0A5-C550-433C-A296-CAF158C3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B536F-5334-4D80-A32F-BADD71F2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ED4A3-1B21-459C-870A-14E1396D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6429B-C49C-45B2-8E3C-0A807EF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114D3-2DDF-45A9-8995-C0BE3B5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E287C-0A39-42F9-84DD-F075FE40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BD1FA-C57F-4E61-9C49-9DAE05BD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9B904-8A7A-4189-8E74-FBF29044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7D924-2382-4B39-B6DB-A3A4CFD1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2151C-C9B7-48ED-8413-EEC23799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628B8-2DEB-4B8F-9B21-B744E1BF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F9CF-B273-4BCC-BF94-F38D6614DA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99A9-8273-4CC9-A202-02CAD255EA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2CF4-8EE6-46C0-B4B0-F1CBADEFAA2C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095800" y="165240"/>
            <a:ext cx="363384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F6CA-E8E8-4A15-BBAE-0BCFB55DF0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36CB-C241-4088-AE33-76C47A177D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9098-02C6-4DFD-B1E1-A550F38D0B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131-8FFB-4F2F-B56C-20B7210E6A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8EF4-3833-41FC-8581-3590E8E7D9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BE53-6D22-4E03-9528-4E3D5CA07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94920" y="4220640"/>
            <a:ext cx="5891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Autores:   Dr. 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William Chávez Torre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a. Ileidy Vega 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Rodríguez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a. Denenke Basanta Bergolla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. Pedro Pablo Pino Alfonso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. Laura Hern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á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ndez Moreno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Servicio de Neumología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La Habana, 2020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9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30" name="4 Rectángulo"/>
          <p:cNvSpPr/>
          <p:nvPr/>
        </p:nvSpPr>
        <p:spPr>
          <a:xfrm>
            <a:off x="285840" y="1357200"/>
            <a:ext cx="492912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900" spc="-1" strike="noStrike">
                <a:solidFill>
                  <a:srgbClr val="003366"/>
                </a:solidFill>
                <a:latin typeface="Calisto MT"/>
              </a:rPr>
              <a:t>CARAC</a:t>
            </a:r>
            <a:r>
              <a:rPr b="0" lang="es-EC" sz="1900" spc="-1" strike="noStrike">
                <a:solidFill>
                  <a:srgbClr val="003366"/>
                </a:solidFill>
                <a:latin typeface="Calisto MT"/>
              </a:rPr>
              <a:t>T</a:t>
            </a:r>
            <a:r>
              <a:rPr b="1" lang="es-EC" sz="1900" spc="-1" strike="noStrike">
                <a:solidFill>
                  <a:srgbClr val="003366"/>
                </a:solidFill>
                <a:latin typeface="Calisto MT"/>
              </a:rPr>
              <a:t>ERIZACIÓN CLÍNICO, IMAGENOLÓGICO Y ESPIROMÉTRICO DE LOS PACIENTES CON ENFERMEDADES PULMONARES INTERSTICIALES DIFUSA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0" name="Gráfico 8" descr=""/>
          <p:cNvPicPr/>
          <p:nvPr/>
        </p:nvPicPr>
        <p:blipFill>
          <a:blip r:embed="rId1"/>
          <a:stretch/>
        </p:blipFill>
        <p:spPr>
          <a:xfrm>
            <a:off x="0" y="0"/>
            <a:ext cx="8869320" cy="6022800"/>
          </a:xfrm>
          <a:prstGeom prst="rect">
            <a:avLst/>
          </a:prstGeom>
          <a:ln w="0">
            <a:noFill/>
          </a:ln>
        </p:spPr>
      </p:pic>
      <p:sp>
        <p:nvSpPr>
          <p:cNvPr id="561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3 Rectángulo"/>
          <p:cNvSpPr/>
          <p:nvPr/>
        </p:nvSpPr>
        <p:spPr>
          <a:xfrm>
            <a:off x="500040" y="11430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4" name="Gráfico 8" descr=""/>
          <p:cNvPicPr/>
          <p:nvPr/>
        </p:nvPicPr>
        <p:blipFill>
          <a:blip r:embed="rId1"/>
          <a:stretch/>
        </p:blipFill>
        <p:spPr>
          <a:xfrm>
            <a:off x="0" y="0"/>
            <a:ext cx="9015480" cy="6053040"/>
          </a:xfrm>
          <a:prstGeom prst="rect">
            <a:avLst/>
          </a:prstGeom>
          <a:ln w="0">
            <a:noFill/>
          </a:ln>
        </p:spPr>
      </p:pic>
      <p:sp>
        <p:nvSpPr>
          <p:cNvPr id="565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Rectángulo 4"/>
          <p:cNvSpPr/>
          <p:nvPr/>
        </p:nvSpPr>
        <p:spPr>
          <a:xfrm>
            <a:off x="2928960" y="2928960"/>
            <a:ext cx="1500120" cy="3000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0" name="Gráfico 7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5931000"/>
          </a:xfrm>
          <a:prstGeom prst="rect">
            <a:avLst/>
          </a:prstGeom>
          <a:ln w="0">
            <a:noFill/>
          </a:ln>
        </p:spPr>
      </p:pic>
      <p:sp>
        <p:nvSpPr>
          <p:cNvPr id="571" name="Rectángulo 4"/>
          <p:cNvSpPr/>
          <p:nvPr/>
        </p:nvSpPr>
        <p:spPr>
          <a:xfrm>
            <a:off x="3929040" y="3071880"/>
            <a:ext cx="1428840" cy="285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4" name="Gráfico 9" descr=""/>
          <p:cNvPicPr/>
          <p:nvPr/>
        </p:nvPicPr>
        <p:blipFill>
          <a:blip r:embed="rId1"/>
          <a:stretch/>
        </p:blipFill>
        <p:spPr>
          <a:xfrm>
            <a:off x="0" y="0"/>
            <a:ext cx="8942400" cy="6102360"/>
          </a:xfrm>
          <a:prstGeom prst="rect">
            <a:avLst/>
          </a:prstGeom>
          <a:ln w="0">
            <a:noFill/>
          </a:ln>
        </p:spPr>
      </p:pic>
      <p:sp>
        <p:nvSpPr>
          <p:cNvPr id="575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Rectángulo 5"/>
          <p:cNvSpPr/>
          <p:nvPr/>
        </p:nvSpPr>
        <p:spPr>
          <a:xfrm>
            <a:off x="395280" y="1125360"/>
            <a:ext cx="849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Calibri"/>
              </a:rPr>
              <a:t>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9" name="Gráfico 8" descr=""/>
          <p:cNvPicPr/>
          <p:nvPr/>
        </p:nvPicPr>
        <p:blipFill>
          <a:blip r:embed="rId1"/>
          <a:stretch/>
        </p:blipFill>
        <p:spPr>
          <a:xfrm>
            <a:off x="0" y="0"/>
            <a:ext cx="9015480" cy="6095880"/>
          </a:xfrm>
          <a:prstGeom prst="rect">
            <a:avLst/>
          </a:prstGeom>
          <a:ln w="0">
            <a:noFill/>
          </a:ln>
        </p:spPr>
      </p:pic>
      <p:sp>
        <p:nvSpPr>
          <p:cNvPr id="580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4 Rectángulo"/>
          <p:cNvSpPr/>
          <p:nvPr/>
        </p:nvSpPr>
        <p:spPr>
          <a:xfrm>
            <a:off x="214200" y="1285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CONCLUSIONES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3 Rectángulo"/>
          <p:cNvSpPr/>
          <p:nvPr/>
        </p:nvSpPr>
        <p:spPr>
          <a:xfrm>
            <a:off x="285840" y="1785960"/>
            <a:ext cx="8501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3366"/>
                </a:solidFill>
                <a:latin typeface="Arial"/>
              </a:rPr>
              <a:t>Predominó el sexo masculino, con edad comprendida de 70 años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1" lang="es-MX" sz="23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MX" sz="2300" spc="-1" strike="noStrike">
                <a:solidFill>
                  <a:srgbClr val="003366"/>
                </a:solidFill>
                <a:latin typeface="Arial"/>
              </a:rPr>
              <a:t>s,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 siendo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 la disnea síntoma principal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La FPI fue el tipo de EPID que m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s se evidenció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Se obtuvo con más frecuencia un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 patrón restrictivo, existiendo 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un predominio en alteración, en los 2/3 inferiores de los pulmones correlacion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ndose con la severidad moderada como predominant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La complicación m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s frecuente fue las infecciones respiratorias bajas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214200" y="1357200"/>
            <a:ext cx="8642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CIÓN: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4 Rectángulo"/>
          <p:cNvSpPr/>
          <p:nvPr/>
        </p:nvSpPr>
        <p:spPr>
          <a:xfrm>
            <a:off x="214200" y="1928880"/>
            <a:ext cx="850104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as enfermedades intersticiales pulmonares difusas (EPID) constituyen un grupo de entidades clínico-patológicas, muy heterogéneo, pero que tienen manifestaciones clínicas, radiológicas y funcionales comunes, que afectan de forma difusa a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rénquima pulmon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os datos sobre incidencia, prevalencia, complicaciones, y mortalidad, así como los estudios epidemiológicos que describen el comportamiento de las EPID a nivel poblacional, tanto en cuba como en otros países son escas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4 Rectángulo"/>
          <p:cNvSpPr/>
          <p:nvPr/>
        </p:nvSpPr>
        <p:spPr>
          <a:xfrm>
            <a:off x="214200" y="1643040"/>
            <a:ext cx="85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En general, en Estados Unidos las EPID en mayores de 18 años es de 81 por 100.000 en los hombres y 67 por 100.000en las mujer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En Europa se han realizado estudios epidemiológicos en el Reino Unido,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bservándose una incidencia de 3-6 casos/100.000 h, correspondiendo a 5.000 casos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en este orden, la fibrosis pulmonar idiopática, la sarcoidosis, la neumonía organizada criptogénica, las EPID asociadas con enfermedades del colágeno y las neumonitis por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persensibilida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Varios estudios epidemiológicos en España revelan una incidencia de EPID de 3 casos/100.000 habitantes por año, siendo las neumopatías intersticiales idiopáticas (NII) las más frecuentemente observadas (fibrosis pulmonar idiopática [FPI]-29,5%, seguido de sarcoidosis [15,2%] y EPID asociada a conectivopatías [13,3%]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179280" y="1197000"/>
            <a:ext cx="864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CIÓN: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3 Rectángulo"/>
          <p:cNvSpPr/>
          <p:nvPr/>
        </p:nvSpPr>
        <p:spPr>
          <a:xfrm>
            <a:off x="285840" y="1857240"/>
            <a:ext cx="864396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 Black"/>
              </a:rPr>
              <a:t>Preguntas de la investigació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3366"/>
                </a:solidFill>
                <a:latin typeface="Arial"/>
                <a:ea typeface="Arial"/>
              </a:rPr>
              <a:t>¿Qué manifestaciones, clínicas, imagenológicas, y espirométricas, caracterizan a los pacientes con diagnóstico de EPID ingresados en el </a:t>
            </a:r>
            <a:r>
              <a:rPr b="1" lang="es-EC" sz="2400" spc="-1" strike="noStrike">
                <a:solidFill>
                  <a:srgbClr val="003366"/>
                </a:solidFill>
                <a:latin typeface="Arial"/>
                <a:ea typeface="Cambria"/>
              </a:rPr>
              <a:t>Servicio de Neumología del Hospital Clínico Quirúrgico Hermanos Ameijeiras?</a:t>
            </a:r>
            <a:r>
              <a:rPr b="1" lang="es-EC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3 Rectángulo"/>
          <p:cNvSpPr/>
          <p:nvPr/>
        </p:nvSpPr>
        <p:spPr>
          <a:xfrm>
            <a:off x="214200" y="1214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3366"/>
                </a:solidFill>
                <a:latin typeface="Arial Black"/>
              </a:rPr>
              <a:t>OBJETIVO GENERAL: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4 Rectángulo"/>
          <p:cNvSpPr/>
          <p:nvPr/>
        </p:nvSpPr>
        <p:spPr>
          <a:xfrm>
            <a:off x="324000" y="1700280"/>
            <a:ext cx="846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3366"/>
                </a:solidFill>
                <a:latin typeface="Arial"/>
              </a:rPr>
              <a:t>Describir las características de los pacientes con diagnóstico de Enfermedades Pulmonares Intersticiales Difusas (EPID)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8 Rectángulo"/>
          <p:cNvSpPr/>
          <p:nvPr/>
        </p:nvSpPr>
        <p:spPr>
          <a:xfrm>
            <a:off x="324000" y="292428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200" spc="-1" strike="noStrike">
                <a:solidFill>
                  <a:srgbClr val="003366"/>
                </a:solidFill>
                <a:latin typeface="Arial Black"/>
              </a:rPr>
              <a:t>OBJETIVOS ESPECÍFICOS: </a:t>
            </a:r>
            <a:br>
              <a:rPr sz="22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9 Rectángulo"/>
          <p:cNvSpPr/>
          <p:nvPr/>
        </p:nvSpPr>
        <p:spPr>
          <a:xfrm>
            <a:off x="179280" y="3284640"/>
            <a:ext cx="88218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Caracterizar a los pacientes según variables demográficas, clínicas, y funcionales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Identificar los tipos de EPID presentes en la población estudiada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Identificar la relación existente entre los hallazgos obtenidos con la espirometría forzada (severidad funcional) y la extensión imagenológica de la enfermedad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Identificar las complicaciones asociadas a las EPID</a:t>
            </a:r>
            <a:r>
              <a:rPr b="0" lang="es-EC" sz="2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3 Rectángulo"/>
          <p:cNvSpPr/>
          <p:nvPr/>
        </p:nvSpPr>
        <p:spPr>
          <a:xfrm>
            <a:off x="214200" y="1285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DISEÑO METODOLÓGICO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4 Rectángulo"/>
          <p:cNvSpPr/>
          <p:nvPr/>
        </p:nvSpPr>
        <p:spPr>
          <a:xfrm>
            <a:off x="357120" y="1714680"/>
            <a:ext cx="860580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 realiz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ó un estudio analítico, observacional, prospectivo, longitudinal en pacientes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gresados en el servicio de neumología en el Hospital ¨Hermanos Ameijeiras¨ con diagnóstico, y sospecha clínica y imagenológica de Enfermedad Pulmonar Intersticial Difusa en el período octubre 2017 mayo 202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3366"/>
                </a:solidFill>
                <a:uFillTx/>
                <a:latin typeface="Arial"/>
              </a:rPr>
              <a:t>Universo: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ue el total de pacientes ingresados en sala de neumología con diagnóstico, y sospecha clínica y imagenológica de EPID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es-ES" sz="2100" spc="-1" strike="noStrike" u="sng">
                <a:solidFill>
                  <a:srgbClr val="003366"/>
                </a:solidFill>
                <a:uFillTx/>
                <a:latin typeface="Arial"/>
              </a:rPr>
              <a:t>muestra</a:t>
            </a:r>
            <a:r>
              <a:rPr b="1" lang="es-ES" sz="2100" spc="-1" strike="noStrike">
                <a:solidFill>
                  <a:srgbClr val="003366"/>
                </a:solidFill>
                <a:latin typeface="Arial"/>
              </a:rPr>
              <a:t> de estudio estuvo constituida por 55 pacientes que cumplieron los criterios del estudio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100" spc="-1" strike="noStrike">
                <a:solidFill>
                  <a:srgbClr val="003366"/>
                </a:solidFill>
                <a:latin typeface="Arial"/>
              </a:rPr>
              <a:t>Las variables estudiadas fueron: edad, sexo, </a:t>
            </a: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sintomas, tipo de EPID, tipo y severidad de disfunción ventilatoria y complicaciones presentes. 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285840" y="1571760"/>
            <a:ext cx="867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Criterios de inclus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dieron su consentimiento informado para participar en el estudi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1" lang="es-EC" sz="2000" spc="-1" strike="noStrike">
                <a:solidFill>
                  <a:srgbClr val="003366"/>
                </a:solidFill>
                <a:latin typeface="Arial"/>
              </a:rPr>
              <a:t>Pacientes con sospecha o diagnóstico de EPID ingresados en el Servicio de Neumologí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Criterios de exclus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cuyas planillas de recolección de datos no reflejen toda la información necesaria para dar respuesta a los objetivos de la investigació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no deseen participar en el estudi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Rectángulo 4"/>
          <p:cNvSpPr/>
          <p:nvPr/>
        </p:nvSpPr>
        <p:spPr>
          <a:xfrm>
            <a:off x="6643800" y="2500200"/>
            <a:ext cx="1726920" cy="3214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8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3" name="Gráfico 6" descr=""/>
          <p:cNvPicPr/>
          <p:nvPr/>
        </p:nvPicPr>
        <p:blipFill>
          <a:blip r:embed="rId1"/>
          <a:stretch/>
        </p:blipFill>
        <p:spPr>
          <a:xfrm>
            <a:off x="0" y="0"/>
            <a:ext cx="886932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8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7" name="Gráfico 8" descr=""/>
          <p:cNvPicPr/>
          <p:nvPr/>
        </p:nvPicPr>
        <p:blipFill>
          <a:blip r:embed="rId1"/>
          <a:stretch/>
        </p:blipFill>
        <p:spPr>
          <a:xfrm>
            <a:off x="262080" y="2133720"/>
            <a:ext cx="83214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Donel</cp:lastModifiedBy>
  <dcterms:modified xsi:type="dcterms:W3CDTF">2020-11-09T08:00:06Z</dcterms:modified>
  <cp:revision>91</cp:revision>
  <dc:subject/>
  <dc:title>PowerPoint Template</dc:title>
</cp:coreProperties>
</file>