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8"/>
          </p:nvPr>
        </p:nvSpPr>
        <p:spPr>
          <a:xfrm>
            <a:off x="4022280" y="0"/>
            <a:ext cx="3078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1526760" y="1123560"/>
            <a:ext cx="404820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29"/>
          </p:nvPr>
        </p:nvSpPr>
        <p:spPr>
          <a:xfrm>
            <a:off x="0" y="8540280"/>
            <a:ext cx="3078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30"/>
          </p:nvPr>
        </p:nvSpPr>
        <p:spPr>
          <a:xfrm>
            <a:off x="4022280" y="8540280"/>
            <a:ext cx="3078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F523-364F-48AF-8042-E8361F7E08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5948-8F2D-4119-BD10-5A6F429F539C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9CD7B-065F-44EC-B324-E0EE2103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DFF32-84EB-4D87-9F1F-8AD2BFE9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C811-B4E1-45D8-A317-BC4F8E81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68384-57E2-431D-84A3-0CF8DFDB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CD174-2444-4E29-99A6-702F706D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EC0E8-10A8-487B-B6FB-A3605BA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8C4C-4782-4591-9199-92CA9BE9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6ACC-6BC9-451A-8D57-73112303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89D7-ACA3-448C-8A18-4CB60886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03FEB-F77E-432B-9145-90121A66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8C03-836C-4ECA-BA6C-CCD2D9D8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DDAC9-4E4A-4BB7-ABF9-1AB7912A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2158-DC95-40CF-B760-0BAF47F4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2053-DB59-49F7-9896-1F45603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8DBB1-0FE0-4B1E-9900-D489031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9A4A3-C565-420D-BB7C-5DC2C20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2B2D7-464F-4034-997D-1DD027F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71D38-38F3-4C68-8925-130B8CB7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0CD29-755C-4E2C-9E6C-931F93BA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996D5-BDDA-49B3-9A9A-8D0E4FD3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9F645-006D-4B2E-B821-D5DBB8BB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DE686-CF4D-436F-B671-8D8DD85C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6EE58-9016-4DC1-807E-329D0416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F79ED-7A92-4F43-9B38-F728F788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54D6C-D2CA-41D6-86E0-22B56B5D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DE1C1-E0B5-4B1B-AE85-B9AAAA10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BEA6-02B7-4191-A2AF-6FB896B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6953E-6C54-4552-833F-03387D5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A168F-24A0-430C-8CF4-FD56806E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3074-F6A2-413F-AE9D-DE392CF1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F37CB-8518-49F3-9841-534C41B7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DDA8C-C018-4F5E-A750-68AFD2EF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27CB3-E2D0-478D-A4A5-D74CB474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88F75-A21A-4B88-9979-BBD5B60C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1887D-B4FE-4FE4-8587-B89037CA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2E06F-F86D-45E8-9F12-EC5D4067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A3BBE-572E-42BC-8935-0066B0FE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DF3D5-8CF8-4111-BED8-F4A6D52F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FD994-ADE2-4405-BACF-8995B70A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A031B-5CEC-446C-A06A-951FE1A4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019E4-55A2-4DBA-BFE4-86DF6FAC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14478-79B1-4083-8D7E-6ED2729E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186E4-55D4-4936-9DA9-4149C49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7D256-F854-4011-BCDF-656D3AF5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9E5B0-52DD-4195-80F5-01A26581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6DA-1C70-4BCF-9BC0-04266EDA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E3F-5EB0-4A03-A6DB-C995CFCD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649-3547-4084-9ACD-EA817FB6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F2E-C622-40D1-A8A9-E2F89C97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740-66BC-4203-B6BF-8760263A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6C5-304A-49DF-A220-344E5604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85E-E03C-4A96-84E9-6232F01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02B-1F98-4066-B1EE-CD5C032E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E1B-B2CF-46F5-98EE-05A245B9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AD0-B01A-496D-9247-85EB8D3A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099-DCD4-4315-A4B1-45A76027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977-F945-4817-BE66-D41844DD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AFDC-EC33-4F19-837D-FD777076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64EA-1936-4453-B301-7CB997D1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142F-41FC-4347-9D69-8B666F65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45A4-C855-4876-995C-75441078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13AD-B6BA-4D63-83D4-EBB7399E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329A-12C3-44F3-BA7B-1EEBFEF3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D4E2-86E1-4957-9880-AF2266C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2232-8BF5-4772-BF09-304B1827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6641-2D97-4A8E-9F01-5318B06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F04E-6DB8-4DD4-939C-32FB26A0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FA03-F10F-4707-940E-52F2CE32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065F-03E0-4A06-B578-B0295107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B811-D18D-41E7-AB01-8A6B0D55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AB60-2772-4024-A40D-1C2B758E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6F00-F855-4598-84F4-2F4C031C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A02EF-244F-46C2-85FB-E76F09CE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888D-D2CA-47C9-ABCA-D34CC5C3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6960-A76A-49B3-9E31-901AD63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D7EA-7A11-4802-96A7-0FF2FD94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32C9-3B96-4FB2-85D8-CD1FBEA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63EB-75B6-48EA-ABD5-6CD98119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75CA-31F8-4D7A-9126-12C21CB5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7276-6193-462E-ACAE-9FB4F0FB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F1E2-747D-487F-8C8B-D83FE6B5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F843-152D-46B4-9FA5-FF71BFED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B9D93-9C92-4EDC-B005-7D509AA0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F2AC0-CB8B-48D0-97ED-C32E7324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BD9E-B6B9-4A7A-89AB-798AF2BE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22FF-FD1D-4F5B-A51F-9A1B1F82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76C51-3509-4E87-B4F3-E4F77651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D15B-0693-418B-9865-EEA778C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996F-0E4B-44C3-B991-3B7634A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767C-DBCA-46DB-9B09-A2141364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C49B3-B7CD-491B-90CE-7A1852B5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480C5-8FA1-480A-876B-2D08D2FE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9962-970F-4A4C-AE1D-34E983AF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74E07-BA3E-4432-A5C7-EF75A07A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48A40-BD69-4F53-B073-7CD2B05D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6139-29D0-45E7-B11D-48741E22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EBFE1-30BB-4B8D-AA18-6268BA6D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FB78A-DD5D-410C-A648-9B71C7E2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E01F6-7914-4198-A6A5-40FA4B98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2837B-34C6-4789-A36F-D445A03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2906-E86E-4F0A-84F3-6CB00694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945D9-7D16-4DC5-A2F3-D8ADC0B5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5F51C-2617-4859-9D0D-B56CAE0B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EF247-DB7E-44FE-8B1A-F0EEEF20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33DF-DDF2-49B3-9F0E-423B552E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317B1-B42E-46F0-ABC0-B4FB5B49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ACC1D-E257-4DA4-8C25-878355F8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EF42F-C94C-4082-998B-DF55D945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FACD-6376-4207-A8B3-F37ACA11A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4D85-25E2-44DE-B626-121C968D2A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78D9-8B5F-4173-9036-CB51A8807755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095800" y="165240"/>
            <a:ext cx="363384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DB54-170F-4616-A0F6-7A43965C51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DAFC-7BDD-4641-AE92-04E473AB05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39B7-B444-4278-96B2-485224FE5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BA2A-16E9-466C-857F-103CBAC030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DD78-6D81-40AF-AD3F-25F4F39D2E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4034-2283-4CD2-BC75-5136A2987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.C. Caridad Chao Pereira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Especialista Grado II Medicina Interna, Profesora Titular                                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. Julio Arturo Martínez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Especialista 1er grado en Medicina Intern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. Ángela Gutiérrez  Rojas 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Especialista Grado II en Bioestadística, Profesora Auxiliar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Servicio Medicina Interna.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30" name="4 Rectángulo"/>
          <p:cNvSpPr/>
          <p:nvPr/>
        </p:nvSpPr>
        <p:spPr>
          <a:xfrm>
            <a:off x="0" y="150012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Calibri"/>
              </a:rPr>
              <a:t>Título: </a:t>
            </a:r>
            <a:r>
              <a:rPr b="1" lang="es-VE" sz="2400" spc="-1" strike="noStrike">
                <a:solidFill>
                  <a:srgbClr val="003366"/>
                </a:solidFill>
                <a:latin typeface="Calibri"/>
              </a:rPr>
              <a:t>Obesidad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y mortalidad en hombres         con  insuficiencia cardiaca crón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0" name=""/>
          <p:cNvGraphicFramePr/>
          <p:nvPr/>
        </p:nvGraphicFramePr>
        <p:xfrm>
          <a:off x="357120" y="2022480"/>
          <a:ext cx="8501040" cy="4330800"/>
        </p:xfrm>
        <a:graphic>
          <a:graphicData uri="http://schemas.openxmlformats.org/drawingml/2006/table">
            <a:tbl>
              <a:tblPr/>
              <a:tblGrid>
                <a:gridCol w="1689120"/>
                <a:gridCol w="1596960"/>
                <a:gridCol w="1352520"/>
                <a:gridCol w="1474920"/>
                <a:gridCol w="1476360"/>
                <a:gridCol w="911160"/>
              </a:tblGrid>
              <a:tr h="36612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riable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esidad 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n=109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 (n=29)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 (n=80)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&lt;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4,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,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1.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9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0 y má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5,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2,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8.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olor de la piel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lanc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8.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6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blanc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1.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ábito de fuma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4,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,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0,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</a:tr>
              <a:tr h="46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5,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9.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allecido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,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8,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9.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,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8,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1,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0.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3 Rectángulo"/>
          <p:cNvSpPr/>
          <p:nvPr/>
        </p:nvSpPr>
        <p:spPr>
          <a:xfrm>
            <a:off x="142920" y="7142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abla 2. Características generales de la muestra según presencia de obesidad</a:t>
            </a:r>
            <a:r>
              <a:rPr b="1" lang="es-CO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3 CuadroTexto"/>
          <p:cNvSpPr/>
          <p:nvPr/>
        </p:nvSpPr>
        <p:spPr>
          <a:xfrm>
            <a:off x="10800" y="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4 Rectángulo"/>
          <p:cNvSpPr/>
          <p:nvPr/>
        </p:nvSpPr>
        <p:spPr>
          <a:xfrm>
            <a:off x="1031400" y="500040"/>
            <a:ext cx="68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428760" y="1928880"/>
          <a:ext cx="8143920" cy="4389480"/>
        </p:xfrm>
        <a:graphic>
          <a:graphicData uri="http://schemas.openxmlformats.org/drawingml/2006/table">
            <a:tbl>
              <a:tblPr/>
              <a:tblGrid>
                <a:gridCol w="3000240"/>
                <a:gridCol w="1571760"/>
                <a:gridCol w="1892160"/>
                <a:gridCol w="1679760"/>
              </a:tblGrid>
              <a:tr h="731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C(n=109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babilidad de sobrevivi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añ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co año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ez año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o peso (n=4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o peso (n=29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bre peso (n=47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eso (n=29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2ed"/>
                    </a:solidFill>
                  </a:tcPr>
                </a:tc>
              </a:tr>
            </a:tbl>
          </a:graphicData>
        </a:graphic>
      </p:graphicFrame>
      <p:sp>
        <p:nvSpPr>
          <p:cNvPr id="605" name="2 Rectángulo"/>
          <p:cNvSpPr/>
          <p:nvPr/>
        </p:nvSpPr>
        <p:spPr>
          <a:xfrm>
            <a:off x="0" y="128592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003366"/>
                </a:solidFill>
                <a:latin typeface="Arial"/>
              </a:rPr>
              <a:t>Tabla 3. </a:t>
            </a:r>
            <a:r>
              <a:rPr b="0" lang="es-HN" sz="2400" spc="-1" strike="noStrike">
                <a:solidFill>
                  <a:srgbClr val="003366"/>
                </a:solidFill>
                <a:latin typeface="Arial"/>
              </a:rPr>
              <a:t>Probabilidad de sobrevivir según IM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3 Rectángulo"/>
          <p:cNvSpPr/>
          <p:nvPr/>
        </p:nvSpPr>
        <p:spPr>
          <a:xfrm>
            <a:off x="1460160" y="42876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Imagen 4" descr=""/>
          <p:cNvPicPr/>
          <p:nvPr/>
        </p:nvPicPr>
        <p:blipFill>
          <a:blip r:embed="rId1"/>
          <a:stretch/>
        </p:blipFill>
        <p:spPr>
          <a:xfrm>
            <a:off x="250920" y="1500120"/>
            <a:ext cx="8569080" cy="4421160"/>
          </a:xfrm>
          <a:prstGeom prst="rect">
            <a:avLst/>
          </a:prstGeom>
          <a:ln w="0">
            <a:noFill/>
          </a:ln>
        </p:spPr>
      </p:pic>
      <p:sp>
        <p:nvSpPr>
          <p:cNvPr id="608" name="Rectángulo 5"/>
          <p:cNvSpPr/>
          <p:nvPr/>
        </p:nvSpPr>
        <p:spPr>
          <a:xfrm>
            <a:off x="1428840" y="45007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ueba de Breslow:      p=0,05  </a:t>
            </a:r>
            <a:r>
              <a:rPr b="0" lang="es-CO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6 Rectángulo"/>
          <p:cNvSpPr/>
          <p:nvPr/>
        </p:nvSpPr>
        <p:spPr>
          <a:xfrm>
            <a:off x="714240" y="6072120"/>
            <a:ext cx="81439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1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ervivencia a 10 años según IM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4 Rectángulo"/>
          <p:cNvSpPr/>
          <p:nvPr/>
        </p:nvSpPr>
        <p:spPr>
          <a:xfrm>
            <a:off x="1531440" y="57168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ángulo 3"/>
          <p:cNvSpPr/>
          <p:nvPr/>
        </p:nvSpPr>
        <p:spPr>
          <a:xfrm>
            <a:off x="0" y="1357200"/>
            <a:ext cx="914400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abla 6.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Riesgo de mortalidad.  R</a:t>
            </a:r>
            <a:r>
              <a:rPr b="0" lang="es-CO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gresión  de Co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928800" y="2089080"/>
          <a:ext cx="7215120" cy="3657600"/>
        </p:xfrm>
        <a:graphic>
          <a:graphicData uri="http://schemas.openxmlformats.org/drawingml/2006/table">
            <a:tbl>
              <a:tblPr/>
              <a:tblGrid>
                <a:gridCol w="1832040"/>
                <a:gridCol w="1260360"/>
                <a:gridCol w="1488960"/>
                <a:gridCol w="1374840"/>
                <a:gridCol w="1258920"/>
              </a:tblGrid>
              <a:tr h="20340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Variabl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justad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C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ferio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uperio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ajo pes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49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5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42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84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obrepes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1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61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9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32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Obes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6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83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36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e2e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91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e2ed"/>
                    </a:solidFill>
                  </a:tcPr>
                </a:tc>
              </a:tr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dad &gt;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46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7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,84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E &lt; 4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0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59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77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8160" algn="ctr">
                        <a:lnSpc>
                          <a:spcPts val="15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,25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Rectángulo 5"/>
          <p:cNvSpPr/>
          <p:nvPr/>
        </p:nvSpPr>
        <p:spPr>
          <a:xfrm>
            <a:off x="1169280" y="6072120"/>
            <a:ext cx="4441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ategoría de referencia IMC: ¨Normopes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5 Rectángulo"/>
          <p:cNvSpPr/>
          <p:nvPr/>
        </p:nvSpPr>
        <p:spPr>
          <a:xfrm>
            <a:off x="1603080" y="57168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57120" y="15001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003366"/>
                </a:solidFill>
                <a:latin typeface="Arial"/>
                <a:ea typeface="Arial"/>
              </a:rPr>
              <a:t>CONCLUSIONES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Rectángulo 3"/>
          <p:cNvSpPr/>
          <p:nvPr/>
        </p:nvSpPr>
        <p:spPr>
          <a:xfrm>
            <a:off x="214200" y="2500200"/>
            <a:ext cx="8572680" cy="3020040"/>
          </a:xfrm>
          <a:prstGeom prst="rect">
            <a:avLst/>
          </a:prstGeom>
          <a:solidFill>
            <a:srgbClr val="dde2ed"/>
          </a:solidFill>
          <a:ln w="9360">
            <a:solidFill>
              <a:srgbClr val="1b60a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obesidad en los pacientes del sexo masculino con insuficiencia cardiaca crónica de causa isquémica o hipertensiva y tratamiento médico óptimo, no aumentó la mortalidad, presentaron mejor supervivencia a cinco añ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5 Rectángulo"/>
          <p:cNvSpPr/>
          <p:nvPr/>
        </p:nvSpPr>
        <p:spPr>
          <a:xfrm>
            <a:off x="1460160" y="57168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</p:pic>
      <p:sp>
        <p:nvSpPr>
          <p:cNvPr id="619" name="3 CuadroTexto"/>
          <p:cNvSpPr/>
          <p:nvPr/>
        </p:nvSpPr>
        <p:spPr>
          <a:xfrm>
            <a:off x="4143240" y="57862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snudo en gris, Rufino Tamay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4 CuadroTexto"/>
          <p:cNvSpPr/>
          <p:nvPr/>
        </p:nvSpPr>
        <p:spPr>
          <a:xfrm>
            <a:off x="0" y="1785960"/>
            <a:ext cx="514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Monotype Corsiva"/>
              </a:rPr>
              <a:t>GRACIAS…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4 Rectángulo"/>
          <p:cNvSpPr/>
          <p:nvPr/>
        </p:nvSpPr>
        <p:spPr>
          <a:xfrm>
            <a:off x="3286080" y="4143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ensar si nuestras “verdades” nos conducen por los caminos adecuados, o continuamos en el mismo sendero con final incier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5 Rectángulo"/>
          <p:cNvSpPr/>
          <p:nvPr/>
        </p:nvSpPr>
        <p:spPr>
          <a:xfrm>
            <a:off x="1460160" y="50004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14200" y="2214360"/>
            <a:ext cx="8715600" cy="33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Causa más frecuente de muerte cardiovascular en población mayor de 65 años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Arial"/>
              </a:rPr>
              <a:t>Sobreviven 50% de los pacientes a los 5 años del diagnóstico.</a:t>
            </a:r>
            <a:r>
              <a:rPr b="1" lang="en-US" sz="2400" spc="-1" strike="noStrike" baseline="30000">
                <a:solidFill>
                  <a:srgbClr val="0033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Mortalidad en Cuba: 2010           13 por 100 000 hab. 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Arial"/>
              </a:rPr>
              <a:t>2018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          </a:t>
            </a:r>
            <a:r>
              <a:rPr b="1" lang="es-ES_tradnl" sz="2400" spc="-1" strike="noStrike">
                <a:solidFill>
                  <a:srgbClr val="003366"/>
                </a:solidFill>
                <a:latin typeface="Verdana"/>
              </a:rPr>
              <a:t>17,2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Arial"/>
              </a:rPr>
              <a:t>por 100 000 hab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3" name="3 Rectángulo"/>
          <p:cNvSpPr/>
          <p:nvPr/>
        </p:nvSpPr>
        <p:spPr>
          <a:xfrm>
            <a:off x="142920" y="5688000"/>
            <a:ext cx="8715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Insuficiencia cardíaca: Aspectos básicos de una epidemia en aumento CorSalud 2016 Ene-Mar;8(1):58-70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harma A, Lavie CJ, et al, Meta-Analysis of the relation of body mass index to all-cause and cardiovascular mortality in patients with chronic heart failure.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Am J Cardiol. 2015;115:1428-3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uba. Ministerio de Salud Pública. Anuario Estadístico de Salud 2016. La Habana: Dirección Nacional de Estadística y Registros Médicos; 201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4 Rectángulo"/>
          <p:cNvSpPr/>
          <p:nvPr/>
        </p:nvSpPr>
        <p:spPr>
          <a:xfrm>
            <a:off x="428760" y="142884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Insuficiencia cardiaca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Problema de salu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35" name="6 Conector recto de flecha"/>
          <p:cNvCxnSpPr/>
          <p:nvPr/>
        </p:nvCxnSpPr>
        <p:spPr>
          <a:xfrm>
            <a:off x="4429080" y="4642920"/>
            <a:ext cx="643320" cy="2520"/>
          </a:xfrm>
          <a:prstGeom prst="straightConnector1">
            <a:avLst/>
          </a:prstGeom>
          <a:ln w="54000">
            <a:solidFill>
              <a:srgbClr val="99190b"/>
            </a:solidFill>
            <a:miter/>
            <a:tailEnd len="med" type="arrow" w="med"/>
          </a:ln>
        </p:spPr>
      </p:cxnSp>
      <p:cxnSp>
        <p:nvCxnSpPr>
          <p:cNvPr id="536" name="10 Conector recto de flecha"/>
          <p:cNvCxnSpPr/>
          <p:nvPr/>
        </p:nvCxnSpPr>
        <p:spPr>
          <a:xfrm>
            <a:off x="4429080" y="5000760"/>
            <a:ext cx="643320" cy="2160"/>
          </a:xfrm>
          <a:prstGeom prst="straightConnector1">
            <a:avLst/>
          </a:prstGeom>
          <a:ln w="54000">
            <a:solidFill>
              <a:srgbClr val="99190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8 Imagen" descr=""/>
          <p:cNvPicPr/>
          <p:nvPr/>
        </p:nvPicPr>
        <p:blipFill>
          <a:blip r:embed="rId1"/>
          <a:stretch/>
        </p:blipFill>
        <p:spPr>
          <a:xfrm>
            <a:off x="5148360" y="2428920"/>
            <a:ext cx="3168720" cy="3232080"/>
          </a:xfrm>
          <a:prstGeom prst="rect">
            <a:avLst/>
          </a:prstGeom>
          <a:ln w="0">
            <a:noFill/>
          </a:ln>
        </p:spPr>
      </p:pic>
      <p:pic>
        <p:nvPicPr>
          <p:cNvPr id="538" name="10 Imagen" descr=""/>
          <p:cNvPicPr/>
          <p:nvPr/>
        </p:nvPicPr>
        <p:blipFill>
          <a:blip r:embed="rId2"/>
          <a:stretch/>
        </p:blipFill>
        <p:spPr>
          <a:xfrm>
            <a:off x="8286840" y="2643120"/>
            <a:ext cx="857160" cy="1575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"/>
          <p:cNvPicPr/>
          <p:nvPr/>
        </p:nvPicPr>
        <p:blipFill>
          <a:blip r:embed="rId3"/>
          <a:stretch/>
        </p:blipFill>
        <p:spPr>
          <a:xfrm>
            <a:off x="2857680" y="1214280"/>
            <a:ext cx="2736720" cy="2590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"/>
          <p:cNvPicPr/>
          <p:nvPr/>
        </p:nvPicPr>
        <p:blipFill>
          <a:blip r:embed="rId4"/>
          <a:stretch/>
        </p:blipFill>
        <p:spPr>
          <a:xfrm>
            <a:off x="214200" y="2286000"/>
            <a:ext cx="2737080" cy="3367080"/>
          </a:xfrm>
          <a:prstGeom prst="rect">
            <a:avLst/>
          </a:prstGeom>
          <a:ln w="0">
            <a:noFill/>
          </a:ln>
        </p:spPr>
      </p:pic>
      <p:sp>
        <p:nvSpPr>
          <p:cNvPr id="541" name="7 Rectángulo"/>
          <p:cNvSpPr/>
          <p:nvPr/>
        </p:nvSpPr>
        <p:spPr>
          <a:xfrm>
            <a:off x="250920" y="5734080"/>
            <a:ext cx="321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Tamara B. Horwich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The Relationship Between Obesity and Mortality in Patients With Heart Failure J Am  Coll Cardiol 200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7 Rectángulo"/>
          <p:cNvSpPr/>
          <p:nvPr/>
        </p:nvSpPr>
        <p:spPr>
          <a:xfrm>
            <a:off x="5580000" y="5950080"/>
            <a:ext cx="32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2018 protocolo IC HH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7 Rectángulo"/>
          <p:cNvSpPr/>
          <p:nvPr/>
        </p:nvSpPr>
        <p:spPr>
          <a:xfrm>
            <a:off x="1742040" y="50004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4 Rectángulo"/>
          <p:cNvSpPr/>
          <p:nvPr/>
        </p:nvSpPr>
        <p:spPr>
          <a:xfrm>
            <a:off x="35712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obl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¿</a:t>
            </a:r>
            <a:r>
              <a:rPr b="1" lang="es-VE" sz="2400" spc="-1" strike="noStrike">
                <a:solidFill>
                  <a:srgbClr val="003366"/>
                </a:solidFill>
                <a:latin typeface="Arial"/>
                <a:ea typeface="Arial"/>
              </a:rPr>
              <a:t> Existe asociación entre la obesidad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y la mortalidad en hombres con insuficiencia cardiaca crónica</a:t>
            </a:r>
            <a:r>
              <a:rPr b="1" lang="es-VE" sz="2400" spc="-1" strike="noStrike">
                <a:solidFill>
                  <a:srgbClr val="003366"/>
                </a:solidFill>
                <a:latin typeface="Arial"/>
                <a:ea typeface="Arial"/>
              </a:rPr>
              <a:t>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5 Rectángulo"/>
          <p:cNvSpPr/>
          <p:nvPr/>
        </p:nvSpPr>
        <p:spPr>
          <a:xfrm>
            <a:off x="357120" y="3643200"/>
            <a:ext cx="8358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Objetivo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valuar la asociaci</a:t>
            </a:r>
            <a:r>
              <a:rPr b="1" lang="es-VE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ó</a:t>
            </a:r>
            <a:r>
              <a:rPr b="1" lang="es-VE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 entre obesidad y mortalidad en hombres con insuficiencia cardiaca cr</a:t>
            </a:r>
            <a:r>
              <a:rPr b="1" lang="es-VE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ó</a:t>
            </a:r>
            <a:r>
              <a:rPr b="1" lang="es-VE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7" name="Picture 4" descr="G:\índice3.jpg"/>
          <p:cNvPicPr/>
          <p:nvPr/>
        </p:nvPicPr>
        <p:blipFill>
          <a:blip r:embed="rId1"/>
          <a:stretch/>
        </p:blipFill>
        <p:spPr>
          <a:xfrm>
            <a:off x="6072120" y="2643120"/>
            <a:ext cx="24861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3 CuadroTexto"/>
          <p:cNvSpPr/>
          <p:nvPr/>
        </p:nvSpPr>
        <p:spPr>
          <a:xfrm>
            <a:off x="595800" y="1643040"/>
            <a:ext cx="38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seño metodológic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2 Rectángulo"/>
          <p:cNvSpPr/>
          <p:nvPr/>
        </p:nvSpPr>
        <p:spPr>
          <a:xfrm>
            <a:off x="571680" y="2357280"/>
            <a:ext cx="7786440" cy="3385800"/>
          </a:xfrm>
          <a:prstGeom prst="rect">
            <a:avLst/>
          </a:prstGeom>
          <a:solidFill>
            <a:srgbClr val="dd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Estudio: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Analítico de cohorte prospectiv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Lugar: </a:t>
            </a:r>
            <a:r>
              <a:rPr b="0" lang="es-VE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Hospital Hermanos Ameijeiras</a:t>
            </a:r>
            <a:r>
              <a:rPr b="1" lang="es-VE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eriodo de estudi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s-CO" sz="2400" spc="-1" strike="noStrike">
                <a:solidFill>
                  <a:srgbClr val="003366"/>
                </a:solidFill>
                <a:latin typeface="Arial"/>
              </a:rPr>
              <a:t>enero de 2009 y diciembre de 20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3366"/>
                </a:solidFill>
                <a:latin typeface="Arial"/>
              </a:rPr>
              <a:t>Muestra</a:t>
            </a:r>
            <a:r>
              <a:rPr b="0" lang="es-CO" sz="2400" spc="-1" strike="noStrike">
                <a:solidFill>
                  <a:srgbClr val="003366"/>
                </a:solidFill>
                <a:latin typeface="Arial"/>
              </a:rPr>
              <a:t>: n=109 pac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3 Rectángulo"/>
          <p:cNvSpPr/>
          <p:nvPr/>
        </p:nvSpPr>
        <p:spPr>
          <a:xfrm>
            <a:off x="888480" y="571680"/>
            <a:ext cx="68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"/>
          <p:cNvSpPr/>
          <p:nvPr/>
        </p:nvSpPr>
        <p:spPr>
          <a:xfrm>
            <a:off x="714240" y="1801080"/>
            <a:ext cx="7572600" cy="3385800"/>
          </a:xfrm>
          <a:prstGeom prst="rect">
            <a:avLst/>
          </a:prstGeom>
          <a:solidFill>
            <a:srgbClr val="dd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  <a:ea typeface="Calibri"/>
              </a:rPr>
              <a:t>Criterios de incl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  <a:ea typeface="Calibri"/>
              </a:rPr>
              <a:t>Pacientes del sexo masculino mayores de 18 años de edad, con insuficiencia cardiaca por disfunción sistólica, diastólica o ambas, demostrada por ecocardiogra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  <a:ea typeface="Calibri"/>
              </a:rPr>
              <a:t>Tener tratamiento médico óptimo (con enalapril o captopril o losartan, espironolactona, carvedilol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  <a:ea typeface="Calibri"/>
              </a:rPr>
              <a:t>Ausencia de síntomas y signos congestiv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714240" y="1801080"/>
            <a:ext cx="7572600" cy="3385800"/>
          </a:xfrm>
          <a:prstGeom prst="rect">
            <a:avLst/>
          </a:prstGeom>
          <a:solidFill>
            <a:srgbClr val="dd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  <a:ea typeface="Calibri"/>
              </a:rPr>
              <a:t>Criterios de excl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  <a:ea typeface="Calibri"/>
              </a:rPr>
              <a:t>Pacientes con otra enfermedad grave que afectara el pronóstico dentro del año: EPOC severa, insuficiencia renal crónica terminal, cánc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  <a:ea typeface="Calibri"/>
              </a:rPr>
              <a:t>Pacientes con enfermedades infecciosas crónicas como tuberculosis y VIH, enfermedades endocrinas como las del tiroides, pacientes con pérdida de peso voluntaria</a:t>
            </a:r>
            <a:r>
              <a:rPr b="0" lang="es-CO" sz="12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571680" y="1760760"/>
            <a:ext cx="7715160" cy="4483080"/>
          </a:xfrm>
          <a:prstGeom prst="rect">
            <a:avLst/>
          </a:prstGeom>
          <a:solidFill>
            <a:srgbClr val="dd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riterio de sal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andono del tratamien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ientes que no se mantuvieron en seguimiento en la consul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cientes que se le diagnosticó durante el seguimiento enfermedades que modifican el pronóstico o el peso corporal (ver criterios de exclusión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cientes que fallecieron y la causa de la muerte no se corroboró con documentación al efecto o la causa de muerte no fue cardiovas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4 CuadroTexto"/>
          <p:cNvSpPr/>
          <p:nvPr/>
        </p:nvSpPr>
        <p:spPr>
          <a:xfrm>
            <a:off x="15480" y="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iseño metodológic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5 Rectángulo"/>
          <p:cNvSpPr/>
          <p:nvPr/>
        </p:nvSpPr>
        <p:spPr>
          <a:xfrm>
            <a:off x="1103040" y="50004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7" name="3 Marcador de contenido" descr=""/>
          <p:cNvPicPr/>
          <p:nvPr/>
        </p:nvPicPr>
        <p:blipFill>
          <a:blip r:embed="rId1"/>
          <a:stretch/>
        </p:blipFill>
        <p:spPr>
          <a:xfrm>
            <a:off x="-19080" y="1695600"/>
            <a:ext cx="4981680" cy="4565520"/>
          </a:xfrm>
          <a:prstGeom prst="rect">
            <a:avLst/>
          </a:prstGeom>
          <a:ln w="0">
            <a:noFill/>
          </a:ln>
        </p:spPr>
      </p:pic>
      <p:sp>
        <p:nvSpPr>
          <p:cNvPr id="558" name="4 CuadroTexto"/>
          <p:cNvSpPr/>
          <p:nvPr/>
        </p:nvSpPr>
        <p:spPr>
          <a:xfrm>
            <a:off x="293040" y="31431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ob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5 Rectángulo"/>
          <p:cNvSpPr/>
          <p:nvPr/>
        </p:nvSpPr>
        <p:spPr>
          <a:xfrm>
            <a:off x="578160" y="1214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Variable pronó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6 Rectángulo"/>
          <p:cNvSpPr/>
          <p:nvPr/>
        </p:nvSpPr>
        <p:spPr>
          <a:xfrm>
            <a:off x="5581440" y="128592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Variable de 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1" name="10 Diagrama" descr=""/>
          <p:cNvPicPr/>
          <p:nvPr/>
        </p:nvPicPr>
        <p:blipFill>
          <a:blip r:embed="rId2"/>
          <a:stretch/>
        </p:blipFill>
        <p:spPr>
          <a:xfrm>
            <a:off x="5138640" y="1841400"/>
            <a:ext cx="3865680" cy="4394160"/>
          </a:xfrm>
          <a:prstGeom prst="rect">
            <a:avLst/>
          </a:prstGeom>
          <a:ln w="0">
            <a:noFill/>
          </a:ln>
        </p:spPr>
      </p:pic>
      <p:sp>
        <p:nvSpPr>
          <p:cNvPr id="562" name="7 CuadroTexto"/>
          <p:cNvSpPr/>
          <p:nvPr/>
        </p:nvSpPr>
        <p:spPr>
          <a:xfrm>
            <a:off x="15480" y="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iseño metodológic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8 Abrir llave"/>
          <p:cNvSpPr/>
          <p:nvPr/>
        </p:nvSpPr>
        <p:spPr>
          <a:xfrm>
            <a:off x="1643040" y="2500200"/>
            <a:ext cx="142920" cy="1928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928880"/>
              <a:gd name="textAreaBottom" fmla="*/ 19252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4" name="3 Conector recto de flecha"/>
          <p:cNvCxnSpPr/>
          <p:nvPr/>
        </p:nvCxnSpPr>
        <p:spPr>
          <a:xfrm>
            <a:off x="2356200" y="1714680"/>
            <a:ext cx="1080" cy="1432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65" name="43 Rectángulo"/>
          <p:cNvSpPr/>
          <p:nvPr/>
        </p:nvSpPr>
        <p:spPr>
          <a:xfrm>
            <a:off x="2786040" y="-214200"/>
            <a:ext cx="3357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52 Rectángulo redondeado"/>
          <p:cNvSpPr/>
          <p:nvPr/>
        </p:nvSpPr>
        <p:spPr>
          <a:xfrm>
            <a:off x="500040" y="1857240"/>
            <a:ext cx="50007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d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53 CuadroTexto"/>
          <p:cNvSpPr/>
          <p:nvPr/>
        </p:nvSpPr>
        <p:spPr>
          <a:xfrm>
            <a:off x="428760" y="192888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ratamiento médico óptimo, individualiz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59 CuadroTexto"/>
          <p:cNvSpPr/>
          <p:nvPr/>
        </p:nvSpPr>
        <p:spPr>
          <a:xfrm>
            <a:off x="289080" y="264312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nalapril 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aptopri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60 CuadroTexto"/>
          <p:cNvSpPr/>
          <p:nvPr/>
        </p:nvSpPr>
        <p:spPr>
          <a:xfrm>
            <a:off x="3000240" y="25718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spironolacton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61 CuadroTexto"/>
          <p:cNvSpPr/>
          <p:nvPr/>
        </p:nvSpPr>
        <p:spPr>
          <a:xfrm>
            <a:off x="1361160" y="26431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arvedilo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62 CuadroTexto"/>
          <p:cNvSpPr/>
          <p:nvPr/>
        </p:nvSpPr>
        <p:spPr>
          <a:xfrm>
            <a:off x="4643280" y="257184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Diurétic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65 Elipse"/>
          <p:cNvSpPr/>
          <p:nvPr/>
        </p:nvSpPr>
        <p:spPr>
          <a:xfrm>
            <a:off x="357120" y="3571920"/>
            <a:ext cx="5000760" cy="642960"/>
          </a:xfrm>
          <a:prstGeom prst="ellipse">
            <a:avLst/>
          </a:prstGeom>
          <a:noFill/>
          <a:ln w="25560">
            <a:solidFill>
              <a:srgbClr val="cd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66 CuadroTexto"/>
          <p:cNvSpPr/>
          <p:nvPr/>
        </p:nvSpPr>
        <p:spPr>
          <a:xfrm>
            <a:off x="516600" y="36432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usencia clínica de síntomas congestiv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71 Rectángulo"/>
          <p:cNvSpPr/>
          <p:nvPr/>
        </p:nvSpPr>
        <p:spPr>
          <a:xfrm>
            <a:off x="214200" y="5000760"/>
            <a:ext cx="2714760" cy="857160"/>
          </a:xfrm>
          <a:prstGeom prst="rect">
            <a:avLst/>
          </a:prstGeom>
          <a:noFill/>
          <a:ln w="25560">
            <a:solidFill>
              <a:srgbClr val="cd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72 CuadroTexto"/>
          <p:cNvSpPr/>
          <p:nvPr/>
        </p:nvSpPr>
        <p:spPr>
          <a:xfrm>
            <a:off x="285840" y="5072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álculo del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MC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al inicio  y después an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76" name="81 Conector recto de flecha"/>
          <p:cNvCxnSpPr/>
          <p:nvPr/>
        </p:nvCxnSpPr>
        <p:spPr>
          <a:xfrm flipH="1">
            <a:off x="2071080" y="2357280"/>
            <a:ext cx="214920" cy="286560"/>
          </a:xfrm>
          <a:prstGeom prst="straightConnector1">
            <a:avLst/>
          </a:prstGeom>
          <a:ln w="9360">
            <a:solidFill>
              <a:srgbClr val="1b60ad"/>
            </a:solidFill>
            <a:miter/>
            <a:tailEnd len="med" type="triangle" w="med"/>
          </a:ln>
        </p:spPr>
      </p:cxnSp>
      <p:cxnSp>
        <p:nvCxnSpPr>
          <p:cNvPr id="577" name="82 Conector recto de flecha"/>
          <p:cNvCxnSpPr/>
          <p:nvPr/>
        </p:nvCxnSpPr>
        <p:spPr>
          <a:xfrm flipH="1">
            <a:off x="1142280" y="2428560"/>
            <a:ext cx="214920" cy="214920"/>
          </a:xfrm>
          <a:prstGeom prst="straightConnector1">
            <a:avLst/>
          </a:prstGeom>
          <a:ln w="9360">
            <a:solidFill>
              <a:srgbClr val="1b60ad"/>
            </a:solidFill>
            <a:miter/>
            <a:tailEnd len="med" type="triangle" w="med"/>
          </a:ln>
        </p:spPr>
      </p:cxnSp>
      <p:cxnSp>
        <p:nvCxnSpPr>
          <p:cNvPr id="578" name="88 Conector recto de flecha"/>
          <p:cNvCxnSpPr/>
          <p:nvPr/>
        </p:nvCxnSpPr>
        <p:spPr>
          <a:xfrm>
            <a:off x="3213720" y="2357280"/>
            <a:ext cx="143640" cy="216720"/>
          </a:xfrm>
          <a:prstGeom prst="straightConnector1">
            <a:avLst/>
          </a:prstGeom>
          <a:ln w="9360">
            <a:solidFill>
              <a:srgbClr val="1b60ad"/>
            </a:solidFill>
            <a:miter/>
            <a:tailEnd len="med" type="triangle" w="med"/>
          </a:ln>
        </p:spPr>
      </p:cxnSp>
      <p:cxnSp>
        <p:nvCxnSpPr>
          <p:cNvPr id="579" name="89 Conector recto de flecha"/>
          <p:cNvCxnSpPr/>
          <p:nvPr/>
        </p:nvCxnSpPr>
        <p:spPr>
          <a:xfrm>
            <a:off x="4572000" y="2357280"/>
            <a:ext cx="286560" cy="215280"/>
          </a:xfrm>
          <a:prstGeom prst="straightConnector1">
            <a:avLst/>
          </a:prstGeom>
          <a:ln w="9360">
            <a:solidFill>
              <a:srgbClr val="1b60ad"/>
            </a:solidFill>
            <a:miter/>
            <a:tailEnd len="med" type="triangle" w="med"/>
          </a:ln>
        </p:spPr>
      </p:cxnSp>
      <p:sp>
        <p:nvSpPr>
          <p:cNvPr id="580" name="99 Flecha derecha"/>
          <p:cNvSpPr/>
          <p:nvPr/>
        </p:nvSpPr>
        <p:spPr>
          <a:xfrm>
            <a:off x="3000240" y="5143680"/>
            <a:ext cx="28584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104 Flecha abajo"/>
          <p:cNvSpPr/>
          <p:nvPr/>
        </p:nvSpPr>
        <p:spPr>
          <a:xfrm>
            <a:off x="2428920" y="2357280"/>
            <a:ext cx="484200" cy="114300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105 Rectángulo"/>
          <p:cNvSpPr/>
          <p:nvPr/>
        </p:nvSpPr>
        <p:spPr>
          <a:xfrm>
            <a:off x="7143840" y="5072040"/>
            <a:ext cx="1428840" cy="714240"/>
          </a:xfrm>
          <a:prstGeom prst="rect">
            <a:avLst/>
          </a:prstGeom>
          <a:noFill/>
          <a:ln w="25560">
            <a:solidFill>
              <a:srgbClr val="cd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106 CuadroTexto"/>
          <p:cNvSpPr/>
          <p:nvPr/>
        </p:nvSpPr>
        <p:spPr>
          <a:xfrm>
            <a:off x="7157880" y="52149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Mortalida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107 CuadroTexto"/>
          <p:cNvSpPr/>
          <p:nvPr/>
        </p:nvSpPr>
        <p:spPr>
          <a:xfrm>
            <a:off x="3286080" y="5143680"/>
            <a:ext cx="3357720" cy="398880"/>
          </a:xfrm>
          <a:prstGeom prst="rect">
            <a:avLst/>
          </a:prstGeom>
          <a:noFill/>
          <a:ln w="41400">
            <a:solidFill>
              <a:srgbClr val="cd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guimiento 3 veces al añ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1 Título"/>
          <p:cNvSpPr/>
          <p:nvPr/>
        </p:nvSpPr>
        <p:spPr>
          <a:xfrm>
            <a:off x="-142920" y="0"/>
            <a:ext cx="40719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lgorítmo metodológ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63 Flecha derecha"/>
          <p:cNvSpPr/>
          <p:nvPr/>
        </p:nvSpPr>
        <p:spPr>
          <a:xfrm>
            <a:off x="6715080" y="521496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42 Flecha curvada hacia arriba"/>
          <p:cNvSpPr/>
          <p:nvPr/>
        </p:nvSpPr>
        <p:spPr>
          <a:xfrm>
            <a:off x="2643120" y="5786280"/>
            <a:ext cx="5357880" cy="857520"/>
          </a:xfrm>
          <a:custGeom>
            <a:avLst/>
            <a:gdLst>
              <a:gd name="textAreaLeft" fmla="*/ 1240560 w 5357880"/>
              <a:gd name="textAreaRight" fmla="*/ 3983040 w 5357880"/>
              <a:gd name="textAreaTop" fmla="*/ 114840 h 857520"/>
              <a:gd name="textAreaBottom" fmla="*/ 7426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04" hR="21600" stAng="10800000" swAng="-5400000"/>
                <a:lnTo>
                  <a:pt x="11055" y="21600"/>
                </a:lnTo>
                <a:arcTo wR="10004" hR="21600" stAng="5400000" swAng="-3651655"/>
                <a:lnTo>
                  <a:pt x="21282" y="5400"/>
                </a:lnTo>
                <a:lnTo>
                  <a:pt x="20534" y="0"/>
                </a:lnTo>
                <a:lnTo>
                  <a:pt x="19149" y="5400"/>
                </a:lnTo>
                <a:lnTo>
                  <a:pt x="19690" y="5400"/>
                </a:lnTo>
                <a:arcTo wR="10004" hR="21600" stAng="1748345" swAng="3567920"/>
                <a:lnTo>
                  <a:pt x="10530" y="21570"/>
                </a:lnTo>
                <a:arcTo wR="10004" hR="21600" stAng="5483735" swAng="5316265"/>
                <a:close/>
              </a:path>
              <a:path fill="darkenLess" w="21600" h="21600">
                <a:moveTo>
                  <a:pt x="0" y="0"/>
                </a:moveTo>
                <a:arcTo wR="10004" hR="21600" stAng="10800000" swAng="-5400000"/>
                <a:lnTo>
                  <a:pt x="11055" y="21600"/>
                </a:lnTo>
                <a:arcTo wR="10004" hR="21600" stAng="5400000" swAng="83735"/>
                <a:lnTo>
                  <a:pt x="10530" y="21570"/>
                </a:lnTo>
                <a:arcTo wR="10004" hR="21600" stAng="5483735" swAng="53162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44 CuadroTexto"/>
          <p:cNvSpPr/>
          <p:nvPr/>
        </p:nvSpPr>
        <p:spPr>
          <a:xfrm>
            <a:off x="1428840" y="1285920"/>
            <a:ext cx="1857240" cy="398880"/>
          </a:xfrm>
          <a:prstGeom prst="rect">
            <a:avLst/>
          </a:prstGeom>
          <a:noFill/>
          <a:ln w="9360">
            <a:solidFill>
              <a:srgbClr val="cd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234 pacie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49 Flecha abajo"/>
          <p:cNvSpPr/>
          <p:nvPr/>
        </p:nvSpPr>
        <p:spPr>
          <a:xfrm>
            <a:off x="2071800" y="4143240"/>
            <a:ext cx="357120" cy="857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28 Rectángulo"/>
          <p:cNvSpPr/>
          <p:nvPr/>
        </p:nvSpPr>
        <p:spPr>
          <a:xfrm>
            <a:off x="6786720" y="1785960"/>
            <a:ext cx="235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valuación clín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lucemia Colesterol Triglicéri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co cardiogr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K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tinin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29 Rectángulo redondeado"/>
          <p:cNvSpPr/>
          <p:nvPr/>
        </p:nvSpPr>
        <p:spPr>
          <a:xfrm>
            <a:off x="6786720" y="1714680"/>
            <a:ext cx="2143080" cy="228600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286000"/>
              <a:gd name="textAreaBottom" fmla="*/ 2181600 h 2286000"/>
            </a:gdLst>
            <a:ahLst/>
            <a:rect l="textAreaLeft" t="textAreaTop" r="textAreaRight" b="textAreaBottom"/>
            <a:pathLst>
              <a:path w="21600" h="23040">
                <a:moveTo>
                  <a:pt x="3600" y="0"/>
                </a:moveTo>
                <a:arcTo wR="3600" hR="3600" stAng="16200000" swAng="-5400000"/>
                <a:lnTo>
                  <a:pt x="0" y="19440"/>
                </a:lnTo>
                <a:arcTo wR="3600" hR="3600" stAng="10800000" swAng="-5400000"/>
                <a:lnTo>
                  <a:pt x="18000" y="230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d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592" name="32 Conector recto de flecha"/>
          <p:cNvCxnSpPr/>
          <p:nvPr/>
        </p:nvCxnSpPr>
        <p:spPr>
          <a:xfrm flipH="1">
            <a:off x="5714280" y="3929040"/>
            <a:ext cx="1215000" cy="1000800"/>
          </a:xfrm>
          <a:prstGeom prst="straightConnector1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3" name="36 CuadroTexto"/>
          <p:cNvSpPr/>
          <p:nvPr/>
        </p:nvSpPr>
        <p:spPr>
          <a:xfrm>
            <a:off x="13320" y="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33 Rectángulo"/>
          <p:cNvSpPr/>
          <p:nvPr/>
        </p:nvSpPr>
        <p:spPr>
          <a:xfrm>
            <a:off x="1388520" y="50004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814392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_tradnl" sz="2400" spc="-1" strike="noStrike">
                <a:solidFill>
                  <a:srgbClr val="003366"/>
                </a:solidFill>
                <a:latin typeface="Arial"/>
                <a:ea typeface="MS ??"/>
              </a:rPr>
              <a:t>Procesamiento de la Información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14200" y="1928880"/>
            <a:ext cx="8715600" cy="4643280"/>
          </a:xfrm>
          <a:prstGeom prst="rect">
            <a:avLst/>
          </a:prstGeom>
          <a:solidFill>
            <a:srgbClr val="dde2ed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Arial"/>
                <a:ea typeface="Arial"/>
              </a:rPr>
              <a:t>Para describir las características generales de la muestra se determinaron frecuencias absolutas y relativas. Se utilizó la prueba de chi cuadrado,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p significativa menor a 0,05, según la presencia o no de obesidad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Se evaluó la </a:t>
            </a: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supervivencia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mediante el empleo del método de Kaplan Meier, para la comparación de las diferentes curvas se empleó la prueba de Log Rank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determinó el riesgo relativo para evaluar la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ociación entre las variables clínicas y de pronóstic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en relación al riesgo de muerte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ra estimar e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ecto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nóstic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 la variable obesidad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obre la mortalidad se utilizó el modelo de regresión de Cox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2640" indent="-332640" algn="just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1800" y="7920"/>
            <a:ext cx="18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4 CuadroTexto"/>
          <p:cNvSpPr/>
          <p:nvPr/>
        </p:nvSpPr>
        <p:spPr>
          <a:xfrm>
            <a:off x="0" y="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5 Rectángulo"/>
          <p:cNvSpPr/>
          <p:nvPr/>
        </p:nvSpPr>
        <p:spPr>
          <a:xfrm>
            <a:off x="1460160" y="50004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Castillo_</cp:lastModifiedBy>
  <dcterms:modified xsi:type="dcterms:W3CDTF">2011-08-14T04:03:52Z</dcterms:modified>
  <cp:revision>93</cp:revision>
  <dc:subject/>
  <dc:title>PowerPoint Template</dc:title>
</cp:coreProperties>
</file>