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CC43FFD-489C-4C8B-91BE-E8BC0DDCC5D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Paleta de colores a criterio del autor (amarillo, rojo, azul o verde y blanco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D526428-D0D1-456B-A8F6-7511F2D7AAC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687-60E3-48C6-B7F2-281E49C6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457-BDED-491B-99A5-AB5231F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E205-374C-464F-B4C3-1DABF41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EB580-BDDA-4F7D-89CB-415F876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364F-438B-4537-BDAF-ACAD90B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B54FF-DE6C-4C10-8690-FB9D0D2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67362-88B4-42F9-BB01-1FA8CBE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04FBA-5DA0-4B3E-B08A-43E45D2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B5EE9-E10A-44C8-A866-F767943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2EA25-70CA-413C-A91A-222B805C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503F6-9733-4167-90AD-B8ABF50B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F15BF-AE48-41A1-8684-D739827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4DE-F60A-4983-A92C-6A5A95DB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8BFED-9F7B-4D88-BA26-27F51F2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45285-9327-49B9-B954-E5492D6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51F7E-697E-47AA-ACA1-ACB4318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A2D84-EFBE-4F5A-99DA-68DEE44D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0FC1-A12A-4D46-99EB-94425B0A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0F9C2-F1E9-4906-9313-040E04C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AAFB-B2F8-4830-822C-731FDFE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B3AE8-6C7B-444C-A7DB-05B481F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630F-FC7D-4F63-BEA4-7D44987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3C94C-7D8C-4869-B2A5-AF9BEA94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084-CC97-4339-A5AF-5DF69A87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ABC2F-B769-42AE-AAE1-B6E34DAB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31181-E577-47C2-B09D-470DC675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7C03-4E30-4E8D-ADD7-14FE773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3BD9-3B34-4F55-91AC-215658D1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0100-10DE-43A7-9E28-978C4FA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4F14-0080-4030-B0DA-C3B22876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AD5D5-3A3D-4089-BE9E-AAA6422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26CF2-DDB9-4B9D-9C4A-55069CA4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A2197-B2C1-46E8-9465-A99C703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AB42-2971-456B-AD02-2AF7DA3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6A05-978D-4FE2-8FDF-FFF0B43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2CB2-55A1-4989-9E93-68A11EE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3805-8FD6-48FF-A385-10265B5F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ACCE0-3A72-48E9-A418-A21E6E0E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37677-465A-415D-9DE2-8FFA9EFD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60A97-D97F-4FE6-890F-471F2FC8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6A7D-AC9C-4598-A644-3E6F37C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6F9A6-4511-4BBD-B282-67E434F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537C-9538-4610-8C2B-DB1F63D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C70C7-4FEB-440A-A750-7243B687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732E5-6DBC-4F8A-B491-288533B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B91D-F1A2-44F5-B032-D69E9C0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3BAED-752C-4FAF-8F72-BB15DC5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220BB-B050-4FE2-8843-FAB53B5A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C1C41-16D6-41DC-B6F7-6453024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026C4-982A-4766-AAE7-A15B9319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5C106-08EB-4F0F-B29D-3CA55146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92431-0C19-4393-BC72-5C3B2102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0E011-A0C5-4E3D-8FD3-ED20B599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AB74B-091E-463E-9BBA-A30BEF53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289B2-3FB2-4BB6-AFDE-7A9910B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D73A4-DA71-45EC-A19C-9F8D68C3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3BEE-4802-4918-B488-72766909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624ED-4D0D-476C-A763-1CE6D42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B4B1A-CE20-4302-B159-FBD5C11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6907B-8817-4A66-B0D4-9E6195C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39F61-0F52-4BDF-B941-513B7824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C0DAF-C04A-4486-A349-CBD4B9E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0A5C6-DBE4-4B8F-A89F-E1601DD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40E06-5FF6-4303-9F54-C17ADA8E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9F71-9B08-43EE-B4AF-A480E22E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838-A312-4AD3-9C40-301B2B6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B36-403B-4BA8-BD25-F0B1FA6E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AD8F-4980-4688-9407-9677A35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180-F724-41EA-9C0C-C324267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A034-C34F-4FB5-A55E-9C3B903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6B2-18B9-4681-98BD-35CC2D7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538-09C5-49F9-83F5-2D63E218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F28C-91E3-443B-829B-3D6E79CD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AC3A-662E-4091-BCFC-D70DAF0D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34A8-B24A-4555-9F33-49F6742F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4F20-8D1A-4428-9646-7E09AFE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A9EB-C3B0-4ACE-9A34-1727F829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30D5-2618-4CF5-B7FB-575206C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ACDC-3436-48A5-B293-C32C962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01E-5275-498A-A846-83D310A9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2E4B-618E-47D0-9CD2-C4C581F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C234-BEF7-4385-94F5-7932A4E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B3E4-A8F7-4E5F-9BEA-F846407A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B011-88C9-4AD9-97FC-848D7CC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81A7-DC19-4E75-A23D-03AE6F5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E039-297B-4AD9-8D46-7B4FBBB4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C82D-8EF2-4DF4-ACF7-B7757E9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9671-5582-4022-91B0-25CA3208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4C6F-B66D-4123-B605-B2745A2E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562B-6191-47F5-A657-1E93ACBD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3BA-CAFA-49F4-B99B-D174F7C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2F8C-EAC6-4FEE-8CB5-2466EC13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8A146-1639-4EEA-BABF-99EE80A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D983-D372-41E5-87F0-D8F0643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82DE-70B7-4E98-8AF3-7BB23FB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1762-FDCD-44BB-9940-94F4DBB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EB47-29A0-468E-A781-85D4E3C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3D9A-65BC-4BF0-BC93-8131CF2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E439-74C1-437E-AD93-1A83BBAD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DE84-FB9D-468D-987F-7E20222A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89D9B-F539-4CCB-90C0-E57A67D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921-171B-4F87-B7D3-3FA6E9F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59BF-C754-42DB-A454-9AFE39A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73C9-A3D8-43E8-9990-B11DD42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9F63-C505-4A68-9E3F-3A7614C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7D83-3854-4555-A2E9-3DD2CA6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9E67-5129-4563-9C8A-D2114BD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3688-FDAA-4C21-980E-22998E3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AB63-B54D-4282-BFE9-92DB645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4694B-E758-41EF-996E-26D5FA0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496E-5C79-4F3D-ADBC-C41828C4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6EFC-A291-4313-B91F-30F23C19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686-73E0-4F3E-9E49-EBB199E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7808-293B-4EAD-B803-B3391471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CF27-4AA2-491C-837C-E0913423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9DD73-1DC2-4F32-A952-AB13A6B4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81D6-4682-4DF8-80DC-D78144D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D7AC-33D4-4B55-BD37-EB5BEBB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F8F1-A292-4805-AA04-4C9DBB1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B3FA-63D9-4686-938E-FAAA766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0D6E-DA2C-4D4D-803C-CEF2D7F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9DA3-0360-4904-9128-5189C84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63EA-A6DB-4538-B27D-5FC4E59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45F-6B2D-4071-B9DE-07B638C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994E-A3EB-4600-BC94-91507F6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0FA7-7462-45D8-AE0A-FFCB9E82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62C9-5A27-42EB-8F05-874B9F9D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B914-FF1E-420C-8145-37410307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DB65-7D78-4E4C-9974-F37A0D33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7289-FBA9-42B9-AC43-B9984CC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BB348-49E0-4690-A0CD-8F8603ED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151EF-38DE-4773-8598-07DB6CBA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2C5C6-A85E-4242-9C49-ADCAAE5E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0FDA-EE3E-4F19-BBDC-C32EDF3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74F-097A-4B5A-A026-90DC557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B38EC-037C-4BC8-A70A-17F91070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96C84-7BA8-46B6-897A-F8DF955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E1DA-A76F-4FBE-9611-98F2ED2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EBAE-8067-454B-8C4B-CBE72EB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2110-9F77-4577-B847-2CB88744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9C9D-A21C-4B8A-9CBD-6E4B60A8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70EF-F5F9-476A-9C7D-BDAC4BD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12112-A402-4F00-A170-6D4DEAC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D8A2-502E-4370-830E-4630801D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5F78-0918-4534-BC9C-EE7BA8A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2C2-778D-4220-B84C-171E22D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F6F2-8601-4E84-8460-EF890C5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D4C8-13EF-44B5-A251-11E6F4C6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9CB64-745C-4388-988B-1AD5946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048B-ED44-4166-86FB-CBF5C38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1A416-F5BA-4146-9CAD-8CFED94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EB26-0112-46E7-A8F0-6AA73F6F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CFDE-8550-465B-B587-4CF71BE5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9446-F493-4ACF-8C43-27BF747F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4CB92-73DC-4BFF-9B61-EF057875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F9C2B-42D7-44A9-91A0-D6135AA2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10DAEBD-7318-4F60-A8FF-907782E31D2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ED7F033-2516-414F-80EF-57CD77175C29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43BBE02A-2546-4EE8-87B5-AC4B2A1343C9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77E4CB4-D784-44D6-8CD4-25EAF8FAC07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1DB3171-AFB0-488F-9650-45A042C3B48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52613A80-7CC0-4012-BCA6-3D96951B0BC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C50E646-F988-42C9-8B0A-56E5ADE9395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64F9E16-8D1D-4C3A-97D9-56FA9AEB7DC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F01314F-FF11-482B-B13C-31E596923A1E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15B9C0AF-F3B8-43D2-9070-E6DF0E238CB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82CF549-9D10-410C-806D-41C34F92A3D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D6FCC1F-19D0-4E68-924C-399879B9D5E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CB26256-52D4-44DD-B651-E821D551EA7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93560" y="892080"/>
            <a:ext cx="5892840" cy="205200"/>
          </a:xfrm>
          <a:prstGeom prst="rect">
            <a:avLst/>
          </a:prstGeom>
          <a:solidFill>
            <a:srgbClr val="375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ctr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Calibri"/>
              </a:rPr>
              <a:t>JORNADA DE TEMAS TERMINADO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9"/>
          <p:cNvSpPr/>
          <p:nvPr/>
        </p:nvSpPr>
        <p:spPr>
          <a:xfrm>
            <a:off x="307800" y="1898640"/>
            <a:ext cx="3048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RODUCCIÓN: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Se define como complicación posoperatoria aquella eventualidad que ocurre en el curso previsto de un procedimiento quirúrgico con una respuesta local o sistémica que puede retrasar la recuperación y  poner en riesgo una función o la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23"/>
          <p:cNvSpPr/>
          <p:nvPr/>
        </p:nvSpPr>
        <p:spPr>
          <a:xfrm>
            <a:off x="284040" y="6107040"/>
            <a:ext cx="31561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RESULTADOS: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La muestra estuvo constituida por 205 pacientes. Predominaron los pacientes entre 41 y 50 años (48 %). La edad promedio fue de 47.1 (DE 19.6) años. Existió predominio del sexo femenino 55,2 %. Prevaleció el estado físico II, en el  50,4 %.. Del total de la muestra n=108 (43,2 %) presentaron complicaciones anestésicas, en la que predominó la hipertensión arterial (40 %). Las complicaciones anestésicas posoperatorias  prevaleció el dolor postoperatorio, n=92 (36,8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497400" y="4089240"/>
            <a:ext cx="3168360" cy="1878480"/>
          </a:xfrm>
          <a:prstGeom prst="rect">
            <a:avLst/>
          </a:prstGeom>
          <a:solidFill>
            <a:srgbClr val="375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Arial"/>
              </a:rPr>
              <a:t>CONCLUSIONES: </a:t>
            </a:r>
            <a:r>
              <a:rPr b="1" lang="es-CO" sz="1200" spc="-1" strike="noStrike">
                <a:solidFill>
                  <a:srgbClr val="ffffff"/>
                </a:solidFill>
                <a:latin typeface="Arial"/>
                <a:ea typeface="Arial"/>
              </a:rPr>
              <a:t>Se determinaron las complicaciones anestésicas intra y posoperatorias en pacientes que recibieron algún procedimiento quirúrgico electivo con anestesia general. La edad comprendida  entre 41 y 50 años, el sexo femenino presentaron mayor incidencia de complicaciones. Las complicaciones más frecuentes fueron nauseas y vómitos, dolor e hipoter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440160" y="6116040"/>
            <a:ext cx="3225600" cy="1697760"/>
          </a:xfrm>
          <a:prstGeom prst="rect">
            <a:avLst/>
          </a:prstGeom>
          <a:solidFill>
            <a:srgbClr val="375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Calibri"/>
              </a:rPr>
              <a:t>REFERENCI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olero Díez Y B, Sanchis Dux R, Ruiz Simón F J, Michel Tactuk M E, Cuello Azcárate J J. Actualización en complicaciones en la unidad de recuperación post anestésica . Nuevo Hosp.2019;15(1):2-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incón-Valenzuela DA, Escobar B. Manual de práctica clínica basado en la evidencia: preparación del paciente para el acto quirúrgico y traslado al quirófano.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v Colomb Anestesiol. 2015; 43(1):32-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23"/>
          <p:cNvSpPr/>
          <p:nvPr/>
        </p:nvSpPr>
        <p:spPr>
          <a:xfrm>
            <a:off x="378000" y="1635120"/>
            <a:ext cx="648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AUTORES:  Prof. 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Dr. Manuel Rivero Moreno y Dr. Freddy Andrés Molina Rodrígu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23"/>
          <p:cNvSpPr/>
          <p:nvPr/>
        </p:nvSpPr>
        <p:spPr>
          <a:xfrm>
            <a:off x="347760" y="1128600"/>
            <a:ext cx="61862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OMPLICACIONES ANESTÉSICAS POSOPERATORIAS EN PACIENTES TRATADOS CON ANESTESIA GEN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230040" y="3247920"/>
            <a:ext cx="31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BJETIVOS: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ar las complicaciones anestésicas intra y posoperatorias en pacientes con anestesia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254160" y="4121280"/>
            <a:ext cx="3186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ÉTODOS :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Se realizó un estudio descriptivo, de corte transversal en el Hospital “Hermanos Ameijeiras”, en el periodo de mayo del 2017 y mayo del 2019, con el fin de determinar las complicaciones anestésicas intra y posoperatorias en pacientes intervenidos quirúrgicamente que requirieron anestesia general, de forma elec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upo 25"/>
          <p:cNvGrpSpPr/>
          <p:nvPr/>
        </p:nvGrpSpPr>
        <p:grpSpPr>
          <a:xfrm>
            <a:off x="378000" y="8604360"/>
            <a:ext cx="5918040" cy="500040"/>
            <a:chOff x="378000" y="8604360"/>
            <a:chExt cx="5918040" cy="500040"/>
          </a:xfrm>
        </p:grpSpPr>
        <p:pic>
          <p:nvPicPr>
            <p:cNvPr id="550" name="Imagen 28" descr=""/>
            <p:cNvPicPr/>
            <p:nvPr/>
          </p:nvPicPr>
          <p:blipFill>
            <a:blip r:embed="rId1"/>
            <a:stretch/>
          </p:blipFill>
          <p:spPr>
            <a:xfrm>
              <a:off x="378000" y="8604360"/>
              <a:ext cx="5281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Imagen 29" descr=""/>
            <p:cNvPicPr/>
            <p:nvPr/>
          </p:nvPicPr>
          <p:blipFill>
            <a:blip r:embed="rId2"/>
            <a:stretch/>
          </p:blipFill>
          <p:spPr>
            <a:xfrm>
              <a:off x="2728800" y="8627400"/>
              <a:ext cx="5227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Imagen 30" descr=""/>
            <p:cNvPicPr/>
            <p:nvPr/>
          </p:nvPicPr>
          <p:blipFill>
            <a:blip r:embed="rId3"/>
            <a:srcRect l="0" t="0" r="40457" b="-2688"/>
            <a:stretch/>
          </p:blipFill>
          <p:spPr>
            <a:xfrm>
              <a:off x="5027040" y="8640000"/>
              <a:ext cx="1269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Imagen 31" descr=""/>
            <p:cNvPicPr/>
            <p:nvPr/>
          </p:nvPicPr>
          <p:blipFill>
            <a:blip r:embed="rId4"/>
            <a:stretch/>
          </p:blipFill>
          <p:spPr>
            <a:xfrm>
              <a:off x="3440880" y="8604360"/>
              <a:ext cx="1428840" cy="3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Imagen 32" descr=""/>
            <p:cNvPicPr/>
            <p:nvPr/>
          </p:nvPicPr>
          <p:blipFill>
            <a:blip r:embed="rId5"/>
            <a:stretch/>
          </p:blipFill>
          <p:spPr>
            <a:xfrm>
              <a:off x="906120" y="8604360"/>
              <a:ext cx="1665360" cy="3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CaixaDeTexto 22"/>
          <p:cNvSpPr/>
          <p:nvPr/>
        </p:nvSpPr>
        <p:spPr>
          <a:xfrm>
            <a:off x="3497400" y="1957320"/>
            <a:ext cx="30607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TABLAS/GRÁF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abla 5. Distribución de pacientes según frecuencia de complicaciones anestésic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Fuente. Planilla de recolección de d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475080" y="2703600"/>
          <a:ext cx="3152880" cy="1143000"/>
        </p:xfrm>
        <a:graphic>
          <a:graphicData uri="http://schemas.openxmlformats.org/drawingml/2006/table">
            <a:tbl>
              <a:tblPr/>
              <a:tblGrid>
                <a:gridCol w="1376280"/>
                <a:gridCol w="814320"/>
                <a:gridCol w="962280"/>
              </a:tblGrid>
              <a:tr h="45720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licaciones anestés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úm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</a:tr>
              <a:tr h="22860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com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com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b38"/>
                    </a:solidFill>
                  </a:tcPr>
                </a:tc>
              </a:tr>
            </a:tbl>
          </a:graphicData>
        </a:graphic>
      </p:graphicFrame>
      <p:pic>
        <p:nvPicPr>
          <p:cNvPr id="557" name="19 Imagen" descr=""/>
          <p:cNvPicPr/>
          <p:nvPr/>
        </p:nvPicPr>
        <p:blipFill>
          <a:blip r:embed="rId6"/>
          <a:stretch/>
        </p:blipFill>
        <p:spPr>
          <a:xfrm>
            <a:off x="196920" y="74520"/>
            <a:ext cx="1130400" cy="757440"/>
          </a:xfrm>
          <a:prstGeom prst="rect">
            <a:avLst/>
          </a:prstGeom>
          <a:ln w="9360">
            <a:solidFill>
              <a:srgbClr val="dfd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58" name="CuadroTexto 2"/>
          <p:cNvSpPr/>
          <p:nvPr/>
        </p:nvSpPr>
        <p:spPr>
          <a:xfrm>
            <a:off x="1828800" y="309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HOSPITAL  HERMANOS AMEIJEI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14:42:52Z</dcterms:created>
  <dc:creator>Gilberto Raimundo</dc:creator>
  <dc:description/>
  <dc:language>en-US</dc:language>
  <cp:lastModifiedBy>uq1doc</cp:lastModifiedBy>
  <dcterms:modified xsi:type="dcterms:W3CDTF">2020-10-22T15:11:41Z</dcterms:modified>
  <cp:revision>21</cp:revision>
  <dc:subject/>
  <dc:title>PowerPoint Presentation</dc:title>
</cp:coreProperties>
</file>