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7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12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A7909-5C23-4161-96B2-5F178BAC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980B3-EE0E-4536-8C45-848E99FE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CA9D7-B13C-447D-B213-9B713A8C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3E58-5817-4A3B-ACCD-57ABFF9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FC1BC-6254-4126-9735-707C2663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AA07-4B8C-4AD7-9493-E465009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7DA0-AEF2-4E20-9AB3-3DDBF81C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EEDED-8F49-4DC1-AFFD-5A205AA0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7238B-25AE-45E6-8DBD-2C1B9FCA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9524E-D9E0-46F5-88E8-BC1296D1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9273-8688-4F20-96F3-4664BF2E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917D9-7549-47AA-942D-067126EA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E178-E13D-4E95-AB91-1D2FC4A8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253E2-03C7-4952-BE81-692EFCAD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7DC93-8468-4688-ACAF-57795FA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9FEA-65C8-4677-82C7-50526BBD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AE19-B46E-4EC7-AFD5-3EEAEB92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1EA1-7F98-49D5-86DA-D8BBE4EB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76CB9-29B9-4F23-82AF-A938AAA7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DCB68-1826-43A6-A1B1-4F8C210C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3501-7AAB-4325-ADB5-6DC4F000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BD2C8-B6C0-441A-B996-8290B8D5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92AF8-596C-4D66-991A-595F2B1D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49C2C-8F1D-4988-96B5-88017168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1FC2A-C019-462B-B1E8-17A50BAA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46FC-32DB-4AB3-BE56-C92348F8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2D9F7-5174-413C-B0B9-B71D6DBA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21F02-07B4-439A-98C8-D0C312F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32CE-8F6A-4513-AB18-F1F6FF4B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8BB3E-3084-47CF-BFD6-7A72E63E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85D4C-4CC5-4410-93C7-E735E87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3CE8A-E94B-4603-8831-32CCA059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A67C2-0AD6-47F9-998D-8CA8B806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2F122-6A02-4994-88A4-596B0D34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99EE-1BAD-4825-A2B9-2C751AB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6EDCA-2299-4157-80A0-E54883EF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D19B9-4863-4D64-B815-FF774AE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EC041-8B01-4874-A3BD-6F68A474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A09DD-BAF1-4A83-9035-E4BACB75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967B7-C40D-471B-8439-A4ED88E9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254B3-7CB3-482C-BA00-7A9D70F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CF780-210D-46B2-8A39-3B12CFF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5A54-9C02-4D02-8D3A-ED6EBAF1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E53D-6FA0-49DE-9101-E9283DB1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AE05-D66E-4CF6-B103-077AD0D5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E14A-0501-467F-B263-F340CD03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44C-18FB-4393-AA1E-23C50A15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C6AA-8ACA-49DE-BE3F-90EC5052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518-FA23-496E-A260-F5C99C0D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14E-9A23-46A4-94E4-150323A5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2880-4145-493D-A2D7-EF955417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97F-69F4-4A31-BF39-003F3D6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91B-2D01-44D5-BDBD-C449555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B5C-B0E0-4463-8843-0BF3E676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BE67-C8F8-4B05-A47D-F3A7585C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091-BF9B-4D2A-8423-84A63062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B27-8C10-481D-BB4E-8DC43970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8F9C-293F-4806-904B-3CB9A13F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6139-BA54-4045-B309-092B6D33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CFAB-16E0-442A-AD89-6935615D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5F7B-B5B0-4CCB-927B-DFFD4525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06ACF-25C5-42A3-BD1A-EA41309C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F426-736F-436A-B897-66FDB5F1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311C-55E2-46FB-911E-145FEA1E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C380-AF71-4270-BA4F-7D651213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3224-2313-4861-85E1-A49923F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24C0-CF73-445D-86C4-7FD10E8B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B088-6B95-42EB-923E-8191D825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FD48-6116-49AD-B600-AFB57155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FFB0-99AE-4DFD-A701-CB18DE75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CFF3A-F00A-4282-BDDD-036D5FA6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DA13-C07E-4ACA-85FA-014A0EFF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56D98-9526-4CF7-B1EA-D4C5EC7E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7F6D0-13B1-48F5-94D3-96DB6C9B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BDBF-04D2-4CCB-A884-409BC35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972D-E657-4FF5-9FFA-1F31A96F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60EDF-01EB-42F9-99D2-F726BE2B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6B27-E1C0-4EAC-8718-D6C8383E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5D42-2F0A-4DCC-BA0C-72523E8D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28DAB-0693-4060-A121-A4EB0A3B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E390-33D2-4CAE-B6A6-D5930FDE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9FD0C-8D45-4564-A471-6F53D80C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6ECB7-688F-421A-A3F7-C29B9328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01B4F-8668-445D-A23B-B69EF2AA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5014-9573-43E3-A42A-477E61E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FE58-F9AA-47F0-A58A-B08F6B4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94193-AC6C-42C7-8F2E-7A5585EB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64D2A-B244-4427-A057-9E1CBC1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3F940-EE17-47E6-A786-FAC0F22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39278-C581-4A8E-AB11-7F621F73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0998-4348-4632-BC88-22A6D67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ABFB-FEA7-4DA0-992C-BDD9DB5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F3706-DF97-439A-BBF3-C15B333B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6F4C1-BB37-4724-82C6-D1B51CD8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3D6AD-BD9D-4FE9-856E-0A42BFA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0F2E2-77A1-42DB-911A-A57CB3A7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9602-4CC6-49B3-ACDD-6DAE7946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FC6D5-AD58-4124-98B4-87F920F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38080" y="5475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28747-DC3A-4C71-8A51-DD710FEF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4756-00E4-46CE-A042-B5FEE08D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C9FC6-FB8F-442B-BC47-B99BCE8B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BB86-9F37-4737-936C-EE87F7E4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9816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47BD-82C0-410E-B318-FEA1C7CE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77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98160"/>
            <a:ext cx="40158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FCD14-F1DB-4DFA-9FD7-F3E26A84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77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98160"/>
            <a:ext cx="2649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04E49-DAB6-4D97-8371-21427DDF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31BEB-EFDE-44E7-8835-385742FA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340EF-4CE0-49AA-BF4C-2C137367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BC51E-453D-48CB-91AF-F580C0B2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0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1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9497-A958-49BF-8F0A-94832FD275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79E-38B1-4F37-9059-0634B1C3BA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5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6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7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12D0-3DF9-4755-B70C-2774FF742326}" type="slidenum"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a9dc"/>
            </a:gs>
            <a:gs pos="100000">
              <a:srgbClr val="dfe5f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to hospital"/>
          <p:cNvPicPr/>
          <p:nvPr/>
        </p:nvPicPr>
        <p:blipFill>
          <a:blip r:embed="rId2"/>
          <a:stretch/>
        </p:blipFill>
        <p:spPr>
          <a:xfrm>
            <a:off x="5102280" y="165240"/>
            <a:ext cx="3627360" cy="6199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7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Rectangle 18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foto hospital"/>
          <p:cNvPicPr/>
          <p:nvPr/>
        </p:nvPicPr>
        <p:blipFill>
          <a:blip r:embed="rId3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2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3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342-40E3-46E2-B5B4-E538B5BA9C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8E41-5CC4-4031-9055-AED8A48A91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8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9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605A-75CF-4112-B4D2-4FE7ED14A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8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0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03DE-2BA0-4A22-AB65-11F8A51FE5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2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F9F8-DDF9-487D-8068-47A7EFD469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e3ebf5">
                  <a:alpha val="0"/>
                </a:srgbClr>
              </a:gs>
              <a:gs pos="100000">
                <a:srgbClr val="1f63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99190b"/>
              </a:gs>
              <a:gs pos="100000">
                <a:srgbClr val="470c0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6" name="Picture 2" descr="foto hospital"/>
          <p:cNvPicPr/>
          <p:nvPr/>
        </p:nvPicPr>
        <p:blipFill>
          <a:blip r:embed="rId2"/>
          <a:stretch/>
        </p:blipFill>
        <p:spPr>
          <a:xfrm>
            <a:off x="8070840" y="0"/>
            <a:ext cx="90792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781320" y="269640"/>
            <a:ext cx="21337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A07-2467-46BE-B054-030F4FAF05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6ff"/>
            </a:gs>
            <a:gs pos="100000">
              <a:srgbClr val="becae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240" y="1501920"/>
            <a:ext cx="8424720" cy="23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br>
              <a:rPr sz="3200"/>
            </a:b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Arial"/>
              </a:rPr>
              <a:t>Caracterización del estado nutricional y actividades básicas del paciente demente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94920" y="4220640"/>
            <a:ext cx="589140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Calibri"/>
                <a:ea typeface="Calibri"/>
              </a:rPr>
              <a:t>Autores: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Dra. Meilyn C. Gainza García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Dr. Alberto Rojas Pérez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11e13"/>
                </a:solidFill>
                <a:latin typeface="Arial"/>
                <a:ea typeface="Arial"/>
              </a:rPr>
              <a:t>          </a:t>
            </a:r>
            <a:r>
              <a:rPr b="1" i="1" lang="es-ES" sz="2000" spc="-1" strike="noStrike">
                <a:solidFill>
                  <a:srgbClr val="003366"/>
                </a:solidFill>
                <a:latin typeface="Calibri"/>
                <a:ea typeface="Calibri"/>
              </a:rPr>
              <a:t>Dra. Niurka Cascudo Barral 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Servicio o Dpto. 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      </a:t>
            </a:r>
            <a:r>
              <a:rPr b="1" i="1" lang="en-US" sz="1600" spc="-1" strike="noStrike">
                <a:solidFill>
                  <a:srgbClr val="003366"/>
                </a:solidFill>
                <a:latin typeface="Calibri"/>
                <a:ea typeface="Calibri"/>
              </a:rPr>
              <a:t>La Habana, 2020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2" name="Picture 34" descr=""/>
          <p:cNvPicPr/>
          <p:nvPr/>
        </p:nvPicPr>
        <p:blipFill>
          <a:blip r:embed="rId1"/>
          <a:stretch/>
        </p:blipFill>
        <p:spPr>
          <a:xfrm>
            <a:off x="0" y="0"/>
            <a:ext cx="2593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85520" y="131436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4" name="Marcador de contenido 1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024360" cy="963720"/>
          </a:xfrm>
          <a:prstGeom prst="rect">
            <a:avLst/>
          </a:prstGeom>
          <a:ln w="0">
            <a:noFill/>
          </a:ln>
        </p:spPr>
      </p:pic>
      <p:pic>
        <p:nvPicPr>
          <p:cNvPr id="575" name="Imagen 3" descr=""/>
          <p:cNvPicPr/>
          <p:nvPr/>
        </p:nvPicPr>
        <p:blipFill>
          <a:blip r:embed="rId2"/>
          <a:stretch/>
        </p:blipFill>
        <p:spPr>
          <a:xfrm>
            <a:off x="-181080" y="1674720"/>
            <a:ext cx="9144000" cy="701640"/>
          </a:xfrm>
          <a:prstGeom prst="rect">
            <a:avLst/>
          </a:prstGeom>
          <a:ln w="0">
            <a:noFill/>
          </a:ln>
        </p:spPr>
      </p:pic>
      <p:pic>
        <p:nvPicPr>
          <p:cNvPr id="576" name="Imagen 8" descr=""/>
          <p:cNvPicPr/>
          <p:nvPr/>
        </p:nvPicPr>
        <p:blipFill>
          <a:blip r:embed="rId3"/>
          <a:stretch/>
        </p:blipFill>
        <p:spPr>
          <a:xfrm>
            <a:off x="971640" y="463680"/>
            <a:ext cx="6400800" cy="853920"/>
          </a:xfrm>
          <a:prstGeom prst="rect">
            <a:avLst/>
          </a:prstGeom>
          <a:ln w="0">
            <a:noFill/>
          </a:ln>
        </p:spPr>
      </p:pic>
      <p:pic>
        <p:nvPicPr>
          <p:cNvPr id="577" name="Imagen 10" descr=""/>
          <p:cNvPicPr/>
          <p:nvPr/>
        </p:nvPicPr>
        <p:blipFill>
          <a:blip r:embed="rId4"/>
          <a:stretch/>
        </p:blipFill>
        <p:spPr>
          <a:xfrm>
            <a:off x="0" y="2314440"/>
            <a:ext cx="9144000" cy="4535640"/>
          </a:xfrm>
          <a:prstGeom prst="rect">
            <a:avLst/>
          </a:prstGeom>
          <a:ln w="0">
            <a:noFill/>
          </a:ln>
        </p:spPr>
      </p:pic>
      <p:pic>
        <p:nvPicPr>
          <p:cNvPr id="578" name="Imagen 12" descr=""/>
          <p:cNvPicPr/>
          <p:nvPr/>
        </p:nvPicPr>
        <p:blipFill>
          <a:blip r:embed="rId5"/>
          <a:stretch/>
        </p:blipFill>
        <p:spPr>
          <a:xfrm>
            <a:off x="7920" y="2982960"/>
            <a:ext cx="6462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0" name="Marcador de contenido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4432320"/>
          </a:xfrm>
          <a:prstGeom prst="rect">
            <a:avLst/>
          </a:prstGeom>
          <a:ln w="0">
            <a:noFill/>
          </a:ln>
        </p:spPr>
      </p:pic>
      <p:pic>
        <p:nvPicPr>
          <p:cNvPr id="581" name="Imagen 2" descr=""/>
          <p:cNvPicPr/>
          <p:nvPr/>
        </p:nvPicPr>
        <p:blipFill>
          <a:blip r:embed="rId2"/>
          <a:stretch/>
        </p:blipFill>
        <p:spPr>
          <a:xfrm>
            <a:off x="250920" y="1090440"/>
            <a:ext cx="3024000" cy="963720"/>
          </a:xfrm>
          <a:prstGeom prst="rect">
            <a:avLst/>
          </a:prstGeom>
          <a:ln w="0">
            <a:noFill/>
          </a:ln>
        </p:spPr>
      </p:pic>
      <p:pic>
        <p:nvPicPr>
          <p:cNvPr id="582" name="Imagen 3" descr=""/>
          <p:cNvPicPr/>
          <p:nvPr/>
        </p:nvPicPr>
        <p:blipFill>
          <a:blip r:embed="rId3"/>
          <a:stretch/>
        </p:blipFill>
        <p:spPr>
          <a:xfrm>
            <a:off x="0" y="1771560"/>
            <a:ext cx="914400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4" name="Marcador de contenido 1" descr=""/>
          <p:cNvPicPr/>
          <p:nvPr/>
        </p:nvPicPr>
        <p:blipFill>
          <a:blip r:embed="rId1"/>
          <a:stretch/>
        </p:blipFill>
        <p:spPr>
          <a:xfrm>
            <a:off x="0" y="1109520"/>
            <a:ext cx="3024360" cy="963720"/>
          </a:xfrm>
          <a:prstGeom prst="rect">
            <a:avLst/>
          </a:prstGeom>
          <a:ln w="0">
            <a:noFill/>
          </a:ln>
        </p:spPr>
      </p:pic>
      <p:pic>
        <p:nvPicPr>
          <p:cNvPr id="585" name="Imagen 2" descr=""/>
          <p:cNvPicPr/>
          <p:nvPr/>
        </p:nvPicPr>
        <p:blipFill>
          <a:blip r:embed="rId2"/>
          <a:stretch/>
        </p:blipFill>
        <p:spPr>
          <a:xfrm>
            <a:off x="-38160" y="1836720"/>
            <a:ext cx="9144000" cy="473040"/>
          </a:xfrm>
          <a:prstGeom prst="rect">
            <a:avLst/>
          </a:prstGeom>
          <a:ln w="0">
            <a:noFill/>
          </a:ln>
        </p:spPr>
      </p:pic>
      <p:pic>
        <p:nvPicPr>
          <p:cNvPr id="586" name="Imagen 3" descr=""/>
          <p:cNvPicPr/>
          <p:nvPr/>
        </p:nvPicPr>
        <p:blipFill>
          <a:blip r:embed="rId3"/>
          <a:stretch/>
        </p:blipFill>
        <p:spPr>
          <a:xfrm>
            <a:off x="0" y="2455920"/>
            <a:ext cx="914400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8" name="Marcador de contenido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8642160" cy="4437000"/>
          </a:xfrm>
          <a:prstGeom prst="rect">
            <a:avLst/>
          </a:prstGeom>
          <a:ln w="0">
            <a:noFill/>
          </a:ln>
        </p:spPr>
      </p:pic>
      <p:pic>
        <p:nvPicPr>
          <p:cNvPr id="589" name="Imagen 5" descr=""/>
          <p:cNvPicPr/>
          <p:nvPr/>
        </p:nvPicPr>
        <p:blipFill>
          <a:blip r:embed="rId2"/>
          <a:stretch/>
        </p:blipFill>
        <p:spPr>
          <a:xfrm>
            <a:off x="0" y="1616040"/>
            <a:ext cx="914400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1" name="Marcador de contenido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229600" cy="793800"/>
          </a:xfrm>
          <a:prstGeom prst="rect">
            <a:avLst/>
          </a:prstGeom>
          <a:ln w="0">
            <a:noFill/>
          </a:ln>
        </p:spPr>
      </p:pic>
      <p:pic>
        <p:nvPicPr>
          <p:cNvPr id="592" name="Imagen 2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176720"/>
          </a:xfrm>
          <a:prstGeom prst="rect">
            <a:avLst/>
          </a:prstGeom>
          <a:ln w="0">
            <a:noFill/>
          </a:ln>
        </p:spPr>
      </p:pic>
      <p:pic>
        <p:nvPicPr>
          <p:cNvPr id="593" name="Imagen 5" descr=""/>
          <p:cNvPicPr/>
          <p:nvPr/>
        </p:nvPicPr>
        <p:blipFill>
          <a:blip r:embed="rId3"/>
          <a:stretch/>
        </p:blipFill>
        <p:spPr>
          <a:xfrm>
            <a:off x="539640" y="6254640"/>
            <a:ext cx="51278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538920"/>
            <a:ext cx="7391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268280"/>
            <a:ext cx="822960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11e13"/>
                </a:solidFill>
                <a:latin typeface="Arial"/>
                <a:ea typeface="Times New Roman"/>
              </a:rPr>
              <a:t>Conclusiones: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158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Predominaron el sexo femenino, con edad superior a 70 años, universitarios y casados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158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Existió mayor número de casos con demencia Alzheimer, tiempo de evolución entre 0 a 4 años, antecedentes patológicos personales de hipertensión arterial y riesgo de malnutrición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buClr>
                <a:srgbClr val="9158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Predominaron los dependientes para 4 actividades y con riesgo de malnutrición sin relación entre ambas variables. 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50000"/>
              </a:lnSpc>
              <a:spcBef>
                <a:spcPts val="451"/>
              </a:spcBef>
              <a:spcAft>
                <a:spcPts val="1001"/>
              </a:spcAft>
              <a:buClr>
                <a:srgbClr val="9158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No se encontró relación entre las variable tiempo de evolución y estado nutricional.</a:t>
            </a: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s-E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Introducció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678640" y="2260080"/>
            <a:ext cx="3141360" cy="13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l Mund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: 44 millones estimados en 2013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mérica Latin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: La prevalencia está entre 6.0 y 6,5 por cada 100 adultos en un estudio publicado en el 2014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ub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 : 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 estimó160 mil en el 2015</a:t>
            </a:r>
            <a:endParaRPr b="1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25" name="Conector recto 4" descr=""/>
          <p:cNvPicPr/>
          <p:nvPr/>
        </p:nvPicPr>
        <p:blipFill>
          <a:blip r:embed="rId1"/>
          <a:stretch/>
        </p:blipFill>
        <p:spPr>
          <a:xfrm>
            <a:off x="1116000" y="1000080"/>
            <a:ext cx="2797200" cy="85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F:\imagenes demencias\DEMENTIA-KNOW-THE-FIRST-SYMPTOMS.jpg"/>
          <p:cNvPicPr/>
          <p:nvPr/>
        </p:nvPicPr>
        <p:blipFill>
          <a:blip r:embed="rId2"/>
          <a:stretch/>
        </p:blipFill>
        <p:spPr>
          <a:xfrm>
            <a:off x="25560" y="1557360"/>
            <a:ext cx="4959360" cy="3306600"/>
          </a:xfrm>
          <a:prstGeom prst="rect">
            <a:avLst/>
          </a:prstGeom>
          <a:ln w="0">
            <a:noFill/>
          </a:ln>
        </p:spPr>
      </p:pic>
      <p:sp>
        <p:nvSpPr>
          <p:cNvPr id="527" name="13 Abrir llave"/>
          <p:cNvSpPr/>
          <p:nvPr/>
        </p:nvSpPr>
        <p:spPr>
          <a:xfrm>
            <a:off x="4400640" y="1547640"/>
            <a:ext cx="1168200" cy="4623120"/>
          </a:xfrm>
          <a:custGeom>
            <a:avLst/>
            <a:gdLst>
              <a:gd name="textAreaLeft" fmla="*/ 746280 w 1168200"/>
              <a:gd name="textAreaRight" fmla="*/ 1168560 w 1168200"/>
              <a:gd name="textAreaTop" fmla="*/ 30240 h 4623120"/>
              <a:gd name="textAreaBottom" fmla="*/ 4592880 h 462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8"/>
                  <a:pt x="10800" y="455"/>
                </a:cubicBezTo>
                <a:lnTo>
                  <a:pt x="10800" y="10345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8"/>
                  <a:pt x="10800" y="11255"/>
                </a:cubicBezTo>
                <a:lnTo>
                  <a:pt x="10800" y="21145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337760"/>
            <a:ext cx="84787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30" name="Picture 2" descr="F:\imagenes demencias\índice 1.jpg"/>
          <p:cNvPicPr/>
          <p:nvPr/>
        </p:nvPicPr>
        <p:blipFill>
          <a:blip r:embed="rId1"/>
          <a:stretch/>
        </p:blipFill>
        <p:spPr>
          <a:xfrm>
            <a:off x="208080" y="2116080"/>
            <a:ext cx="4322520" cy="3326040"/>
          </a:xfrm>
          <a:prstGeom prst="rect">
            <a:avLst/>
          </a:prstGeom>
          <a:ln w="0">
            <a:noFill/>
          </a:ln>
        </p:spPr>
      </p:pic>
      <p:sp>
        <p:nvSpPr>
          <p:cNvPr id="531" name="3 Cheurón"/>
          <p:cNvSpPr/>
          <p:nvPr/>
        </p:nvSpPr>
        <p:spPr>
          <a:xfrm>
            <a:off x="4427640" y="2646360"/>
            <a:ext cx="4508280" cy="2438280"/>
          </a:xfrm>
          <a:custGeom>
            <a:avLst/>
            <a:gdLst>
              <a:gd name="textAreaLeft" fmla="*/ 0 w 4508280"/>
              <a:gd name="textAreaRight" fmla="*/ 4508640 w 4508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59" y="0"/>
                </a:lnTo>
                <a:lnTo>
                  <a:pt x="21600" y="10800"/>
                </a:lnTo>
                <a:lnTo>
                  <a:pt x="15759" y="21600"/>
                </a:lnTo>
                <a:lnTo>
                  <a:pt x="0" y="21600"/>
                </a:lnTo>
                <a:lnTo>
                  <a:pt x="5841" y="1080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Se plantea que la pérdida de peso es una condición predominante en los pacientes con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dem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Introducción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                        </a:t>
            </a:r>
            <a:r>
              <a:rPr b="1" lang="es-ES" sz="32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Problema científico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¿Qué caracteriza al estado nutricional y las actividades básicas de los pacientes con demencias?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Objetivo General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alibri"/>
                <a:ea typeface="Calibri"/>
              </a:rPr>
              <a:t>Caracterizar el estado nutricional y actividades básicas de los pacientes con demencia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Calibri"/>
                <a:ea typeface="Times New Roman"/>
              </a:rPr>
              <a:t>Objetivos Específicos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603b14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Caracterizar la muestra estudiada según variables sociodemográficas y clínicas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Clr>
                <a:srgbClr val="603b14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dentificar la posible relación entre el estado nutricional de los pacientes y el tiempo de evolución de la enfermedad. 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03b14"/>
              </a:buClr>
              <a:buSzPct val="7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Calibri"/>
                <a:ea typeface="Times New Roman"/>
              </a:rPr>
              <a:t>Identificar la posible relación entre el estado nutricional y las actividades básicas.</a:t>
            </a: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277920" y="12441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3366"/>
                </a:solidFill>
                <a:uFillTx/>
                <a:latin typeface="Calibri"/>
                <a:ea typeface="Times New Roman"/>
              </a:rPr>
              <a:t>Material y método</a:t>
            </a: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540" name="Imagen 2" descr=""/>
          <p:cNvPicPr/>
          <p:nvPr/>
        </p:nvPicPr>
        <p:blipFill>
          <a:blip r:embed="rId1"/>
          <a:stretch/>
        </p:blipFill>
        <p:spPr>
          <a:xfrm>
            <a:off x="122400" y="2260440"/>
            <a:ext cx="9144000" cy="1835280"/>
          </a:xfrm>
          <a:prstGeom prst="rect">
            <a:avLst/>
          </a:prstGeom>
          <a:ln w="0">
            <a:noFill/>
          </a:ln>
        </p:spPr>
      </p:pic>
      <p:sp>
        <p:nvSpPr>
          <p:cNvPr id="541" name="Rectángulo 3"/>
          <p:cNvSpPr/>
          <p:nvPr/>
        </p:nvSpPr>
        <p:spPr>
          <a:xfrm>
            <a:off x="457200" y="2963880"/>
            <a:ext cx="13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Calibri"/>
                <a:ea typeface="Times New Roman"/>
              </a:rPr>
              <a:t>Estud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Rectángulo 4"/>
          <p:cNvSpPr/>
          <p:nvPr/>
        </p:nvSpPr>
        <p:spPr>
          <a:xfrm>
            <a:off x="2448000" y="27828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Calibri"/>
                <a:ea typeface="Times New Roman"/>
              </a:rPr>
              <a:t>Universo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Calibri"/>
                <a:ea typeface="Times New Roman"/>
              </a:rPr>
              <a:t>muest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3" name="Imagen 7" descr=""/>
          <p:cNvPicPr/>
          <p:nvPr/>
        </p:nvPicPr>
        <p:blipFill>
          <a:blip r:embed="rId2"/>
          <a:stretch/>
        </p:blipFill>
        <p:spPr>
          <a:xfrm>
            <a:off x="122400" y="4622760"/>
            <a:ext cx="2457360" cy="1530360"/>
          </a:xfrm>
          <a:prstGeom prst="rect">
            <a:avLst/>
          </a:prstGeom>
          <a:ln w="0">
            <a:noFill/>
          </a:ln>
        </p:spPr>
      </p:pic>
      <p:sp>
        <p:nvSpPr>
          <p:cNvPr id="544" name="Rectángulo 8"/>
          <p:cNvSpPr/>
          <p:nvPr/>
        </p:nvSpPr>
        <p:spPr>
          <a:xfrm>
            <a:off x="-1146240" y="4906800"/>
            <a:ext cx="49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Observacional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descriptiv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nsvers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5" name="Imagen 9" descr=""/>
          <p:cNvPicPr/>
          <p:nvPr/>
        </p:nvPicPr>
        <p:blipFill>
          <a:blip r:embed="rId3"/>
          <a:stretch/>
        </p:blipFill>
        <p:spPr>
          <a:xfrm>
            <a:off x="2786040" y="4883040"/>
            <a:ext cx="1687680" cy="1084320"/>
          </a:xfrm>
          <a:prstGeom prst="rect">
            <a:avLst/>
          </a:prstGeom>
          <a:ln w="0">
            <a:noFill/>
          </a:ln>
        </p:spPr>
      </p:pic>
      <p:pic>
        <p:nvPicPr>
          <p:cNvPr id="546" name="Imagen 11" descr=""/>
          <p:cNvPicPr/>
          <p:nvPr/>
        </p:nvPicPr>
        <p:blipFill>
          <a:blip r:embed="rId4"/>
          <a:stretch/>
        </p:blipFill>
        <p:spPr>
          <a:xfrm>
            <a:off x="4808520" y="4492800"/>
            <a:ext cx="2139840" cy="1987200"/>
          </a:xfrm>
          <a:prstGeom prst="rect">
            <a:avLst/>
          </a:prstGeom>
          <a:ln w="0">
            <a:noFill/>
          </a:ln>
        </p:spPr>
      </p:pic>
      <p:pic>
        <p:nvPicPr>
          <p:cNvPr id="547" name="Imagen 13" descr=""/>
          <p:cNvPicPr/>
          <p:nvPr/>
        </p:nvPicPr>
        <p:blipFill>
          <a:blip r:embed="rId5"/>
          <a:stretch/>
        </p:blipFill>
        <p:spPr>
          <a:xfrm>
            <a:off x="7093080" y="4745160"/>
            <a:ext cx="1928520" cy="1085760"/>
          </a:xfrm>
          <a:prstGeom prst="rect">
            <a:avLst/>
          </a:prstGeom>
          <a:ln w="0">
            <a:noFill/>
          </a:ln>
        </p:spPr>
      </p:pic>
      <p:sp>
        <p:nvSpPr>
          <p:cNvPr id="548" name="CuadroTexto 20"/>
          <p:cNvSpPr/>
          <p:nvPr/>
        </p:nvSpPr>
        <p:spPr>
          <a:xfrm>
            <a:off x="5245200" y="2847960"/>
            <a:ext cx="16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Arial"/>
              </a:rPr>
              <a:t>Institu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CuadroTexto 25"/>
          <p:cNvSpPr/>
          <p:nvPr/>
        </p:nvSpPr>
        <p:spPr>
          <a:xfrm>
            <a:off x="7596360" y="2782800"/>
            <a:ext cx="10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264d"/>
                </a:solidFill>
                <a:latin typeface="Arial"/>
              </a:rPr>
              <a:t>Perio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CuadroTexto 27"/>
          <p:cNvSpPr/>
          <p:nvPr/>
        </p:nvSpPr>
        <p:spPr>
          <a:xfrm>
            <a:off x="2949480" y="502272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═32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═6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CuadroTexto 30"/>
          <p:cNvSpPr/>
          <p:nvPr/>
        </p:nvSpPr>
        <p:spPr>
          <a:xfrm>
            <a:off x="4968720" y="4788000"/>
            <a:ext cx="177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Hospital Clínico Quirúrgico Hermanos Ameijeir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CuadroTexto 19459"/>
          <p:cNvSpPr/>
          <p:nvPr/>
        </p:nvSpPr>
        <p:spPr>
          <a:xfrm>
            <a:off x="7283520" y="4745160"/>
            <a:ext cx="15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Arial"/>
              </a:rPr>
              <a:t>Enero a Marzo del 20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54" name="Marcador de contenido 1" descr=""/>
          <p:cNvPicPr/>
          <p:nvPr/>
        </p:nvPicPr>
        <p:blipFill>
          <a:blip r:embed="rId1"/>
          <a:stretch/>
        </p:blipFill>
        <p:spPr>
          <a:xfrm>
            <a:off x="88920" y="1050840"/>
            <a:ext cx="4444920" cy="962280"/>
          </a:xfrm>
          <a:prstGeom prst="rect">
            <a:avLst/>
          </a:prstGeom>
          <a:ln w="0">
            <a:noFill/>
          </a:ln>
        </p:spPr>
      </p:pic>
      <p:pic>
        <p:nvPicPr>
          <p:cNvPr id="555" name="Imagen 2" descr=""/>
          <p:cNvPicPr/>
          <p:nvPr/>
        </p:nvPicPr>
        <p:blipFill>
          <a:blip r:embed="rId2"/>
          <a:stretch/>
        </p:blipFill>
        <p:spPr>
          <a:xfrm>
            <a:off x="87480" y="1743120"/>
            <a:ext cx="4968720" cy="749160"/>
          </a:xfrm>
          <a:prstGeom prst="rect">
            <a:avLst/>
          </a:prstGeom>
          <a:ln w="0">
            <a:noFill/>
          </a:ln>
        </p:spPr>
      </p:pic>
      <p:pic>
        <p:nvPicPr>
          <p:cNvPr id="556" name="Imagen 4" descr=""/>
          <p:cNvPicPr/>
          <p:nvPr/>
        </p:nvPicPr>
        <p:blipFill>
          <a:blip r:embed="rId3"/>
          <a:stretch/>
        </p:blipFill>
        <p:spPr>
          <a:xfrm>
            <a:off x="395280" y="2557440"/>
            <a:ext cx="4064040" cy="871560"/>
          </a:xfrm>
          <a:prstGeom prst="rect">
            <a:avLst/>
          </a:prstGeom>
          <a:ln w="0">
            <a:noFill/>
          </a:ln>
        </p:spPr>
      </p:pic>
      <p:pic>
        <p:nvPicPr>
          <p:cNvPr id="557" name="Imagen 5" descr=""/>
          <p:cNvPicPr/>
          <p:nvPr/>
        </p:nvPicPr>
        <p:blipFill>
          <a:blip r:embed="rId4"/>
          <a:stretch/>
        </p:blipFill>
        <p:spPr>
          <a:xfrm>
            <a:off x="395280" y="3789360"/>
            <a:ext cx="3889440" cy="871560"/>
          </a:xfrm>
          <a:prstGeom prst="rect">
            <a:avLst/>
          </a:prstGeom>
          <a:ln w="0">
            <a:noFill/>
          </a:ln>
        </p:spPr>
      </p:pic>
      <p:pic>
        <p:nvPicPr>
          <p:cNvPr id="558" name="Imagen 6" descr=""/>
          <p:cNvPicPr/>
          <p:nvPr/>
        </p:nvPicPr>
        <p:blipFill>
          <a:blip r:embed="rId5"/>
          <a:stretch/>
        </p:blipFill>
        <p:spPr>
          <a:xfrm>
            <a:off x="395280" y="4923000"/>
            <a:ext cx="3672000" cy="871200"/>
          </a:xfrm>
          <a:prstGeom prst="rect">
            <a:avLst/>
          </a:prstGeom>
          <a:ln w="0">
            <a:noFill/>
          </a:ln>
        </p:spPr>
      </p:pic>
      <p:pic>
        <p:nvPicPr>
          <p:cNvPr id="559" name="Imagen 7" descr=""/>
          <p:cNvPicPr/>
          <p:nvPr/>
        </p:nvPicPr>
        <p:blipFill>
          <a:blip r:embed="rId6"/>
          <a:stretch/>
        </p:blipFill>
        <p:spPr>
          <a:xfrm>
            <a:off x="463680" y="5985000"/>
            <a:ext cx="2974680" cy="695160"/>
          </a:xfrm>
          <a:prstGeom prst="rect">
            <a:avLst/>
          </a:prstGeom>
          <a:ln w="0">
            <a:noFill/>
          </a:ln>
        </p:spPr>
      </p:pic>
      <p:pic>
        <p:nvPicPr>
          <p:cNvPr id="560" name="Imagen 8" descr=""/>
          <p:cNvPicPr/>
          <p:nvPr/>
        </p:nvPicPr>
        <p:blipFill>
          <a:blip r:embed="rId7"/>
          <a:stretch/>
        </p:blipFill>
        <p:spPr>
          <a:xfrm>
            <a:off x="4495680" y="2163600"/>
            <a:ext cx="665280" cy="1625760"/>
          </a:xfrm>
          <a:prstGeom prst="rect">
            <a:avLst/>
          </a:prstGeom>
          <a:ln w="0">
            <a:noFill/>
          </a:ln>
        </p:spPr>
      </p:pic>
      <p:pic>
        <p:nvPicPr>
          <p:cNvPr id="561" name="Imagen 9" descr=""/>
          <p:cNvPicPr/>
          <p:nvPr/>
        </p:nvPicPr>
        <p:blipFill>
          <a:blip r:embed="rId8"/>
          <a:stretch/>
        </p:blipFill>
        <p:spPr>
          <a:xfrm>
            <a:off x="4325760" y="3395520"/>
            <a:ext cx="730440" cy="1659240"/>
          </a:xfrm>
          <a:prstGeom prst="rect">
            <a:avLst/>
          </a:prstGeom>
          <a:ln w="0">
            <a:noFill/>
          </a:ln>
        </p:spPr>
      </p:pic>
      <p:pic>
        <p:nvPicPr>
          <p:cNvPr id="562" name="Imagen 10" descr=""/>
          <p:cNvPicPr/>
          <p:nvPr/>
        </p:nvPicPr>
        <p:blipFill>
          <a:blip r:embed="rId9"/>
          <a:stretch/>
        </p:blipFill>
        <p:spPr>
          <a:xfrm>
            <a:off x="4124160" y="4532400"/>
            <a:ext cx="669960" cy="1652400"/>
          </a:xfrm>
          <a:prstGeom prst="rect">
            <a:avLst/>
          </a:prstGeom>
          <a:ln w="0">
            <a:noFill/>
          </a:ln>
        </p:spPr>
      </p:pic>
      <p:sp>
        <p:nvSpPr>
          <p:cNvPr id="563" name="Rectángulo 11"/>
          <p:cNvSpPr/>
          <p:nvPr/>
        </p:nvSpPr>
        <p:spPr>
          <a:xfrm>
            <a:off x="5330880" y="228456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Entrevis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Observ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Cuestionar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ángulo 12"/>
          <p:cNvSpPr/>
          <p:nvPr/>
        </p:nvSpPr>
        <p:spPr>
          <a:xfrm>
            <a:off x="5153040" y="3787920"/>
            <a:ext cx="4572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Frecuencias absolutas/porcentaj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ts val="2398"/>
              </a:lnSpc>
              <a:spcAft>
                <a:spcPts val="601"/>
              </a:spcAft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11e13"/>
                </a:solidFill>
                <a:latin typeface="Calibri"/>
                <a:ea typeface="Times New Roman"/>
              </a:rPr>
              <a:t>Métodos no paramétr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CuadroTexto 14"/>
          <p:cNvSpPr/>
          <p:nvPr/>
        </p:nvSpPr>
        <p:spPr>
          <a:xfrm>
            <a:off x="5153040" y="535788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64d"/>
                </a:solidFill>
                <a:latin typeface="Calibri"/>
                <a:ea typeface="Calibri"/>
              </a:rPr>
              <a:t>Tablas y gráfico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CuadroTexto 15"/>
          <p:cNvSpPr/>
          <p:nvPr/>
        </p:nvSpPr>
        <p:spPr>
          <a:xfrm>
            <a:off x="746280" y="279252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Recolección  inform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CuadroTexto 16"/>
          <p:cNvSpPr/>
          <p:nvPr/>
        </p:nvSpPr>
        <p:spPr>
          <a:xfrm>
            <a:off x="762120" y="3986280"/>
            <a:ext cx="32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Procesamiento ∕ 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CuadroTexto 17"/>
          <p:cNvSpPr/>
          <p:nvPr/>
        </p:nvSpPr>
        <p:spPr>
          <a:xfrm>
            <a:off x="539640" y="504360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Presentación result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CuadroTexto 19"/>
          <p:cNvSpPr/>
          <p:nvPr/>
        </p:nvSpPr>
        <p:spPr>
          <a:xfrm>
            <a:off x="838080" y="61261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3366"/>
                </a:solidFill>
                <a:uFillTx/>
                <a:latin typeface="Calibri"/>
                <a:ea typeface="Calibri"/>
              </a:rPr>
              <a:t>Aspectos étic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JORNADA DE TEMAS TERMINAD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1" name="Marcador de contenido 2" descr=""/>
          <p:cNvPicPr/>
          <p:nvPr/>
        </p:nvPicPr>
        <p:blipFill>
          <a:blip r:embed="rId1"/>
          <a:stretch/>
        </p:blipFill>
        <p:spPr>
          <a:xfrm>
            <a:off x="127080" y="1111320"/>
            <a:ext cx="4444920" cy="963720"/>
          </a:xfrm>
          <a:prstGeom prst="rect">
            <a:avLst/>
          </a:prstGeom>
          <a:ln w="0">
            <a:noFill/>
          </a:ln>
        </p:spPr>
      </p:pic>
      <p:pic>
        <p:nvPicPr>
          <p:cNvPr id="572" name="Imagen 4" descr=""/>
          <p:cNvPicPr/>
          <p:nvPr/>
        </p:nvPicPr>
        <p:blipFill>
          <a:blip r:embed="rId2"/>
          <a:stretch/>
        </p:blipFill>
        <p:spPr>
          <a:xfrm>
            <a:off x="127080" y="1844640"/>
            <a:ext cx="91440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31T16:23:37Z</dcterms:created>
  <dc:creator>invbio3</dc:creator>
  <dc:description/>
  <dc:language>en-US</dc:language>
  <cp:lastModifiedBy>Administrador</cp:lastModifiedBy>
  <dcterms:modified xsi:type="dcterms:W3CDTF">2020-11-02T11:13:29Z</dcterms:modified>
  <cp:revision>118</cp:revision>
  <dc:subject/>
  <dc:title>PowerPoint Template</dc:title>
</cp:coreProperties>
</file>