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1FA631-9EEE-4323-9E7D-B93C0B812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17253A-E651-4CDC-A830-4BD74C0C62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160F2-81F6-4EE3-908B-78FFB43042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1ECA0-A1FC-4455-99E3-656A135E6D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0C41B-BEA8-448B-B154-9FC310D072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6EA10-8B96-45C0-9810-DDDFD8BC9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333BA6-C23F-4527-B5E4-E5D5E0AECB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681E58-2F38-4981-9E6F-271610E1A1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EE8C13-89D2-46BD-B0A5-6222F44FD3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15EF98-586F-405F-9420-F79B5B9D70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76D984-078D-4BE2-81E7-A36705CFA1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2D522-FA8C-48C5-B0F1-C83AC4FD62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324F36-81F5-4419-BC42-8C5AB4F8DB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37E274-9091-4D46-A83D-79049B6BD0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0596B0-6223-4B17-8B10-595DF6C358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8A80F8-89B9-4638-9EC0-83EB38F3B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BD079-2FD2-418A-9934-E5E31A78F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6818E-7448-4E71-BDB3-93958EEB6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3DBF95-BEF2-4FCA-A9F7-B0E8770055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E588B9-1DA7-4964-8A7D-13A8060BB9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6B1F85-0646-4316-A51D-E933459353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ED2E74-5AE8-4C67-A8F9-2BF2910F32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3FA851-B759-4F09-8393-897A91DDBC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FC5DB4-8B04-4F9E-A2D8-FA2C1DBAD7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8733F-A4FA-4685-B522-89C3E9A6FE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EAAFE3-C6FA-4AA5-A761-0CDCA7A317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86EA38-542F-4927-B82A-2C64A68B33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5BCF4-3CC4-4C0E-997B-99EF684A55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4E73FD-4485-4155-B4A2-C3F4D9C76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5A0F9-DE80-4600-9B8E-E5FFAC3D8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8CA3C-E42B-4B85-A97B-58F5B1301A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93D455-AE05-4A58-8132-642D6D72E4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FB5A4B-608C-4D0B-AF9F-935E57001D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B5825D-D04A-493F-8E9F-BCBDD0FFEB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EA1AF0-C40D-4A9F-AE21-4B76D35217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2A61F0-81C0-42DA-A3C3-E544B9C696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6AF909-F3C4-445C-A2F7-6A2C30C828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5BE56D-3766-45DA-A5CE-B345A928C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CFEDB4-540B-4186-A0D5-4C4522C6B5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E6128-88ED-438B-B4B3-7BD709BD06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D7B4F-64ED-453C-8AE1-8B7989856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C59EC6-3D1A-4019-9FF1-FEDD12DFF3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133A2B-5AB6-4E68-9E8B-FC843FF03A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C64F5B-483C-4EB6-A9E2-F1ECF4D348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F2B198-A65C-4AA7-BB93-82E01B28B1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C19D9-2000-4351-85A7-EE2259BB0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BA350-03DE-4FAC-8C22-8819CE408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D2C8C-2EA1-4114-977C-81D0C6F0F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BAB14-D236-42BE-A5F4-0C17095E1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D7A2C-03F6-4745-829A-8D2343A6F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3E09E-021F-407F-A082-E9F250403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53AE-665C-43E8-8B68-A35014589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A23B-6066-4AE1-8C18-BF5AC575E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DEA78-94F8-4439-BA4C-63A068F2D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B5E17-DB83-4EAB-B48E-41B009478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A24B2-99A7-45D7-B88E-D01B9C4E8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314B6-8983-43DD-8849-A36E526FD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99347-FFD4-4DFB-AEFE-A3AAFF078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DFCFF-1FDB-4FDD-A742-E32A43AA6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B36A9-DEFA-4EAE-B8B0-667B9D455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8C848-9C6B-4164-B7AE-E1C1D969A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C5269-5B67-49BE-BD88-3E6826E5C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66E3A-009B-48B1-9C3D-DC184B5D0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A5A02-D1B8-4F92-AE50-0CB154D42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35003-DC32-4185-ADA8-441C8C041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30BFB-1B05-4518-8A9A-8A789F665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7F3C8-DEA3-406E-8F1C-05BD8EDCF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A6A24-6035-4FE4-8B9D-376A6C8EE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6115E-E1D0-4758-8D3E-D414DEA1A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6F0F18-2DBD-499F-94C0-D1641440D4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ECF7C-3E8A-4572-8FC6-B5FEEED2E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BD8A4E-BE86-46FF-BC6C-413B2D987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46BC4-3DC8-48EB-96E0-E666C8EC5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BB506-491F-4FBA-B527-C2C0C3ED4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D7437-6C2C-4572-B0CD-EAE58262B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64E32-88DC-4842-82C1-B65413263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186CD-4A13-4D0A-B302-389C5F6C0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A1377-258D-4890-B9A5-C518FDEAD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4FC97-5511-4EA0-ADF6-BAB8A1CED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4478E9-F050-45C8-9101-0D296B2717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F10F4A-15D1-48D3-85E3-346F83D0A6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0CB5E2-9F63-4696-BE5A-F4DA208DD9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1D17B-9A7D-4E44-A424-CDF841EF4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24B7B-00D4-4A6B-B67F-5E95415328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9D798-1B63-43D5-8041-A623DCD6E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A15E0-D480-419B-979D-AEAB8AF8F4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68DC4-6422-407F-AA00-9902368494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A808A-9764-4156-BF5C-97035B6C7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B48BE-41E0-4907-8841-ED51FC401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35D91-7E55-45D1-B189-AA2B1377B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46D904-A3A8-4AB3-A3FF-F9711B7615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AA02CC-E587-487F-9129-FCCA8C1C73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7BA360-2483-411F-BB67-D115477E98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7CEE0E-7B31-42B7-A9D8-F0A1AF8157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A8D81-1650-41F1-B58E-4C1C0A683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A037E2-DABE-44C4-9CCC-7D5DCCC42D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E3C21-8F3A-40F7-9431-AD4BF5F7EE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178006-AD33-4971-859D-B3164F258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90683-F6FD-40AE-8F4C-12C039EBA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E84B7-6DD7-4CCA-A33D-82D9078C7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11AF9-FA6F-457A-9FF7-85436D87E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72AFD-9534-4826-A181-F11F6B1BED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92EF6-77C6-4B11-A8B5-4D4D166E9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5F313A-5729-43C2-95A2-6FEA9D5E3D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7CC493-E5AA-43A4-B9DB-69FCAD7AEC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2F4AED-842B-4CDF-B8FA-55B8554EC2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981970-24CA-42FA-AACD-9B866AA282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4D8C26-7D45-43F7-A55B-F8C70610E08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0970-3B22-4E8A-BA0F-40DAE7F3D9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8845-59E4-4154-936B-D8E50B1AF3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E141-3DBC-41C8-88F9-44D06D289623}"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75D6-EE85-429D-9149-DB00732A9E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9323-DA73-4249-A63F-371C35E2B1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3883-221B-4588-90E8-D393935D1B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1740-63CD-411D-B8CD-B0998DA72D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C147-8A86-4E02-85CD-A77AC46C01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615B-EC76-4B88-BCCC-14D3931637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50920" y="3068280"/>
            <a:ext cx="8424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br>
              <a:rPr sz="3200"/>
            </a:br>
            <a:r>
              <a:rPr b="1" i="1" lang="en-US" sz="3200" spc="-1" strike="noStrike">
                <a:solidFill>
                  <a:srgbClr val="ffffff"/>
                </a:solidFill>
                <a:latin typeface="Calibri"/>
              </a:rPr>
              <a:t> </a:t>
            </a:r>
            <a:endParaRPr b="1" lang="en-US" sz="3200" spc="-1" strike="noStrike">
              <a:solidFill>
                <a:srgbClr val="ffffff"/>
              </a:solidFill>
              <a:latin typeface="Verdana"/>
            </a:endParaRPr>
          </a:p>
        </p:txBody>
      </p:sp>
      <p:sp>
        <p:nvSpPr>
          <p:cNvPr id="521" name="PlaceHolder 2"/>
          <p:cNvSpPr>
            <a:spLocks noGrp="1"/>
          </p:cNvSpPr>
          <p:nvPr>
            <p:ph type="subTitle"/>
          </p:nvPr>
        </p:nvSpPr>
        <p:spPr>
          <a:xfrm>
            <a:off x="34560" y="4149360"/>
            <a:ext cx="5977080" cy="1871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rPr>
              <a:t>Autores: </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Dra. Diana Carmela Murillo Castro, DrC. Luis Alberto Ochoa Montes, </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Dr. Suilbert Rodríguez Blanco, DrC. Teddy Osmin Tamargo Barbeito</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rPr>
              <a:t>   </a:t>
            </a:r>
            <a:r>
              <a:rPr b="1" i="1" lang="en-US" sz="1600" spc="-1" strike="noStrike">
                <a:solidFill>
                  <a:srgbClr val="003366"/>
                </a:solidFill>
                <a:latin typeface="Calibri"/>
              </a:rPr>
              <a:t>Servicio Medicina Interna. </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rPr>
              <a:t>      </a:t>
            </a:r>
            <a:r>
              <a:rPr b="1" i="1" lang="en-US" sz="1600" spc="-1" strike="noStrike">
                <a:solidFill>
                  <a:srgbClr val="003366"/>
                </a:solidFill>
                <a:latin typeface="Calibri"/>
              </a:rPr>
              <a:t>La Habana, 2020</a:t>
            </a:r>
            <a:endParaRPr b="1" lang="en-US" sz="16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sp>
        <p:nvSpPr>
          <p:cNvPr id="523" name=""/>
          <p:cNvSpPr/>
          <p:nvPr/>
        </p:nvSpPr>
        <p:spPr>
          <a:xfrm>
            <a:off x="34920" y="1692360"/>
            <a:ext cx="655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EDICTORES DE MUERTE SÚBITA EN PACIENTES CON </a:t>
            </a:r>
            <a:br>
              <a:rPr sz="2200"/>
            </a:br>
            <a:r>
              <a:rPr b="1" lang="en-US" sz="2200" spc="-1" strike="noStrike">
                <a:solidFill>
                  <a:srgbClr val="003366"/>
                </a:solidFill>
                <a:latin typeface="Calibri"/>
              </a:rPr>
              <a:t>ENFERMEDAD CORONARIA DE TRONCO IZQUIERDO</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63" name="Shape 210"/>
          <p:cNvSpPr/>
          <p:nvPr/>
        </p:nvSpPr>
        <p:spPr>
          <a:xfrm>
            <a:off x="1044720" y="1197000"/>
            <a:ext cx="71276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Distribución según variables angiográficas-1</a:t>
            </a:r>
            <a:endParaRPr b="0" lang="en-US" sz="2600" spc="-1" strike="noStrike">
              <a:solidFill>
                <a:srgbClr val="003366"/>
              </a:solidFill>
              <a:latin typeface="Arial"/>
            </a:endParaRPr>
          </a:p>
        </p:txBody>
      </p:sp>
      <p:graphicFrame>
        <p:nvGraphicFramePr>
          <p:cNvPr id="564" name=""/>
          <p:cNvGraphicFramePr/>
          <p:nvPr/>
        </p:nvGraphicFramePr>
        <p:xfrm>
          <a:off x="609480" y="1844640"/>
          <a:ext cx="7778880" cy="3508560"/>
        </p:xfrm>
        <a:graphic>
          <a:graphicData uri="http://schemas.openxmlformats.org/drawingml/2006/table">
            <a:tbl>
              <a:tblPr/>
              <a:tblGrid>
                <a:gridCol w="2150640"/>
                <a:gridCol w="166320"/>
                <a:gridCol w="1572120"/>
                <a:gridCol w="1448640"/>
                <a:gridCol w="1450440"/>
                <a:gridCol w="990720"/>
              </a:tblGrid>
              <a:tr h="351000">
                <a:tc rowSpan="3">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Variables angiográficas</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gridSpan="4">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uerte cardíaca súbita</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3">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 =</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r>
              <a:tr h="351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otal (n = 117)</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í (n = 1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n = 107)</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65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6">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xtensión de la lesión coronaria</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CI aislado</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6 (22,2)</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 (1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5 (23,4)</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454</a:t>
                      </a:r>
                      <a:r>
                        <a:rPr b="1" lang="en-US" sz="2000" spc="-1" strike="noStrike" baseline="30000">
                          <a:solidFill>
                            <a:srgbClr val="003366"/>
                          </a:solidFill>
                          <a:latin typeface="Calibri"/>
                        </a:rPr>
                        <a:t>a</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r>
              <a:tr h="351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CI + EMV</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57 (48,7)</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6 (6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51 (47,7)</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522</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r>
              <a:tr h="351000">
                <a:tc gridSpan="6">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Localización de la lesión coronaria</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Ostial</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0 (17,1)</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5 (5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5 (14,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rowSpan="3">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3366"/>
                          </a:solidFill>
                          <a:latin typeface="Calibri"/>
                        </a:rPr>
                        <a:t>b</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r>
              <a:tr h="351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uerpo</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40 (34,2)</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4 (4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36 (33,3)</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Bifurcación</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57 (48,7)</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 (1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56 (52,3)</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66" name="Shape 210"/>
          <p:cNvSpPr/>
          <p:nvPr/>
        </p:nvSpPr>
        <p:spPr>
          <a:xfrm>
            <a:off x="1044720" y="1197000"/>
            <a:ext cx="71276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Distribución según variables angiográficas-2</a:t>
            </a:r>
            <a:endParaRPr b="0" lang="en-US" sz="2600" spc="-1" strike="noStrike">
              <a:solidFill>
                <a:srgbClr val="003366"/>
              </a:solidFill>
              <a:latin typeface="Arial"/>
            </a:endParaRPr>
          </a:p>
        </p:txBody>
      </p:sp>
      <p:graphicFrame>
        <p:nvGraphicFramePr>
          <p:cNvPr id="567" name=""/>
          <p:cNvGraphicFramePr/>
          <p:nvPr/>
        </p:nvGraphicFramePr>
        <p:xfrm>
          <a:off x="539640" y="1916280"/>
          <a:ext cx="7993080" cy="3568680"/>
        </p:xfrm>
        <a:graphic>
          <a:graphicData uri="http://schemas.openxmlformats.org/drawingml/2006/table">
            <a:tbl>
              <a:tblPr/>
              <a:tblGrid>
                <a:gridCol w="2212200"/>
                <a:gridCol w="166320"/>
                <a:gridCol w="1615320"/>
                <a:gridCol w="1490400"/>
                <a:gridCol w="1490400"/>
                <a:gridCol w="1018440"/>
              </a:tblGrid>
              <a:tr h="351000">
                <a:tc rowSpan="3">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Variables angiográficas</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gridSpan="4">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uerte cardíaca súbita</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3">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 =</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r>
              <a:tr h="351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otal (n = 117)</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í (n = 1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n = 107)</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65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6">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Lesiones de bifurcación</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EDINA (1-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3 (11,1)</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 (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3 (12,1)</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rowSpan="4">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r>
              <a:tr h="351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EDINA (1-1-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3 (11,1)</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 (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3 (12,1)</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EDINA (1-0-1)</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9 (7,7)</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 (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9 (8,4)</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EDINA (1-1-1)</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1 (17,9)</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 (10,0)</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0 (18,7)</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65000">
                <a:tc gridSpan="2">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core Syntax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edia ± DE)</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2,9 ± 8,2</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33,6 ± 5,5</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1,9 ± 7,9</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c>
                  <a:txBody>
                    <a:bodyPr lIns="65160" rIns="651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lt;0,001</a:t>
                      </a:r>
                      <a:r>
                        <a:rPr b="1" lang="en-US" sz="2000" spc="-1" strike="noStrike" baseline="30000">
                          <a:solidFill>
                            <a:srgbClr val="003366"/>
                          </a:solidFill>
                          <a:latin typeface="Calibri"/>
                        </a:rPr>
                        <a:t>c</a:t>
                      </a:r>
                      <a:endParaRPr b="0" lang="en-US" sz="2000" spc="-1" strike="noStrike">
                        <a:solidFill>
                          <a:srgbClr val="003366"/>
                        </a:solidFill>
                        <a:latin typeface="Arial"/>
                      </a:endParaRPr>
                    </a:p>
                  </a:txBody>
                  <a:tcPr anchor="t" marL="65160" marR="6516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69" name="Shape 210"/>
          <p:cNvSpPr/>
          <p:nvPr/>
        </p:nvSpPr>
        <p:spPr>
          <a:xfrm>
            <a:off x="324000" y="1287360"/>
            <a:ext cx="849600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edictores de riesgo de Muerte cardiaca súbita en pacientes con enfermedad TCI. Distribución según análisis multivariado.</a:t>
            </a:r>
            <a:endParaRPr b="0" lang="en-US" sz="2400" spc="-1" strike="noStrike">
              <a:solidFill>
                <a:srgbClr val="003366"/>
              </a:solidFill>
              <a:latin typeface="Arial"/>
            </a:endParaRPr>
          </a:p>
        </p:txBody>
      </p:sp>
      <p:graphicFrame>
        <p:nvGraphicFramePr>
          <p:cNvPr id="570" name=""/>
          <p:cNvGraphicFramePr/>
          <p:nvPr/>
        </p:nvGraphicFramePr>
        <p:xfrm>
          <a:off x="395280" y="2254320"/>
          <a:ext cx="8209080" cy="4270320"/>
        </p:xfrm>
        <a:graphic>
          <a:graphicData uri="http://schemas.openxmlformats.org/drawingml/2006/table">
            <a:tbl>
              <a:tblPr/>
              <a:tblGrid>
                <a:gridCol w="3765600"/>
                <a:gridCol w="1204920"/>
                <a:gridCol w="1104840"/>
                <a:gridCol w="1251000"/>
                <a:gridCol w="882720"/>
              </a:tblGrid>
              <a:tr h="351000">
                <a:tc rowSpan="3">
                  <a:txBody>
                    <a:bodyPr lIns="68400" rIns="68400" tIns="0" bIns="0" anchor="t">
                      <a:noAutofit/>
                    </a:bodyPr>
                    <a:p>
                      <a:pPr marL="38160"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redictores de</a:t>
                      </a:r>
                      <a:endParaRPr b="0" lang="en-US" sz="2000" spc="-1" strike="noStrike">
                        <a:solidFill>
                          <a:srgbClr val="003366"/>
                        </a:solidFill>
                        <a:latin typeface="Arial"/>
                      </a:endParaRPr>
                    </a:p>
                    <a:p>
                      <a:pPr marL="38160"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uerte cardíaca súbita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nálisis multivariado</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t">
                      <a:noAutofit/>
                    </a:bodyPr>
                    <a:p>
                      <a:pPr marL="38160"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xp (B)</a:t>
                      </a:r>
                      <a:endParaRPr b="0" lang="en-US" sz="2000" spc="-1" strike="noStrike">
                        <a:solidFill>
                          <a:srgbClr val="003366"/>
                        </a:solidFill>
                        <a:latin typeface="Arial"/>
                      </a:endParaRPr>
                    </a:p>
                    <a:p>
                      <a:pPr marL="38160"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OR</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marL="38160"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IC. 95% para EXP(B)</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65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marL="38160"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Inferior</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marL="38160"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Inferior</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dad</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012</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913</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121</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824</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Diabetes mellitus</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809</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166</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9,749</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62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CACEST</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44,756</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855</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342,67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06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evascularización previ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755</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29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0,604</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54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FEVI &lt; 4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6,19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706</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54,392</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1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nfermedad TCI + EMV</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676</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045</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0,052</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776</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Localización lesión TCI (bifurc)</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02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001</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689</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03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evascularización complet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5,069</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318</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80,9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318</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core Syntax</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33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06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65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011</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72" name=""/>
          <p:cNvSpPr/>
          <p:nvPr/>
        </p:nvSpPr>
        <p:spPr>
          <a:xfrm>
            <a:off x="3200760" y="1284120"/>
            <a:ext cx="2427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ES:</a:t>
            </a:r>
            <a:endParaRPr b="0" lang="en-US" sz="2600" spc="-1" strike="noStrike">
              <a:solidFill>
                <a:srgbClr val="003366"/>
              </a:solidFill>
              <a:latin typeface="Arial"/>
            </a:endParaRPr>
          </a:p>
        </p:txBody>
      </p:sp>
      <p:sp>
        <p:nvSpPr>
          <p:cNvPr id="573" name="Shape 285"/>
          <p:cNvSpPr/>
          <p:nvPr/>
        </p:nvSpPr>
        <p:spPr>
          <a:xfrm>
            <a:off x="179280" y="1844640"/>
            <a:ext cx="8605800" cy="5212440"/>
          </a:xfrm>
          <a:prstGeom prst="rect">
            <a:avLst/>
          </a:prstGeom>
          <a:noFill/>
          <a:ln w="0">
            <a:noFill/>
          </a:ln>
        </p:spPr>
        <p:style>
          <a:lnRef idx="0"/>
          <a:fillRef idx="0"/>
          <a:effectRef idx="0"/>
          <a:fontRef idx="minor"/>
        </p:style>
        <p:txBody>
          <a:bodyPr anchor="t">
            <a:spAutoFit/>
          </a:bodyPr>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 mortalidad cardiaca súbita en pacientes con enfermedad del Tronco coronario izquierdo revascularizados predominó en hombres en edades avanzadas con antecedentes de hipertensión arterial, dislipidemia y tabaquismo que habían sido revascularizados previamente por enfermedad coronaria severa. </a:t>
            </a:r>
            <a:endParaRPr b="0" lang="en-US" sz="2400" spc="-1" strike="noStrike">
              <a:solidFill>
                <a:srgbClr val="003366"/>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n 1 de cada 5 pacientes que presentó una muerte cardiaca súbita se documentó un infarto miocárdico crónico. El diagnóstico clínico de un Síndrome coronario agudo con elevación del ST fue 3 veces superior para este grupo. Estas diferencias entre ambos grupos resultaron significativas cuando se analizó la presencia de una baja FEVI (&lt; 40,0 %), con mayores registros entre los que tuvieron esta complicación fatal. </a:t>
            </a:r>
            <a:endParaRPr b="0" lang="en-US" sz="24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75" name=""/>
          <p:cNvSpPr/>
          <p:nvPr/>
        </p:nvSpPr>
        <p:spPr>
          <a:xfrm>
            <a:off x="3200760" y="1284120"/>
            <a:ext cx="2427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ES:</a:t>
            </a:r>
            <a:endParaRPr b="0" lang="en-US" sz="2600" spc="-1" strike="noStrike">
              <a:solidFill>
                <a:srgbClr val="003366"/>
              </a:solidFill>
              <a:latin typeface="Arial"/>
            </a:endParaRPr>
          </a:p>
        </p:txBody>
      </p:sp>
      <p:sp>
        <p:nvSpPr>
          <p:cNvPr id="576" name="Shape 285"/>
          <p:cNvSpPr/>
          <p:nvPr/>
        </p:nvSpPr>
        <p:spPr>
          <a:xfrm>
            <a:off x="179280" y="1917720"/>
            <a:ext cx="8605800" cy="3749400"/>
          </a:xfrm>
          <a:prstGeom prst="rect">
            <a:avLst/>
          </a:prstGeom>
          <a:noFill/>
          <a:ln w="0">
            <a:noFill/>
          </a:ln>
        </p:spPr>
        <p:style>
          <a:lnRef idx="0"/>
          <a:fillRef idx="0"/>
          <a:effectRef idx="0"/>
          <a:fontRef idx="minor"/>
        </p:style>
        <p:txBody>
          <a:bodyPr anchor="t">
            <a:spAutoFit/>
          </a:bodyPr>
          <a:p>
            <a:pPr marL="343080" indent="-343080"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 </a:t>
            </a:r>
            <a:r>
              <a:rPr b="0" lang="en-US" sz="2400" spc="-1" strike="noStrike">
                <a:solidFill>
                  <a:srgbClr val="000000"/>
                </a:solidFill>
                <a:latin typeface="Calibri"/>
              </a:rPr>
              <a:t>Entre los pacientes que tuvieron una muerte cardiaca súbita la lesión ostial resultó la de mayor importancia. En los pacientes que sobrevivieron al proceder y no presentaron esta complicación mortal predominaron las lesiones de bifurcación.</a:t>
            </a:r>
            <a:endParaRPr b="0" lang="en-US" sz="2400" spc="-1" strike="noStrike">
              <a:solidFill>
                <a:srgbClr val="003366"/>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3366"/>
              </a:solidFill>
              <a:latin typeface="Arial"/>
            </a:endParaRPr>
          </a:p>
          <a:p>
            <a:pPr marL="343080" indent="-343080" algn="just">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s variables que se asociaron de manera independiente a la presencia de muerte cardiaca súbita en pacientes con enfermedad del Tronco coronario izquierdo revascularizados mediante Intervencionismo coronario percutáneo fueron la localización de la lesión en la bifurcación y el score Syntax.</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78" name=""/>
          <p:cNvSpPr/>
          <p:nvPr/>
        </p:nvSpPr>
        <p:spPr>
          <a:xfrm>
            <a:off x="3200760" y="1284120"/>
            <a:ext cx="2427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ES:</a:t>
            </a:r>
            <a:endParaRPr b="0" lang="en-US" sz="2600" spc="-1" strike="noStrike">
              <a:solidFill>
                <a:srgbClr val="003366"/>
              </a:solidFill>
              <a:latin typeface="Arial"/>
            </a:endParaRPr>
          </a:p>
        </p:txBody>
      </p:sp>
      <p:sp>
        <p:nvSpPr>
          <p:cNvPr id="579" name="Shape 298"/>
          <p:cNvSpPr/>
          <p:nvPr/>
        </p:nvSpPr>
        <p:spPr>
          <a:xfrm>
            <a:off x="179280" y="1860480"/>
            <a:ext cx="8821800" cy="2652120"/>
          </a:xfrm>
          <a:prstGeom prst="rect">
            <a:avLst/>
          </a:prstGeom>
          <a:noFill/>
          <a:ln w="0">
            <a:noFill/>
          </a:ln>
        </p:spPr>
        <p:style>
          <a:lnRef idx="0"/>
          <a:fillRef idx="0"/>
          <a:effectRef idx="0"/>
          <a:fontRef idx="minor"/>
        </p:style>
        <p:txBody>
          <a:bodyPr anchor="t">
            <a:spAutoFit/>
          </a:bodyPr>
          <a:p>
            <a:pPr marL="343080" indent="-343080" algn="just">
              <a:lnSpc>
                <a:spcPct val="100000"/>
              </a:lnSpc>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l score Syntax tradujo un incremento en la probabilidad para que se produzca una muerte cardiaca súbita, en la medida que se incrementa el valor de dicho score. La localización de la lesión en la bifurcación se comportó como un factor protector frente a la muerte cardiaca súbita, disminuyendo hasta en 5 veces el riesgo de presentar esta complicación mortal.</a:t>
            </a:r>
            <a:endParaRPr b="0" lang="en-US" sz="2400" spc="-1" strike="noStrike">
              <a:solidFill>
                <a:srgbClr val="003366"/>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81" name=""/>
          <p:cNvSpPr/>
          <p:nvPr/>
        </p:nvSpPr>
        <p:spPr>
          <a:xfrm>
            <a:off x="3200040" y="1211400"/>
            <a:ext cx="3120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RECOMENDACIONES:</a:t>
            </a:r>
            <a:endParaRPr b="0" lang="en-US" sz="2600" spc="-1" strike="noStrike">
              <a:solidFill>
                <a:srgbClr val="003366"/>
              </a:solidFill>
              <a:latin typeface="Arial"/>
            </a:endParaRPr>
          </a:p>
        </p:txBody>
      </p:sp>
      <p:sp>
        <p:nvSpPr>
          <p:cNvPr id="582" name="Shape 298"/>
          <p:cNvSpPr/>
          <p:nvPr/>
        </p:nvSpPr>
        <p:spPr>
          <a:xfrm>
            <a:off x="179280" y="1860480"/>
            <a:ext cx="8821800" cy="3749400"/>
          </a:xfrm>
          <a:prstGeom prst="rect">
            <a:avLst/>
          </a:prstGeom>
          <a:noFill/>
          <a:ln w="0">
            <a:noFill/>
          </a:ln>
        </p:spPr>
        <p:style>
          <a:lnRef idx="0"/>
          <a:fillRef idx="0"/>
          <a:effectRef idx="0"/>
          <a:fontRef idx="minor"/>
        </p:style>
        <p:txBody>
          <a:bodyPr anchor="t">
            <a:spAutoFit/>
          </a:bodyPr>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ñar investigaciones prospectivas con un mayor tiempo de seguimiento a pacientes con enfermedad de tronco coronario izquierdo revascularizados por Intervencionismo coronario percutáneo a fin de evaluar predictores de muerte cardiaca súbita.</a:t>
            </a:r>
            <a:endParaRPr b="0" lang="en-US" sz="2400" spc="-1" strike="noStrike">
              <a:solidFill>
                <a:srgbClr val="003366"/>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er la utilización del score Syntax en la predicción de episodios de muerte cardiaca súbita en pacientes con enfermedad de tronco coronario izquierdo revascularizados por Intervencionismo coronario percutáneo.</a:t>
            </a:r>
            <a:endParaRPr b="0" lang="en-US" sz="24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25" name=""/>
          <p:cNvSpPr/>
          <p:nvPr/>
        </p:nvSpPr>
        <p:spPr>
          <a:xfrm>
            <a:off x="179280" y="141300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muerte súbita (MS) es una de las principales causas de muerte, representando la mitad de todas las muertes de origen cardiovascular.</a:t>
            </a:r>
            <a:endParaRPr b="0" lang="en-US" sz="2400" spc="-1" strike="noStrike">
              <a:solidFill>
                <a:srgbClr val="003366"/>
              </a:solidFill>
              <a:latin typeface="Arial"/>
            </a:endParaRPr>
          </a:p>
        </p:txBody>
      </p:sp>
      <p:sp>
        <p:nvSpPr>
          <p:cNvPr id="526" name=""/>
          <p:cNvSpPr/>
          <p:nvPr/>
        </p:nvSpPr>
        <p:spPr>
          <a:xfrm>
            <a:off x="179280" y="253512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s enfermedades cardiovasculares en Cuba, representan la primera causa de muerte.</a:t>
            </a:r>
            <a:endParaRPr b="0" lang="en-US" sz="2400" spc="-1" strike="noStrike">
              <a:solidFill>
                <a:srgbClr val="003366"/>
              </a:solidFill>
              <a:latin typeface="Arial"/>
            </a:endParaRPr>
          </a:p>
        </p:txBody>
      </p:sp>
      <p:sp>
        <p:nvSpPr>
          <p:cNvPr id="527" name="Marcador de contenido 1"/>
          <p:cNvSpPr/>
          <p:nvPr/>
        </p:nvSpPr>
        <p:spPr>
          <a:xfrm>
            <a:off x="179280" y="3570120"/>
            <a:ext cx="8785440" cy="2451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 Cuba el Grupo de Investigación en Muerte súbita (GIMUS) ha desarrollado diversas investigaciones orientadas a la identificación de predictores de Muerte cardiaca súbita en estudios poblacionales, sin embargo no ha sido abordado con anterioridad la identificación de estos factores con capacidad de predicción para este episodio en pacientes con enfermedad coronaria de tronco izquierdo.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29" name=""/>
          <p:cNvSpPr txBox="1"/>
          <p:nvPr/>
        </p:nvSpPr>
        <p:spPr>
          <a:xfrm>
            <a:off x="457200" y="1337760"/>
            <a:ext cx="8229600" cy="509292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ROBLEMA CIENTIFICO:</a:t>
            </a:r>
            <a:endParaRPr b="1" lang="en-US" sz="2600" spc="-1" strike="noStrike">
              <a:solidFill>
                <a:srgbClr val="003366"/>
              </a:solidFill>
              <a:latin typeface="Verdana"/>
            </a:endParaRPr>
          </a:p>
          <a:p>
            <a:pPr marL="343080" indent="-343080">
              <a:lnSpc>
                <a:spcPct val="100000"/>
              </a:lnSpc>
              <a:spcBef>
                <a:spcPts val="64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66"/>
              </a:solidFill>
              <a:latin typeface="Verdana"/>
            </a:endParaRPr>
          </a:p>
        </p:txBody>
      </p:sp>
      <p:sp>
        <p:nvSpPr>
          <p:cNvPr id="530" name=""/>
          <p:cNvSpPr/>
          <p:nvPr/>
        </p:nvSpPr>
        <p:spPr>
          <a:xfrm>
            <a:off x="250920" y="1916280"/>
            <a:ext cx="8642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áles predictores de riesgo de Muerte cardiaca súbita estarán presentes en los pacientes con enfermedad coronaria de tronco izquierdo revascularizados por vía percutánea, diagnosticados en el Hospital Clínico Quirúrgico “Hermanos Ameijeiras” en el período 2017-2019?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2" name=""/>
          <p:cNvSpPr txBox="1"/>
          <p:nvPr/>
        </p:nvSpPr>
        <p:spPr>
          <a:xfrm>
            <a:off x="457200" y="1337760"/>
            <a:ext cx="8229600" cy="509292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BJETIVO GENERAL:</a:t>
            </a:r>
            <a:endParaRPr b="1" lang="en-US" sz="2600" spc="-1" strike="noStrike">
              <a:solidFill>
                <a:srgbClr val="003366"/>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66"/>
              </a:solidFill>
              <a:latin typeface="Verdana"/>
            </a:endParaRPr>
          </a:p>
        </p:txBody>
      </p:sp>
      <p:sp>
        <p:nvSpPr>
          <p:cNvPr id="533" name=""/>
          <p:cNvSpPr/>
          <p:nvPr/>
        </p:nvSpPr>
        <p:spPr>
          <a:xfrm>
            <a:off x="179280" y="2060640"/>
            <a:ext cx="878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car los predictores de riesgo de muerte cardiaca súbita en pacientes con enfermedad de Tronco coronario izquierdo, sometidos a revascularización percutánea, en el Hospital Clínico Quirúrgico “Hermanos Ameijeiras” en el período 2017-2019.</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5" name=""/>
          <p:cNvSpPr txBox="1"/>
          <p:nvPr/>
        </p:nvSpPr>
        <p:spPr>
          <a:xfrm>
            <a:off x="178920" y="1988640"/>
            <a:ext cx="8642520" cy="3313080"/>
          </a:xfrm>
          <a:prstGeom prst="rect">
            <a:avLst/>
          </a:prstGeom>
          <a:noFill/>
          <a:ln w="0">
            <a:noFill/>
          </a:ln>
        </p:spPr>
        <p:txBody>
          <a:bodyPr anchor="t">
            <a:normAutofit/>
          </a:bodyPr>
          <a:p>
            <a:pPr marL="533520" indent="-53352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ir la presentación de la muerte cardiaca súbita en pacientes con enfermedad de Tronco coronario izquierdo, sometidos a revascularización percutánea en relación a las variables demográficas. </a:t>
            </a:r>
            <a:endParaRPr b="1" lang="en-US" sz="2400" spc="-1" strike="noStrike">
              <a:solidFill>
                <a:srgbClr val="003366"/>
              </a:solidFill>
              <a:latin typeface="Verdana"/>
            </a:endParaRPr>
          </a:p>
          <a:p>
            <a:pPr marL="533520" indent="-53352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ar los factores de riesgo, las variables clínicas y angiográficas en pacientes con enfermedad de Tronco coronario izquierdo, sometidos a revascularización percutánea fallecidos por muerte cardiaca súbita y los no fallecidos. </a:t>
            </a:r>
            <a:endParaRPr b="1" lang="en-US" sz="2400" spc="-1" strike="noStrike">
              <a:solidFill>
                <a:srgbClr val="003366"/>
              </a:solidFill>
              <a:latin typeface="Verdana"/>
            </a:endParaRPr>
          </a:p>
        </p:txBody>
      </p:sp>
      <p:sp>
        <p:nvSpPr>
          <p:cNvPr id="536" name=""/>
          <p:cNvSpPr/>
          <p:nvPr/>
        </p:nvSpPr>
        <p:spPr>
          <a:xfrm>
            <a:off x="2478960" y="1341360"/>
            <a:ext cx="357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BJETIVOS ESPECIFICOS:</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8" name="Shape 177"/>
          <p:cNvSpPr/>
          <p:nvPr/>
        </p:nvSpPr>
        <p:spPr>
          <a:xfrm>
            <a:off x="5613480" y="1433520"/>
            <a:ext cx="3206520" cy="914760"/>
          </a:xfrm>
          <a:prstGeom prst="rect">
            <a:avLst/>
          </a:prstGeom>
          <a:solidFill>
            <a:srgbClr val="003366"/>
          </a:solidFill>
          <a:ln w="0">
            <a:noFill/>
          </a:ln>
        </p:spPr>
        <p:style>
          <a:lnRef idx="0"/>
          <a:fillRef idx="0"/>
          <a:effectRef idx="0"/>
          <a:fontRef idx="minor"/>
        </p:style>
        <p:txBody>
          <a:bodyPr anchor="t">
            <a:spAutoFit/>
          </a:bodyPr>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Estudio observacional, analítico transversal, de tipo casos y controles no pareados. </a:t>
            </a:r>
            <a:endParaRPr b="0" lang="en-US" sz="1800" spc="-1" strike="noStrike">
              <a:solidFill>
                <a:srgbClr val="003366"/>
              </a:solidFill>
              <a:latin typeface="Arial"/>
            </a:endParaRPr>
          </a:p>
        </p:txBody>
      </p:sp>
      <p:sp>
        <p:nvSpPr>
          <p:cNvPr id="539" name="Shape 183"/>
          <p:cNvSpPr/>
          <p:nvPr/>
        </p:nvSpPr>
        <p:spPr>
          <a:xfrm>
            <a:off x="1812960" y="2133720"/>
            <a:ext cx="3290760" cy="1097280"/>
          </a:xfrm>
          <a:prstGeom prst="rect">
            <a:avLst/>
          </a:prstGeom>
          <a:noFill/>
          <a:ln w="12600">
            <a:solidFill>
              <a:srgbClr val="003366"/>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Enfermedad de tronco </a:t>
            </a:r>
            <a:endParaRPr b="0" lang="en-US" sz="2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coronario izquierdo</a:t>
            </a:r>
            <a:endParaRPr b="0" lang="en-US" sz="2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 = 129)</a:t>
            </a:r>
            <a:endParaRPr b="0" lang="en-US" sz="2200" spc="-1" strike="noStrike">
              <a:solidFill>
                <a:srgbClr val="003366"/>
              </a:solidFill>
              <a:latin typeface="Arial"/>
            </a:endParaRPr>
          </a:p>
        </p:txBody>
      </p:sp>
      <p:sp>
        <p:nvSpPr>
          <p:cNvPr id="540" name="Shape 184"/>
          <p:cNvSpPr/>
          <p:nvPr/>
        </p:nvSpPr>
        <p:spPr>
          <a:xfrm>
            <a:off x="755640" y="3960720"/>
            <a:ext cx="2930400" cy="701640"/>
          </a:xfrm>
          <a:prstGeom prst="rect">
            <a:avLst/>
          </a:prstGeom>
          <a:noFill/>
          <a:ln w="12600">
            <a:solidFill>
              <a:srgbClr val="003366"/>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ascularizados ICP</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 = 117)</a:t>
            </a:r>
            <a:endParaRPr b="0" lang="en-US" sz="2000" spc="-1" strike="noStrike">
              <a:solidFill>
                <a:srgbClr val="003366"/>
              </a:solidFill>
              <a:latin typeface="Arial"/>
            </a:endParaRPr>
          </a:p>
        </p:txBody>
      </p:sp>
      <p:sp>
        <p:nvSpPr>
          <p:cNvPr id="541" name="Shape 185"/>
          <p:cNvSpPr/>
          <p:nvPr/>
        </p:nvSpPr>
        <p:spPr>
          <a:xfrm>
            <a:off x="3803760" y="4005360"/>
            <a:ext cx="3073320" cy="701640"/>
          </a:xfrm>
          <a:prstGeom prst="rect">
            <a:avLst/>
          </a:prstGeom>
          <a:noFill/>
          <a:ln w="12600">
            <a:solidFill>
              <a:srgbClr val="003366"/>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O Revascularizados</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 = 12)</a:t>
            </a:r>
            <a:endParaRPr b="0" lang="en-US" sz="2000" spc="-1" strike="noStrike">
              <a:solidFill>
                <a:srgbClr val="003366"/>
              </a:solidFill>
              <a:latin typeface="Arial"/>
            </a:endParaRPr>
          </a:p>
        </p:txBody>
      </p:sp>
      <p:cxnSp>
        <p:nvCxnSpPr>
          <p:cNvPr id="542" name="Shape 186"/>
          <p:cNvCxnSpPr/>
          <p:nvPr/>
        </p:nvCxnSpPr>
        <p:spPr>
          <a:xfrm>
            <a:off x="2195280" y="3617640"/>
            <a:ext cx="3158280" cy="1080"/>
          </a:xfrm>
          <a:prstGeom prst="straightConnector1">
            <a:avLst/>
          </a:prstGeom>
          <a:ln w="25560">
            <a:solidFill>
              <a:srgbClr val="003366"/>
            </a:solidFill>
            <a:miter/>
          </a:ln>
        </p:spPr>
      </p:cxnSp>
      <p:cxnSp>
        <p:nvCxnSpPr>
          <p:cNvPr id="543" name="Shape 187"/>
          <p:cNvCxnSpPr/>
          <p:nvPr/>
        </p:nvCxnSpPr>
        <p:spPr>
          <a:xfrm>
            <a:off x="2195280" y="3617640"/>
            <a:ext cx="1080" cy="345240"/>
          </a:xfrm>
          <a:prstGeom prst="straightConnector1">
            <a:avLst/>
          </a:prstGeom>
          <a:ln w="25560">
            <a:solidFill>
              <a:srgbClr val="003366"/>
            </a:solidFill>
            <a:miter/>
          </a:ln>
        </p:spPr>
      </p:cxnSp>
      <p:cxnSp>
        <p:nvCxnSpPr>
          <p:cNvPr id="544" name="Shape 188"/>
          <p:cNvCxnSpPr/>
          <p:nvPr/>
        </p:nvCxnSpPr>
        <p:spPr>
          <a:xfrm>
            <a:off x="5327280" y="3617640"/>
            <a:ext cx="1080" cy="345240"/>
          </a:xfrm>
          <a:prstGeom prst="straightConnector1">
            <a:avLst/>
          </a:prstGeom>
          <a:ln w="25560">
            <a:solidFill>
              <a:srgbClr val="003366"/>
            </a:solidFill>
            <a:miter/>
          </a:ln>
        </p:spPr>
      </p:cxnSp>
      <p:cxnSp>
        <p:nvCxnSpPr>
          <p:cNvPr id="545" name="Shape 189"/>
          <p:cNvCxnSpPr/>
          <p:nvPr/>
        </p:nvCxnSpPr>
        <p:spPr>
          <a:xfrm>
            <a:off x="3458880" y="3276720"/>
            <a:ext cx="1080" cy="342000"/>
          </a:xfrm>
          <a:prstGeom prst="straightConnector1">
            <a:avLst/>
          </a:prstGeom>
          <a:ln w="25560">
            <a:solidFill>
              <a:srgbClr val="003366"/>
            </a:solidFill>
            <a:miter/>
          </a:ln>
        </p:spPr>
      </p:cxnSp>
      <p:sp>
        <p:nvSpPr>
          <p:cNvPr id="546" name="Shape 190"/>
          <p:cNvSpPr/>
          <p:nvPr/>
        </p:nvSpPr>
        <p:spPr>
          <a:xfrm>
            <a:off x="179280" y="5218200"/>
            <a:ext cx="2756160" cy="1006560"/>
          </a:xfrm>
          <a:prstGeom prst="rect">
            <a:avLst/>
          </a:prstGeom>
          <a:noFill/>
          <a:ln w="12600">
            <a:solidFill>
              <a:srgbClr val="003366"/>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uertes cardiaca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úbitas (GRUPO A)</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 =10)</a:t>
            </a:r>
            <a:endParaRPr b="0" lang="en-US" sz="2000" spc="-1" strike="noStrike">
              <a:solidFill>
                <a:srgbClr val="003366"/>
              </a:solidFill>
              <a:latin typeface="Arial"/>
            </a:endParaRPr>
          </a:p>
        </p:txBody>
      </p:sp>
      <p:sp>
        <p:nvSpPr>
          <p:cNvPr id="547" name="Shape 191"/>
          <p:cNvSpPr/>
          <p:nvPr/>
        </p:nvSpPr>
        <p:spPr>
          <a:xfrm>
            <a:off x="4027320" y="5229360"/>
            <a:ext cx="2345040" cy="701640"/>
          </a:xfrm>
          <a:prstGeom prst="rect">
            <a:avLst/>
          </a:prstGeom>
          <a:noFill/>
          <a:ln w="12600">
            <a:solidFill>
              <a:srgbClr val="003366"/>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Vivos (Grupo B)</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 = 107)</a:t>
            </a:r>
            <a:endParaRPr b="0" lang="en-US" sz="2000" spc="-1" strike="noStrike">
              <a:solidFill>
                <a:srgbClr val="003366"/>
              </a:solidFill>
              <a:latin typeface="Arial"/>
            </a:endParaRPr>
          </a:p>
        </p:txBody>
      </p:sp>
      <p:cxnSp>
        <p:nvCxnSpPr>
          <p:cNvPr id="548" name="Shape 193"/>
          <p:cNvCxnSpPr/>
          <p:nvPr/>
        </p:nvCxnSpPr>
        <p:spPr>
          <a:xfrm flipH="1">
            <a:off x="5215680" y="4941360"/>
            <a:ext cx="3960" cy="273960"/>
          </a:xfrm>
          <a:prstGeom prst="straightConnector1">
            <a:avLst/>
          </a:prstGeom>
          <a:ln w="25560">
            <a:solidFill>
              <a:srgbClr val="003366"/>
            </a:solidFill>
            <a:miter/>
          </a:ln>
        </p:spPr>
      </p:cxnSp>
      <p:cxnSp>
        <p:nvCxnSpPr>
          <p:cNvPr id="549" name="Shape 194"/>
          <p:cNvCxnSpPr/>
          <p:nvPr/>
        </p:nvCxnSpPr>
        <p:spPr>
          <a:xfrm>
            <a:off x="2171520" y="4653000"/>
            <a:ext cx="1080" cy="278280"/>
          </a:xfrm>
          <a:prstGeom prst="straightConnector1">
            <a:avLst/>
          </a:prstGeom>
          <a:ln w="25560">
            <a:solidFill>
              <a:srgbClr val="003366"/>
            </a:solidFill>
            <a:miter/>
          </a:ln>
        </p:spPr>
      </p:cxnSp>
      <p:cxnSp>
        <p:nvCxnSpPr>
          <p:cNvPr id="550" name="Shape 195"/>
          <p:cNvCxnSpPr/>
          <p:nvPr/>
        </p:nvCxnSpPr>
        <p:spPr>
          <a:xfrm>
            <a:off x="1258560" y="4947840"/>
            <a:ext cx="1080" cy="268920"/>
          </a:xfrm>
          <a:prstGeom prst="straightConnector1">
            <a:avLst/>
          </a:prstGeom>
          <a:ln w="25560">
            <a:solidFill>
              <a:srgbClr val="003366"/>
            </a:solidFill>
            <a:miter/>
          </a:ln>
        </p:spPr>
      </p:cxnSp>
      <p:sp>
        <p:nvSpPr>
          <p:cNvPr id="551" name=""/>
          <p:cNvSpPr/>
          <p:nvPr/>
        </p:nvSpPr>
        <p:spPr>
          <a:xfrm>
            <a:off x="1258920" y="4941720"/>
            <a:ext cx="396072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2" name=""/>
          <p:cNvSpPr/>
          <p:nvPr/>
        </p:nvSpPr>
        <p:spPr>
          <a:xfrm>
            <a:off x="246960" y="1341360"/>
            <a:ext cx="5321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LUJOGRAMA DE LA INVESTIGACIÓN:</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38"/>
                                        </p:tgtEl>
                                        <p:attrNameLst>
                                          <p:attrName>style.visibility</p:attrName>
                                        </p:attrNameLst>
                                      </p:cBhvr>
                                      <p:to>
                                        <p:strVal val="visible"/>
                                      </p:to>
                                    </p:set>
                                    <p:animEffect filter="fade" transition="in">
                                      <p:cBhvr additive="repl">
                                        <p:cTn id="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54" name="Shape 210"/>
          <p:cNvSpPr/>
          <p:nvPr/>
        </p:nvSpPr>
        <p:spPr>
          <a:xfrm>
            <a:off x="971640" y="1268280"/>
            <a:ext cx="71276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Distribución según variables demográficas</a:t>
            </a:r>
            <a:endParaRPr b="0" lang="en-US" sz="2600" spc="-1" strike="noStrike">
              <a:solidFill>
                <a:srgbClr val="003366"/>
              </a:solidFill>
              <a:latin typeface="Arial"/>
            </a:endParaRPr>
          </a:p>
        </p:txBody>
      </p:sp>
      <p:graphicFrame>
        <p:nvGraphicFramePr>
          <p:cNvPr id="555" name=""/>
          <p:cNvGraphicFramePr/>
          <p:nvPr/>
        </p:nvGraphicFramePr>
        <p:xfrm>
          <a:off x="179280" y="1963800"/>
          <a:ext cx="8675640" cy="2544480"/>
        </p:xfrm>
        <a:graphic>
          <a:graphicData uri="http://schemas.openxmlformats.org/drawingml/2006/table">
            <a:tbl>
              <a:tblPr/>
              <a:tblGrid>
                <a:gridCol w="2208240"/>
                <a:gridCol w="633600"/>
                <a:gridCol w="1108080"/>
                <a:gridCol w="687240"/>
                <a:gridCol w="1055880"/>
                <a:gridCol w="590400"/>
                <a:gridCol w="1149480"/>
                <a:gridCol w="420480"/>
                <a:gridCol w="822240"/>
              </a:tblGrid>
              <a:tr h="351000">
                <a:tc gridSpan="2" row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aracterísticas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6">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uerte cardíaca súbit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otal (n = 11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í (n = 1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n = 10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65000">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dad (media ± DE)</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65,3 ± 10,6</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64,8 ±10,5</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65,4 ± 10,6</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942</a:t>
                      </a:r>
                      <a:r>
                        <a:rPr b="1" lang="en-US" sz="2000" spc="-1" strike="noStrike" baseline="30000">
                          <a:solidFill>
                            <a:srgbClr val="003366"/>
                          </a:solidFill>
                          <a:latin typeface="Calibri"/>
                        </a:rPr>
                        <a:t>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gridSpan="9">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x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asculino</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67 (57,3)</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8 (8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59 (55,1)</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row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185</a:t>
                      </a:r>
                      <a:r>
                        <a:rPr b="1" lang="en-US" sz="2000" spc="-1" strike="noStrike" baseline="30000">
                          <a:solidFill>
                            <a:srgbClr val="003366"/>
                          </a:solidFill>
                          <a:latin typeface="Calibri"/>
                        </a:rPr>
                        <a:t>b</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Femenino</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50 (42,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 (2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48 (44,9)</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57" name="Shape 210"/>
          <p:cNvSpPr/>
          <p:nvPr/>
        </p:nvSpPr>
        <p:spPr>
          <a:xfrm>
            <a:off x="1044720" y="1211400"/>
            <a:ext cx="71276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Distribución según antecedentes</a:t>
            </a:r>
            <a:endParaRPr b="0" lang="en-US" sz="2600" spc="-1" strike="noStrike">
              <a:solidFill>
                <a:srgbClr val="003366"/>
              </a:solidFill>
              <a:latin typeface="Arial"/>
            </a:endParaRPr>
          </a:p>
        </p:txBody>
      </p:sp>
      <p:graphicFrame>
        <p:nvGraphicFramePr>
          <p:cNvPr id="558" name=""/>
          <p:cNvGraphicFramePr/>
          <p:nvPr/>
        </p:nvGraphicFramePr>
        <p:xfrm>
          <a:off x="536400" y="1700280"/>
          <a:ext cx="7923240" cy="4560840"/>
        </p:xfrm>
        <a:graphic>
          <a:graphicData uri="http://schemas.openxmlformats.org/drawingml/2006/table">
            <a:tbl>
              <a:tblPr/>
              <a:tblGrid>
                <a:gridCol w="2061000"/>
                <a:gridCol w="1381320"/>
                <a:gridCol w="358920"/>
                <a:gridCol w="902520"/>
                <a:gridCol w="531000"/>
                <a:gridCol w="1283400"/>
                <a:gridCol w="172800"/>
                <a:gridCol w="1232280"/>
              </a:tblGrid>
              <a:tr h="351000">
                <a:tc row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aracterísticas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6">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uerte cardíaca súbit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4">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 =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otal (n = 11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í (n = 1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n = 10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65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65000">
                <a:tc gridSpan="7">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ntecedentes patológicos personales</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HT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80 (68,4)</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9 (9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71 (66,4)</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167</a:t>
                      </a:r>
                      <a:r>
                        <a:rPr b="1" lang="en-US" sz="2000" spc="-1" strike="noStrike" baseline="30000">
                          <a:solidFill>
                            <a:srgbClr val="003366"/>
                          </a:solidFill>
                          <a:latin typeface="Calibri"/>
                        </a:rPr>
                        <a:t>b</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Diabetes mellitus</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34 (29,1)</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3 (30,3)</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31 (29,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000</a:t>
                      </a:r>
                      <a:r>
                        <a:rPr b="1" lang="en-US" sz="2000" spc="-1" strike="noStrike" baseline="30000">
                          <a:solidFill>
                            <a:srgbClr val="003366"/>
                          </a:solidFill>
                          <a:latin typeface="Calibri"/>
                        </a:rPr>
                        <a:t>b</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Dislipidemi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32 (27,4)</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4 (4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8 (26,2)</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458</a:t>
                      </a:r>
                      <a:r>
                        <a:rPr b="1" lang="en-US" sz="2000" spc="-1" strike="noStrike" baseline="30000">
                          <a:solidFill>
                            <a:srgbClr val="003366"/>
                          </a:solidFill>
                          <a:latin typeface="Calibri"/>
                        </a:rPr>
                        <a:t>b</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Obesidad</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0 (17,1)</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 (2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8 (16,8)</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680</a:t>
                      </a:r>
                      <a:r>
                        <a:rPr b="1" lang="en-US" sz="2000" spc="-1" strike="noStrike" baseline="30000">
                          <a:solidFill>
                            <a:srgbClr val="003366"/>
                          </a:solidFill>
                          <a:latin typeface="Calibri"/>
                        </a:rPr>
                        <a:t>b</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abaquismo</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40 (34,2)</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4 (4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36 (33,6)</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734</a:t>
                      </a:r>
                      <a:r>
                        <a:rPr b="1" lang="en-US" sz="2000" spc="-1" strike="noStrike" baseline="30000">
                          <a:solidFill>
                            <a:srgbClr val="003366"/>
                          </a:solidFill>
                          <a:latin typeface="Calibri"/>
                        </a:rPr>
                        <a:t>b</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gridSpan="8">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evascularización previa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ICP</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4 (20,5)</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4 (4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0 (18,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VMQ</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9 (7,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 (2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7 (6,5)</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Híbrido</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6 (5,1)</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 (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6 (5,6)</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60" name="Shape 210"/>
          <p:cNvSpPr/>
          <p:nvPr/>
        </p:nvSpPr>
        <p:spPr>
          <a:xfrm>
            <a:off x="1044720" y="1284120"/>
            <a:ext cx="71276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Distribución según diagnóstico clinico</a:t>
            </a:r>
            <a:endParaRPr b="0" lang="en-US" sz="2600" spc="-1" strike="noStrike">
              <a:solidFill>
                <a:srgbClr val="003366"/>
              </a:solidFill>
              <a:latin typeface="Arial"/>
            </a:endParaRPr>
          </a:p>
        </p:txBody>
      </p:sp>
      <p:graphicFrame>
        <p:nvGraphicFramePr>
          <p:cNvPr id="561" name=""/>
          <p:cNvGraphicFramePr/>
          <p:nvPr/>
        </p:nvGraphicFramePr>
        <p:xfrm>
          <a:off x="755640" y="1989000"/>
          <a:ext cx="7489800" cy="3240000"/>
        </p:xfrm>
        <a:graphic>
          <a:graphicData uri="http://schemas.openxmlformats.org/drawingml/2006/table">
            <a:tbl>
              <a:tblPr/>
              <a:tblGrid>
                <a:gridCol w="1876320"/>
                <a:gridCol w="1652760"/>
                <a:gridCol w="144360"/>
                <a:gridCol w="1368360"/>
                <a:gridCol w="1623960"/>
                <a:gridCol w="824040"/>
              </a:tblGrid>
              <a:tr h="351000">
                <a:tc row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aracterísticas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4">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uerte cardíaca súbit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endParaRPr b="0" lang="en-US" sz="2000" spc="-1" strike="noStrike">
                        <a:solidFill>
                          <a:srgbClr val="003366"/>
                        </a:solidFill>
                        <a:latin typeface="Arial"/>
                      </a:endParaRPr>
                    </a:p>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7016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otal (n = 11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í (n = 1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n = 10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65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úmer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gridSpan="6">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Diagnóstico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ECE</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73 (62,4)</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7 (7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66 (61,7)</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rowSpan="3">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CASEST</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34 (27,4)</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 (1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33 (30,8)</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CACEST</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0 (8,5)</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 (2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8 (7,5)</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FEVI &lt; 40,0 %</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5 (21,4)</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7 (7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8 (16,8)</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001</a:t>
                      </a:r>
                      <a:r>
                        <a:rPr b="1" lang="en-US" sz="2000" spc="-1" strike="noStrike" baseline="30000">
                          <a:solidFill>
                            <a:srgbClr val="003366"/>
                          </a:solidFill>
                          <a:latin typeface="Calibri"/>
                        </a:rPr>
                        <a:t>b</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351000">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IAM previo</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8 (15,4)</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2 (20,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16 (15,0)</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0,651</a:t>
                      </a:r>
                      <a:r>
                        <a:rPr b="1" lang="en-US" sz="2000" spc="-1" strike="noStrike" baseline="30000">
                          <a:solidFill>
                            <a:srgbClr val="003366"/>
                          </a:solidFill>
                          <a:latin typeface="Calibri"/>
                        </a:rPr>
                        <a:t>b</a:t>
                      </a:r>
                      <a:endParaRPr b="0" lang="en-US" sz="2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medint19a</cp:lastModifiedBy>
  <dcterms:modified xsi:type="dcterms:W3CDTF">2020-11-11T23:58:01Z</dcterms:modified>
  <cp:revision>105</cp:revision>
  <dc:subject/>
  <dc:title>PowerPoint Template</dc:title>
</cp:coreProperties>
</file>