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8F3E8-14F5-40FB-9C36-F93A31E3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BB698-CC4A-4CC8-B945-00E77BDB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5F3B3-3505-465D-8AB0-AB1B8126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8EFFD-898C-41D8-B4D9-DA7DCE6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660E3-7C54-40F0-A3D5-0704CD4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AE546-9BE7-41E7-920E-33C0B4E8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9F7E-7C72-483A-A1E8-89AE9AA8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E5FAF-24FA-49AD-A0EC-113A9DCF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900FF-DD42-4752-BC7E-E25C080F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F63A5-6D57-459F-8053-161B8AEA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4B79D-2340-4B38-B63C-78D19FDB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8F6DB-6CC1-40EE-AA19-B9C771E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3B936-84A5-4EAF-B845-9B3AB6FC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C17AE-A3F5-4EFD-93CB-DFC4EFA7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9BA73-24BE-4C5D-B298-49F34D31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406CD-6D77-405A-9FF8-1C98780D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2E226-0F17-47C6-A19C-9E758563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8EAA-6F6C-46E7-A67A-F03CF10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0AF48-E5D5-4DF0-B64C-E9574FE7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AE56F-2FAA-43E8-AB53-07A813B4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C5A8-082F-4A88-AC0A-2CBE7D9D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A1207-CBF7-446C-8D23-E8BAC909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CEE36-7FA1-4716-876B-517C57CB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25BBE-52C7-409D-8CF6-FD6F62B6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D3DCA-45F7-4723-ABE5-592D291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66C4C-5423-4218-B2E7-7C563F17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BE4ED-F9E3-4FAD-A175-21455E3B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0FA4-3512-4E0F-AB5D-BB33A0D1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564C1-882D-48C3-9249-D8005A4F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735CB-578D-4D14-A8C1-13DFE95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8FF75-EDB2-405B-978D-4E2CD3BC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BF1F-42C8-4F2F-B3D0-AD70C6CA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F68A6-5ABE-4064-BFB9-EC3B48CF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FAACC-1014-4AD6-888A-8DB624F1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A9616-74E5-4E8F-9672-E54FD09E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0A70B-0E63-433F-8C77-B152FCCC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0B49A-CB66-414B-B655-5A51CF27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FDB6E-8673-4C9D-97AE-066B774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33B79-364B-457A-A446-8761A977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03016-3E03-49C6-8BA0-F9BD7A2D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0C7CB-E9FE-4D8E-8F8B-3388E5C9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CA6FD-D683-410C-8D2C-809ACFF2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DE760-C7B6-4B22-89DF-C0F7B414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5A7AB-B691-4154-992C-D0455642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2318A-23B3-4CA8-8C61-5973D2AC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06E-98CB-4D80-B078-10B26012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CB0-0C11-481E-8D94-680FB5D3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431-EA28-48CB-A185-FB3C553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E4D-7C98-47CD-B4D5-140BE64A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AEE-0304-4F9D-8590-16EA288D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300-0B99-4730-A1A1-826686A4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BF3-997E-492B-AF3A-406001E5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2F1-0259-46AC-B5A2-3EA8F2E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40F-B009-4E15-9023-7B113AD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E66-9B5B-4F6D-A285-27D8CB0C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518-CEE2-4F1E-97EE-89F5FC7E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1EF-2E58-46DA-A8FF-8AC36049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DB83-777C-49D6-84D8-5B8D8D28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89FC-B29F-4D16-9692-5CDD2737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EEF3-EA23-4907-8CB0-BD8B53D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B45A-A926-4486-88EE-818B5547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D063-63B4-4875-A411-D79078FC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F9E3-39DE-4CEA-900B-ED7FAD5F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571E-1053-49F2-BBB9-70652739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601D-B247-4DF6-B6C7-E20D3FB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A681-BD25-40CF-9879-4F1C763C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3F5B-F909-4680-ACB7-E5C2E58B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3C38-FB32-4E3B-859D-A6524ED3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5E8-166D-474D-8F09-28F13FF5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6E70-AB50-48AF-BC2B-4143AA70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A37BE-89BC-40C1-A77A-7174B29E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2A0F-4B12-4200-8CDB-D8F49558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4CDE-3AD5-4449-BD8B-979CFD90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7BC9-0692-43EA-B7B6-576C2393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3C0F-2528-4EFD-8DCB-A5CAF543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2251-C94D-4FAC-9CCE-485624D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4DF47-81CD-48DB-B147-9647E8A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EC63-2844-431C-993F-F9322F3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39D3C-29E4-4546-B985-F99BC5B8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217C2-9D80-4D7D-8D0D-1F002560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1C66-7AD2-4301-95A1-188A97B8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2489-E928-4C29-81C0-0E876055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0E5E-E278-4A19-99BD-CD92635D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6894-9502-4785-B3E1-DC3DAF46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14677-1388-472A-88B6-371A74B6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7ABB-A909-471B-9810-D9110885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AFB3-9F02-414F-B0A5-57CC35EF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8492-6E3C-4D8A-82D2-B93CC6D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9066A-02BA-4802-8B69-FA4A92F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18A7-ED52-4F2B-8D80-C67F4328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B9577-E858-4A8E-8735-4AAD02E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FBB12-D4A9-49A6-807A-6B91EB40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8DDFE-5B4C-4963-BB53-8E8EBD97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4B288-91C1-488F-BF32-EB5C2135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89E8-647B-41FC-9167-510FEE5F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63C3B-CDAC-4C7B-8D6A-D1D469A0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BE5D-554E-4376-BF6B-3CE094BB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8512-D45D-4F5B-81ED-B99C8A1C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F28D-77DF-4AF7-B02F-F17EE0A5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16B3-EE07-464F-8E81-1F69768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FC3D1-C5AF-482E-A3AE-FC7B6912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30C49-FF56-4409-850D-BD555AB5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D355D-6C14-4E68-B06A-79AEA5D4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A3BBB-FB80-4C36-9749-4612885A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A07A7-EBD7-4BE8-B1FF-A0B082EB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D0A02-8428-45B7-8203-38230162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E034D-9A9C-47BB-8163-A576DC7D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C7F18-F68E-4639-9537-6CA27C8E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B7A7-7D59-41B5-9B42-E449637063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75FE-3C37-4685-A06B-F26067AB45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7A37-8663-4036-A87F-143F3477405F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54E1-022B-434C-820E-165E0158C5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9B8-0C7C-404B-BC31-A7997BD05E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FD16-52C0-4340-AB3B-746FB9E1FA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0191-3B1F-4846-899A-32A732FB0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421-C0FD-4EB9-A198-44F1609AA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7737-2ACD-45D5-B671-20A388EDA6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Lic. María Elena Rodríguez Lafuente     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Lic. Yeidy González Laviña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epartamento de Psicología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23" name="1 Rectángulo"/>
          <p:cNvSpPr/>
          <p:nvPr/>
        </p:nvSpPr>
        <p:spPr>
          <a:xfrm>
            <a:off x="512640" y="1512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66"/>
                </a:solidFill>
                <a:latin typeface="Calibri"/>
                <a:ea typeface="Calibri"/>
              </a:rPr>
              <a:t>Sexualidad en pacientes masculinos con cáncer de vejiga antes y después de la cirug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337760"/>
            <a:ext cx="83628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  <a:ea typeface="Calibri"/>
              </a:rPr>
              <a:t>Resultados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Calibri"/>
                <a:ea typeface="Times New Roman"/>
              </a:rPr>
              <a:t>Comportamiento del deseo inhibido antes y después de la cirugía</a:t>
            </a: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47" name="4 Gráfico" descr=""/>
          <p:cNvPicPr/>
          <p:nvPr/>
        </p:nvPicPr>
        <p:blipFill>
          <a:blip r:embed="rId1"/>
          <a:stretch/>
        </p:blipFill>
        <p:spPr>
          <a:xfrm>
            <a:off x="682560" y="2419200"/>
            <a:ext cx="77788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Resultado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Comportamiento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Calibri"/>
              </a:rPr>
              <a:t>del erotismo antes y después de la cirugí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50" name="3 Gráfico" descr=""/>
          <p:cNvPicPr/>
          <p:nvPr/>
        </p:nvPicPr>
        <p:blipFill>
          <a:blip r:embed="rId1"/>
          <a:stretch/>
        </p:blipFill>
        <p:spPr>
          <a:xfrm>
            <a:off x="682560" y="2346480"/>
            <a:ext cx="77788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Resultados</a:t>
            </a:r>
            <a:r>
              <a:rPr b="1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Comportamiento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 de la intimidad antes y después de la cirugí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53" name="2 Gráfico" descr=""/>
          <p:cNvPicPr/>
          <p:nvPr/>
        </p:nvPicPr>
        <p:blipFill>
          <a:blip r:embed="rId1"/>
          <a:stretch/>
        </p:blipFill>
        <p:spPr>
          <a:xfrm>
            <a:off x="682560" y="2419200"/>
            <a:ext cx="79185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  <a:ea typeface="Calibri"/>
              </a:rPr>
              <a:t>Resultados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Comportamiento del placer antes y después de la cirugí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56" name="1 Gráfico" descr=""/>
          <p:cNvPicPr/>
          <p:nvPr/>
        </p:nvPicPr>
        <p:blipFill>
          <a:blip r:embed="rId1"/>
          <a:stretch/>
        </p:blipFill>
        <p:spPr>
          <a:xfrm>
            <a:off x="828720" y="2419200"/>
            <a:ext cx="76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00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Resultado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Calibri"/>
              </a:rPr>
              <a:t>Se encontraron relaciones estadísticamente significativas entre las siguientes variables: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Calibri"/>
              </a:rPr>
              <a:t>Edad con erotismo,  disfunción eréctil y  eyaculación precoz. 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lvl="1" marL="39996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Calibri"/>
                <a:ea typeface="Calibri"/>
              </a:rPr>
              <a:t>A medida que aumenta la edad disminuyó el nivel de erotismo y la presencia de eyaculación precoz; pero aumentó la disfunción eréctil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Calibri"/>
              </a:rPr>
              <a:t>Vínculo de pareja con placer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lvl="1" marL="39996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Calibri"/>
                <a:ea typeface="Calibri"/>
              </a:rPr>
              <a:t>Los pacientes que estaban más vinculados en pareja presentaban menos experiencias placenteras</a:t>
            </a:r>
            <a:r>
              <a:rPr b="0" lang="es-ES" sz="21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Calibri"/>
              </a:rPr>
              <a:t>Tipo de cirugía con erotismo, intimidad, placer, disfunción eréctil,  eyaculación precoz y deseo inhibido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lvl="1" marL="39996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Calibri"/>
                <a:ea typeface="Calibri"/>
              </a:rPr>
              <a:t>A medida que aumentó la complejidad de la cirugía disminuyó el erotismo, la intimidad y el placer, se presentaron mas disfunción eréctil y deseo inhibido pero menos eyaculación precoz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68360" y="11970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Conclusione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Antes de la cirugía se evidenció niveles bajos de disfunción eréctil, predominó el nivel ligero de eyaculación precoz y la no inhibición del deseo sexual. El nivel de erotismo se comportó predominantemente alto,  la intimidad muy baja y el nivel de placer medio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Se encontró relación entre la edad y el erotismo, así como con los tres elementos de la disfunción sexual; y del vínculo de pareja con el placer 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El tipo de cirugía se relacionó con todos los aspectos de la sexualidad evaluados. 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Existió un deterioro de los niveles de erotismo y de placer posterior a la cirugía, además de un amento de la disfunción eréctil y el deseo inhibido en los pacientes con cáncer de vejiga estudiados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50920" y="3971880"/>
            <a:ext cx="864216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Calibri"/>
              </a:rPr>
              <a:t>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1 CuadroTexto"/>
          <p:cNvSpPr/>
          <p:nvPr/>
        </p:nvSpPr>
        <p:spPr>
          <a:xfrm>
            <a:off x="539640" y="1270080"/>
            <a:ext cx="83534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  <a:ea typeface="Calibri"/>
              </a:rPr>
              <a:t>Introduc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La salud sexual se relaciona con el bienestar de los individuos.</a:t>
            </a:r>
            <a:r>
              <a:rPr b="0" lang="es-ES" sz="2400" spc="-1" strike="noStrike" baseline="30000">
                <a:solidFill>
                  <a:srgbClr val="003366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La sexualidad está influida por la interacción de factores biológicos, psicológicos, sociales, económicos, políticos, culturales, éticos, legales, históricos y religios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También  intervienen otros elementos  individuales y propios de la pareja como : el funcionamiento sexual , el erotismo, la intimidad y el plac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Introducción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El cáncer de vejiga constituye la sexta causa de muerte y la séptima localización en la incidencia de cáncer en los hombres cubanos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El estudio de la sexualidad en pacientes oncológicos, es una temática de actualidad, ya que cada año aumentan los casos con este tipo de patologías, y también la supervivencia, que debe ir acompañada de un óptimo nivel de bienestar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Las investigaciones sobre la caracterización de la sexualidad en pacientes con cáncer de vejiga antes y después de la cirugía, desde el prisma psicológico es muy escasa, especialmente en el contexto cubano, lo cual se refleja en el reducido número de bibliografía especializada al respecto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  <a:ea typeface="Calibri"/>
              </a:rPr>
              <a:t>Problema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  <a:ea typeface="Times New Roman"/>
              </a:rPr>
              <a:t>¿Cómo se caracterizan algunos aspectos de la sexualidad en pacientes con cáncer de vejiga atendidos en el Hospital Clínico Quirúrgico “Hermanos Ameijeiras” antes y después de la cirugía, en el período de septiembre del 2018 a abril del 2019?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Verdana"/>
              </a:rPr>
              <a:t>                      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31" name="Imagen 2" descr=""/>
          <p:cNvPicPr/>
          <p:nvPr/>
        </p:nvPicPr>
        <p:blipFill>
          <a:blip r:embed="rId1"/>
          <a:stretch/>
        </p:blipFill>
        <p:spPr>
          <a:xfrm>
            <a:off x="826920" y="4913280"/>
            <a:ext cx="1668600" cy="1408320"/>
          </a:xfrm>
          <a:prstGeom prst="rect">
            <a:avLst/>
          </a:prstGeom>
          <a:ln w="0">
            <a:noFill/>
          </a:ln>
        </p:spPr>
      </p:pic>
      <p:pic>
        <p:nvPicPr>
          <p:cNvPr id="532" name="Imagen 3" descr=""/>
          <p:cNvPicPr/>
          <p:nvPr/>
        </p:nvPicPr>
        <p:blipFill>
          <a:blip r:embed="rId2"/>
          <a:stretch/>
        </p:blipFill>
        <p:spPr>
          <a:xfrm>
            <a:off x="6732720" y="4941720"/>
            <a:ext cx="1164960" cy="13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68360" y="126792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Objetivo genera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Caracterizar aspectos de la sexualidad en pacientes masculinos con cáncer de vejiga antes y después de la cirugía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    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Objetivos específico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550"/>
              </a:spcBef>
              <a:spcAft>
                <a:spcPts val="601"/>
              </a:spcAft>
              <a:buClr>
                <a:srgbClr val="3ca05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Describir el erotismo, la intimidad y el placer en los pacientes estudiados. 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550"/>
              </a:spcBef>
              <a:spcAft>
                <a:spcPts val="601"/>
              </a:spcAft>
              <a:buClr>
                <a:srgbClr val="3ca05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Evaluar si existen diferencias en estos aspectos de la sexualidad acorde a la edad, vínculo de pareja, y al tipo de cirugía</a:t>
            </a:r>
            <a:r>
              <a:rPr b="1" lang="en-U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550"/>
              </a:spcBef>
              <a:spcAft>
                <a:spcPts val="601"/>
              </a:spcAft>
              <a:buClr>
                <a:srgbClr val="3ca05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Comparar cómo se comportan estos aspectos de la sexualidad antes y después de la intervención quirúrgica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  <a:ea typeface="Calibri"/>
              </a:rPr>
              <a:t>Método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66"/>
                </a:solidFill>
                <a:latin typeface="Calibri"/>
                <a:ea typeface="Times New Roman"/>
              </a:rPr>
              <a:t>Investigación observacional descriptiva de corte longitudinal</a:t>
            </a:r>
            <a:r>
              <a:rPr b="1" lang="es-ES" sz="2300" spc="-1" strike="noStrike">
                <a:solidFill>
                  <a:srgbClr val="003366"/>
                </a:solidFill>
                <a:latin typeface="Calibri"/>
                <a:ea typeface="Times New Roman"/>
              </a:rPr>
              <a:t>. Con un enfoque mixto.</a:t>
            </a: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Universo conformado por 31 pacientes con cáncer de vejiga atendidos en el servicio de Urología del Hospital Clínico Quirúrgico Hermanos Ameijeiras, en el período de septiembre del 2018 a abril del 2019.</a:t>
            </a:r>
            <a:r>
              <a:rPr b="1" lang="es-MX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La muestra de carácter intencional, no probabilística, fueron 20 pacientes</a:t>
            </a:r>
            <a:r>
              <a:rPr b="1" lang="es-ES" sz="2000" spc="-1" strike="noStrike">
                <a:solidFill>
                  <a:srgbClr val="003366"/>
                </a:solidFill>
                <a:latin typeface="Calibri"/>
                <a:ea typeface="Times New Roman"/>
              </a:rPr>
              <a:t>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  <a:ea typeface="Times New Roman"/>
              </a:rPr>
              <a:t>Criterios de inclusión: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3ca05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  <a:ea typeface="Calibri"/>
              </a:rPr>
              <a:t>Desear participar en la investigación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3ca05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  <a:ea typeface="Calibri"/>
              </a:rPr>
              <a:t>Que sean del sexo masculino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ca05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Calibri"/>
              </a:rPr>
              <a:t>Tener menos de 70 años 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8" name="Marcador de contenido 1" descr=""/>
          <p:cNvPicPr/>
          <p:nvPr/>
        </p:nvPicPr>
        <p:blipFill>
          <a:blip r:embed="rId1"/>
          <a:stretch/>
        </p:blipFill>
        <p:spPr>
          <a:xfrm>
            <a:off x="378000" y="1285920"/>
            <a:ext cx="840096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337760"/>
            <a:ext cx="83628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Resultados</a:t>
            </a:r>
            <a:r>
              <a:rPr b="1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Comportamiento de la disfunción eréctil antes y después de la cirugía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41" name="5 Gráfico" descr=""/>
          <p:cNvPicPr/>
          <p:nvPr/>
        </p:nvPicPr>
        <p:blipFill>
          <a:blip r:embed="rId1"/>
          <a:stretch/>
        </p:blipFill>
        <p:spPr>
          <a:xfrm>
            <a:off x="609480" y="2419200"/>
            <a:ext cx="806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337760"/>
            <a:ext cx="82915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  <a:ea typeface="Calibri"/>
              </a:rPr>
              <a:t>Resultado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Calibri"/>
                <a:ea typeface="Times New Roman"/>
              </a:rPr>
              <a:t>Comportamiento de la eyaculación precoz antes y después de la cirugía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44" name="7 Gráfico" descr=""/>
          <p:cNvPicPr/>
          <p:nvPr/>
        </p:nvPicPr>
        <p:blipFill>
          <a:blip r:embed="rId1"/>
          <a:stretch/>
        </p:blipFill>
        <p:spPr>
          <a:xfrm>
            <a:off x="682560" y="2560680"/>
            <a:ext cx="78519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nancy</cp:lastModifiedBy>
  <dcterms:modified xsi:type="dcterms:W3CDTF">2020-10-31T10:15:09Z</dcterms:modified>
  <cp:revision>129</cp:revision>
  <dc:subject/>
  <dc:title>PowerPoint Template</dc:title>
</cp:coreProperties>
</file>