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6.wmf" ContentType="image/x-wmf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454BD-33EA-4A8F-8C41-4CC167D1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E97CB-EB59-425B-9AAE-07B60BA7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A6BA-E478-4DC5-BD2E-4F75E2D5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BF31-EF97-4180-B49A-EE67F1E6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CEFC0-D23F-4651-AFA7-82876E10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B8AEE-7581-4572-AE2A-76173866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991DD-6F13-4248-8AA8-9A73FE18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EF427-BAC9-42DE-8B60-589BA4A8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CF6E8-AA31-4861-81A9-1D3A1308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8155D-0D06-42C5-899B-24F872C5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8651B-9790-4CF2-9E85-16D30AA8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9CBC5-8403-405F-88E9-D9275D8E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333D1-5EC9-4EAF-BDA9-200A9C29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BA121-DD6C-4390-AA09-7B80D20A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AA9F2-5DF0-4FCF-9338-EFE9934D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AE4FF-E1B5-44F3-B636-23A69EF8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36998-EB3A-4191-884C-57790D13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BDBE7-9712-4E9A-A80C-C4375A90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02D76-2F5E-4B5E-9678-1AD37592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E89AE-FE48-4D04-987C-CD6564F3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CA4A2-C112-4ADA-9196-FB84673E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82434-D463-456B-80EB-C721569D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D1DB4-E68F-474C-802B-08E0DAB5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AB0B1-FA9F-460D-822B-1ABFD81B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505EB-A811-46E7-BBD4-028FDEE3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B4700-4090-43A3-8D22-DC679F94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446B5-4A17-4AFF-B218-2FDBCFE7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07334-9B72-49AD-8408-A67FDEE5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49997-434D-48BA-9E99-38116B2C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5202D-B3B5-4476-A94F-3B83D4C2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00C67-AE2F-40F0-AFFA-FE57F7FE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CB57B-6F17-44A9-9BC3-0E69AF0A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0E22C-7F91-4EA6-BD35-9F893519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7345E-515D-421C-891E-A3580731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7AA65-9C74-4495-9F58-C6216BAF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DCBC1-DEC0-45D5-A9B2-ED54698A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B2E2A-6C01-453A-8F77-B814BB82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A262A-C10A-4F45-8313-308A9305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F5BB4-6881-46E2-95A5-E4D8D6E2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E433C-9AFA-49C2-AB68-8217E21E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2383D-5487-4BA9-BDAD-B1397345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4B151-97FB-448C-9A2F-47B0F0D0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6F974-DDC0-4E7D-BC63-E4D13DF8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59B57-444A-4BB6-A70B-3010B927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A97F4-482C-45A9-A388-01D768C2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842-F425-4DC6-9CE9-FF1F9FC4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E8E-189E-4B4E-B347-7A44F114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DA2-9FA3-4CBC-9994-06E4DE48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B54-607C-42E1-B66C-2DA308A1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1B96-918F-4233-8B47-3AFEE195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4C7-DFDC-4B01-B0AA-40F5E8BD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9E5-B7BD-4470-BB28-F68EF81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710-E435-4E7E-BA90-2CDA49AD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591-DDFD-46B6-B657-6186518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536-B46D-4348-8414-4115FC66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310-1BB8-4522-B454-0AD94E40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FBF-4267-4C78-801C-D603D3A7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5505-1657-4C20-A7DD-1D15569E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45B6-DE47-4D18-937B-5DDD6B34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8EE2-C186-4946-824C-8D7E55E9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8467-A022-4329-A26A-68B1DB84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EFC5-B866-4519-9481-304310ED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5CD7-D508-4A1B-BC81-3D37F262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0649-08D0-480A-A0D8-0F4B905C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27F6-F112-405A-8BA0-7CCF82B3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3414-BF59-4BF7-B26F-43E4BA22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0DD5-5BB2-4E13-A3B9-17AF6D59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E6D0-02BB-440B-A8D9-C59818BC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E5F0-002D-45DE-92FA-EC4C35B8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6766-13D2-4470-9C40-239D9C4B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7433-DF55-42D8-B641-E2720053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7CBE-234C-48D2-B8B8-6742F649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BC93C-CCE8-4B36-9300-99F0E4E6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4E1FB-5246-4A63-BD39-B803BEBE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B1382-F15C-4FC6-A0CD-909E7DA6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F95F-21F3-495B-9C50-5F9C0692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0459A-B9D6-4186-970E-1F16BA5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541D-13BF-439E-97BD-6DA20FB4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FF91-BD42-4BE1-B0C4-8A691FDD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B75F-2133-4446-ADF3-87C76F56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03FEA-E088-4CE0-9B82-30E3360A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0B06-E383-480F-8977-F784ACD4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7860-8DCD-4149-AE49-70C833CC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8BD6D-B42C-433F-904E-CFE91F46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5B5C9-B784-4806-9900-EC7B3833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9A779-CC0E-46CB-9704-B726D7C2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17C80-1855-43EA-9823-9C37D144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B7EF9-2A6C-4E92-A0E3-D76C5CB9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6FE5C-F9BB-436C-B714-CA5637A5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EB176-AEDF-416A-A41C-31B171D2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5EC4-74E4-4496-9E55-678B3F99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9FED-47CF-4707-BD3A-DA4CE68D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524EC-2767-4A93-B9A5-B373855C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B409C-228F-4684-A1A4-87469582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E93D8-E120-42A8-BFD4-9338E5FC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7ED37-AFD6-4CC8-A35C-FD82B6EF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54E93-AB1A-462E-8163-8ACA5BBA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1823E-66B3-4159-9FFC-59B85831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72ED0-C7B1-442C-A73C-6BFDA768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63DC4-CBF9-402C-9634-FF7EA7E6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5CE1-EFBD-40ED-85F8-52D8C502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C20EF-85B0-4419-9A40-28F1A34D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7FF79-EA01-4F5F-86F2-30A1F888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2023B-C1E4-435D-8E1A-20DD4048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681ED-08FA-4870-ACBD-679FEF57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66C3-3E7C-4228-B002-A8E1672D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3BE3C-A759-40F2-A547-C3A0D84F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A7B7B-B2EB-4CA1-BB54-4D2A2456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939A-7606-4A00-8D1B-9D6E128758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50E4-B83E-4CAE-B1CD-EAD079002E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0108-5951-4416-8BF7-89A4825CE1EC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095800" y="165240"/>
            <a:ext cx="363384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B748-5B3B-4ABC-A86E-EE368DB0C4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CD72-9ACA-461C-966B-7B0324CC87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F62B-68E9-4413-8E71-C5F7EBF294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BFEB-6076-4230-9F5F-02164154E9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D23E-05C8-4524-B41F-022A42E1CB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5F0C-D75D-461B-8FAC-61BFF1AC04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42920" y="3928680"/>
            <a:ext cx="5891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Autores: Dra. 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Calibri"/>
              </a:rPr>
              <a:t>Alitza Tamayo Cordoví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Dra. Yelenis Elías Montes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MsC. 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Calibri"/>
              </a:rPr>
              <a:t>Tamara Coto Batista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</a:t>
            </a:r>
            <a:r>
              <a:rPr b="1" i="1" lang="es-MX" sz="2000" spc="-1" strike="noStrike">
                <a:solidFill>
                  <a:srgbClr val="003366"/>
                </a:solidFill>
                <a:latin typeface="Calibri"/>
                <a:ea typeface="Calibri"/>
              </a:rPr>
              <a:t>Dra. Yusleidy Yanet Sánchez Pérez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</a:t>
            </a:r>
            <a:r>
              <a:rPr b="1" i="1" lang="es-MX" sz="2000" spc="-1" strike="noStrike">
                <a:solidFill>
                  <a:srgbClr val="003366"/>
                </a:solidFill>
                <a:latin typeface="Calibri"/>
                <a:ea typeface="Calibri"/>
              </a:rPr>
              <a:t>Dra. Dunia Cristina Mojena Téllez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Servicio de  Clínicas Pediátricas. Hospital  Provincial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Pediátrico Docente “General Milanés”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Granma, 2020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2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5"/>
          <p:cNvSpPr/>
          <p:nvPr/>
        </p:nvSpPr>
        <p:spPr>
          <a:xfrm>
            <a:off x="357120" y="17164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e0000"/>
                </a:solidFill>
                <a:latin typeface="Calibri"/>
                <a:ea typeface="Calibri"/>
              </a:rPr>
              <a:t> </a:t>
            </a:r>
            <a:r>
              <a:rPr b="1" lang="es-MX" sz="2000" spc="-1" strike="noStrike">
                <a:solidFill>
                  <a:srgbClr val="9e0000"/>
                </a:solidFill>
                <a:latin typeface="Calibri"/>
                <a:ea typeface="Calibri"/>
              </a:rPr>
              <a:t>FACTORES DE RIESGO ASOCIADOS A INTENTO SUICIDA EN ADOLESCENTES.  UNIDAD DE CUIDADOS INTENSIVOS PEDIÁTRICOS. 2018-2019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13840" y="1285920"/>
            <a:ext cx="85870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Tabla 1.Factores de riesgo de intento suicida según edad y sexo. Hospital Provincial Pediátrico Docente “General Milanés”. 2018-2019.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714240" y="2643120"/>
          <a:ext cx="7786800" cy="2881440"/>
        </p:xfrm>
        <a:graphic>
          <a:graphicData uri="http://schemas.openxmlformats.org/drawingml/2006/table">
            <a:tbl>
              <a:tblPr/>
              <a:tblGrid>
                <a:gridCol w="1141560"/>
                <a:gridCol w="1141560"/>
                <a:gridCol w="1143000"/>
                <a:gridCol w="1141200"/>
                <a:gridCol w="684360"/>
                <a:gridCol w="799920"/>
                <a:gridCol w="798480"/>
                <a:gridCol w="936720"/>
              </a:tblGrid>
              <a:tr h="823320">
                <a:tc gridSpan="2"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Variab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Cas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N = 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Contro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N = 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Intervalo de confianza 9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Mín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Máx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Eda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2 – 15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37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,69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6 – 19 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Sex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Femeni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,33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,99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Masculi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4" name="Rectangle 5"/>
          <p:cNvSpPr/>
          <p:nvPr/>
        </p:nvSpPr>
        <p:spPr>
          <a:xfrm>
            <a:off x="508680" y="535896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Fuente: Historia clí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13840" y="1285920"/>
            <a:ext cx="8472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Tabla 2. Factores de riesgo de intento suicida según antecedentes patológicos personales. Hospital Provincial Pediátrico Docente “General Milanés”. 2018-2019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714240" y="2571840"/>
          <a:ext cx="7715520" cy="2935080"/>
        </p:xfrm>
        <a:graphic>
          <a:graphicData uri="http://schemas.openxmlformats.org/drawingml/2006/table">
            <a:tbl>
              <a:tblPr/>
              <a:tblGrid>
                <a:gridCol w="1251000"/>
                <a:gridCol w="819360"/>
                <a:gridCol w="1137960"/>
                <a:gridCol w="1140120"/>
                <a:gridCol w="690480"/>
                <a:gridCol w="925560"/>
                <a:gridCol w="806400"/>
                <a:gridCol w="944640"/>
              </a:tblGrid>
              <a:tr h="631080">
                <a:tc gridSpan="2"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Variab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Cas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N = 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Contro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N = 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Intervalo de confianza 9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Mín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Máx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Ansieda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,66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1,58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0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Depresión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3,5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,34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9,10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00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Epilepsi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4,46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76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5,9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07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5"/>
          <p:cNvSpPr/>
          <p:nvPr/>
        </p:nvSpPr>
        <p:spPr>
          <a:xfrm>
            <a:off x="580320" y="543024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Fuente: Historia clí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37760"/>
            <a:ext cx="86868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Tabla 3. Factores de riesgo de intento suicida según antecedentes patológicos familiares. Hospital Provincial Pediátrico Docente “General Milanés”. 2018-2019. Análisis univariado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571680" y="2571840"/>
          <a:ext cx="8001000" cy="3768480"/>
        </p:xfrm>
        <a:graphic>
          <a:graphicData uri="http://schemas.openxmlformats.org/drawingml/2006/table">
            <a:tbl>
              <a:tblPr/>
              <a:tblGrid>
                <a:gridCol w="1357200"/>
                <a:gridCol w="801720"/>
                <a:gridCol w="1119240"/>
                <a:gridCol w="1117440"/>
                <a:gridCol w="839880"/>
                <a:gridCol w="909720"/>
                <a:gridCol w="907920"/>
                <a:gridCol w="947880"/>
              </a:tblGrid>
              <a:tr h="823320">
                <a:tc gridSpan="2"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Variab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Cas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N = 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Contro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N = 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Intervalo de confianza 9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Mín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Máx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Ansieda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,5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,9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71,89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Depresió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,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,3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06,21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007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Alcoholism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,82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,70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45,68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02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2" name="Rectangle 4"/>
          <p:cNvSpPr/>
          <p:nvPr/>
        </p:nvSpPr>
        <p:spPr>
          <a:xfrm>
            <a:off x="722880" y="621612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Fuente: Historia clín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85480" y="1143000"/>
            <a:ext cx="864396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Tabla 4. Factores de riesgo de intento suicida según conflictos familiares, con la pareja y el rechazo escolar. Hospital Provincial Pediátrico Docente “General Milanés”. 2018-2019.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28760" y="2286000"/>
          <a:ext cx="8215200" cy="3889440"/>
        </p:xfrm>
        <a:graphic>
          <a:graphicData uri="http://schemas.openxmlformats.org/drawingml/2006/table">
            <a:tbl>
              <a:tblPr/>
              <a:tblGrid>
                <a:gridCol w="2357280"/>
                <a:gridCol w="571680"/>
                <a:gridCol w="928440"/>
                <a:gridCol w="1143000"/>
                <a:gridCol w="785880"/>
                <a:gridCol w="642960"/>
                <a:gridCol w="928800"/>
                <a:gridCol w="857160"/>
              </a:tblGrid>
              <a:tr h="549000">
                <a:tc gridSpan="2"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riab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Cas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 = 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Contro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 = 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ntervalo de confianza 9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Mín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Máx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Malas relacion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con los padr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,5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,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,97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blemas económic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,38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,48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,94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blemas de parej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,3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,21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3,39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Rechazo escola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9,33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,78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23,5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6" name="Rectangle 4"/>
          <p:cNvSpPr/>
          <p:nvPr/>
        </p:nvSpPr>
        <p:spPr>
          <a:xfrm>
            <a:off x="794520" y="614484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Fuente: Historia clí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Tabla 5. Factores de riesgo de intento suicida según conducta suicida en el medio. Hospital Provincial Pediátrico Docente “General Milanés”. 2018-2019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500040" y="2643120"/>
          <a:ext cx="8001000" cy="2751120"/>
        </p:xfrm>
        <a:graphic>
          <a:graphicData uri="http://schemas.openxmlformats.org/drawingml/2006/table">
            <a:tbl>
              <a:tblPr/>
              <a:tblGrid>
                <a:gridCol w="1428840"/>
                <a:gridCol w="834840"/>
                <a:gridCol w="1193760"/>
                <a:gridCol w="1195560"/>
                <a:gridCol w="716040"/>
                <a:gridCol w="834840"/>
                <a:gridCol w="836640"/>
                <a:gridCol w="960480"/>
              </a:tblGrid>
              <a:tr h="610200">
                <a:tc gridSpan="2"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        </a:t>
                      </a:r>
                      <a:r>
                        <a:rPr b="1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riabl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Caso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 = 3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Control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 = 6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O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ntervalo de confianza 9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Mín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Máx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Suicidio en la famil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S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,8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,05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1,92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2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Suicidio en amigo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S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,78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,37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,32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9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Rectangle 4"/>
          <p:cNvSpPr/>
          <p:nvPr/>
        </p:nvSpPr>
        <p:spPr>
          <a:xfrm>
            <a:off x="508680" y="550188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Fuente: Historia clí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0" y="1765440"/>
            <a:ext cx="885816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    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La mayoría de los factores investigados contribuyeron al riesgo de realizar intento suicida, excepto la edad y sexo. Los trastornos o sintomatología psiquiátricos, personales y familiares, junto a conflictos familiares o escolares fueron los de mayor significación, por lo que los resultados obtenidos advierten sobre las posibilidades preventivas que pueden resultar viables para disminuir la incidencia de la entidad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5 Rectángulo"/>
          <p:cNvSpPr/>
          <p:nvPr/>
        </p:nvSpPr>
        <p:spPr>
          <a:xfrm>
            <a:off x="2071800" y="1357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CONCLUSIONES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0" y="1356840"/>
            <a:ext cx="87868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     </a:t>
            </a:r>
            <a:r>
              <a:rPr b="1" lang="es-MX" sz="2400" spc="-1" strike="noStrike" u="sng">
                <a:solidFill>
                  <a:srgbClr val="003366"/>
                </a:solidFill>
                <a:uFillTx/>
                <a:latin typeface="Calibri"/>
                <a:ea typeface="Calibri"/>
              </a:rPr>
              <a:t>INTRODUCCIÓ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     </a:t>
            </a: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El problema de salud "suicidio" viene afectando a la humanidad de manera importante en las últimas décadas, las estadísticas oficiales y los centros de tratamiento médico muestran un aumento de las tasas, sobre todo en los ancianos y los jóvenes.</a:t>
            </a:r>
            <a:r>
              <a:rPr b="1" lang="es-MX" sz="2400" spc="-1" strike="noStrike" baseline="30000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    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     </a:t>
            </a: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El suicidio se considera como un importante problema de salud, un verdadero drama existencial del hombre, reconocido desde la antigüedad y recogido en la Biblia y otras obras literarias.</a:t>
            </a:r>
            <a:r>
              <a:rPr b="1" lang="es-MX" sz="2400" spc="-1" strike="noStrike" baseline="30000">
                <a:solidFill>
                  <a:srgbClr val="003366"/>
                </a:solidFill>
                <a:latin typeface="Calibri"/>
                <a:ea typeface="Calibri"/>
              </a:rPr>
              <a:t> [1]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13840" y="1285920"/>
            <a:ext cx="85726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    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El intento suicida es toda acción por la cual el individuo se causa lesión independientemente de la letalidad del método empleado y de la intención real.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2060"/>
                </a:solidFill>
                <a:latin typeface="Calibri"/>
                <a:ea typeface="Calibri"/>
              </a:rPr>
              <a:t>COMPORTAMIENTO MUNDIAL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8" name="4 Rectángulo redondeado"/>
          <p:cNvSpPr/>
          <p:nvPr/>
        </p:nvSpPr>
        <p:spPr>
          <a:xfrm>
            <a:off x="2571840" y="3786120"/>
            <a:ext cx="6189480" cy="857160"/>
          </a:xfrm>
          <a:prstGeom prst="roundRect">
            <a:avLst>
              <a:gd name="adj" fmla="val 16667"/>
            </a:avLst>
          </a:prstGeom>
          <a:solidFill>
            <a:srgbClr val="5cadff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En Europa Occidental, Francia y Finlandia registraron las tasas más elevadas del mun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5 Rectángulo redondeado"/>
          <p:cNvSpPr/>
          <p:nvPr/>
        </p:nvSpPr>
        <p:spPr>
          <a:xfrm>
            <a:off x="1643040" y="4786200"/>
            <a:ext cx="6286680" cy="857520"/>
          </a:xfrm>
          <a:prstGeom prst="roundRect">
            <a:avLst>
              <a:gd name="adj" fmla="val 16667"/>
            </a:avLst>
          </a:prstGeom>
          <a:solidFill>
            <a:srgbClr val="5cadff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No existen estadísticas sobre el tema en muchos países africanos y del sudeste asiátic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7 Rectángulo redondeado"/>
          <p:cNvSpPr/>
          <p:nvPr/>
        </p:nvSpPr>
        <p:spPr>
          <a:xfrm>
            <a:off x="571680" y="5786280"/>
            <a:ext cx="6715080" cy="785880"/>
          </a:xfrm>
          <a:prstGeom prst="roundRect">
            <a:avLst>
              <a:gd name="adj" fmla="val 16667"/>
            </a:avLst>
          </a:prstGeom>
          <a:solidFill>
            <a:srgbClr val="5cadff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  <a:ea typeface="Calibri"/>
              </a:rPr>
              <a:t>En las Américas aportó 12% de la mortalidad  por causas exter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31" name="Picture 40" descr="original_metal_w"/>
          <p:cNvPicPr/>
          <p:nvPr/>
        </p:nvPicPr>
        <p:blipFill>
          <a:blip r:embed="rId1"/>
          <a:stretch/>
        </p:blipFill>
        <p:spPr>
          <a:xfrm>
            <a:off x="6572160" y="2357280"/>
            <a:ext cx="21225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28760" y="157176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COMPORTAMIENTO DEL SUICIDIO EN CUBA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34" name="Picture 5" descr=""/>
          <p:cNvPicPr/>
          <p:nvPr/>
        </p:nvPicPr>
        <p:blipFill>
          <a:blip r:embed="rId1"/>
          <a:stretch/>
        </p:blipFill>
        <p:spPr>
          <a:xfrm>
            <a:off x="3357720" y="2428920"/>
            <a:ext cx="5238720" cy="1857240"/>
          </a:xfrm>
          <a:prstGeom prst="rect">
            <a:avLst/>
          </a:prstGeom>
          <a:ln w="0">
            <a:noFill/>
          </a:ln>
        </p:spPr>
      </p:pic>
      <p:sp>
        <p:nvSpPr>
          <p:cNvPr id="535" name="4 Rectángulo"/>
          <p:cNvSpPr/>
          <p:nvPr/>
        </p:nvSpPr>
        <p:spPr>
          <a:xfrm>
            <a:off x="428760" y="45720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A partir del año 1990 el suicidio ocupa en el país la sexta causa de mortalidad general y la segunda en edades entre 15 -19 añ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85840" y="135684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  <a:ea typeface="Calibri"/>
              </a:rPr>
              <a:t>PROBLEMA CIENTÍFICO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38" name="Picture 13" descr="j0301252"/>
          <p:cNvPicPr/>
          <p:nvPr/>
        </p:nvPicPr>
        <p:blipFill>
          <a:blip r:embed="rId1"/>
          <a:stretch/>
        </p:blipFill>
        <p:spPr>
          <a:xfrm>
            <a:off x="7313760" y="1357200"/>
            <a:ext cx="1830240" cy="15652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5"/>
          <p:cNvSpPr/>
          <p:nvPr/>
        </p:nvSpPr>
        <p:spPr>
          <a:xfrm>
            <a:off x="214200" y="18615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¿Cuáles son los principales factores de riesgo asociados a intento suicida en los adolescentes ingresados en la Unidad de Cuidados Intensivos Pediátrico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6 Rectángulo"/>
          <p:cNvSpPr/>
          <p:nvPr/>
        </p:nvSpPr>
        <p:spPr>
          <a:xfrm>
            <a:off x="357120" y="40006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Teniendo en cuenta que el intento suicida no sólo representa a escala mundial e incluso de país un serio problema de salud por su magnitud y trascendencia, sino también un grave enigma económico y social,  la presente investigación pretende identificar los factores de riesgo del intento suicida en la adolescencia debido a su elevada incidencia en este grupo de edad tan vulner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7 Rectángulo"/>
          <p:cNvSpPr/>
          <p:nvPr/>
        </p:nvSpPr>
        <p:spPr>
          <a:xfrm>
            <a:off x="2940840" y="35002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  <a:ea typeface="Calibri"/>
              </a:rPr>
              <a:t>JUSTIFICACIÓN DEL ESTUD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14200" y="1213920"/>
            <a:ext cx="8715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3366"/>
                </a:solidFill>
                <a:uFillTx/>
                <a:latin typeface="Calibri"/>
                <a:ea typeface="Calibri"/>
              </a:rPr>
              <a:t>OBJETIVOS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   </a:t>
            </a:r>
            <a:r>
              <a:rPr b="1" lang="es-MX" sz="2400" spc="-1" strike="noStrike" u="sng">
                <a:solidFill>
                  <a:srgbClr val="003366"/>
                </a:solidFill>
                <a:uFillTx/>
                <a:latin typeface="Calibri"/>
                <a:ea typeface="Calibri"/>
              </a:rPr>
              <a:t>GENERAL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es-MX" sz="2400" spc="-1" strike="noStrike">
                <a:solidFill>
                  <a:srgbClr val="002060"/>
                </a:solidFill>
                <a:latin typeface="Calibri"/>
                <a:ea typeface="Calibri"/>
              </a:rPr>
              <a:t>Identificar los factores de riesgo asociados a intento suicida en adolescentes ingresados en la Unidad de Cuidados Intensivos Pediátricos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    </a:t>
            </a:r>
            <a:r>
              <a:rPr b="1" lang="es-MX" sz="2400" spc="-1" strike="noStrike" u="sng">
                <a:solidFill>
                  <a:srgbClr val="003366"/>
                </a:solidFill>
                <a:uFillTx/>
                <a:latin typeface="Calibri"/>
                <a:ea typeface="Calibri"/>
              </a:rPr>
              <a:t>ESPECÍFICO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2060"/>
                </a:solidFill>
                <a:latin typeface="Calibri"/>
                <a:ea typeface="Calibri"/>
              </a:rPr>
              <a:t>Determinar la posible asociación entre los factores demográficos, biológicos, antecedentes familiares, socioambientales y conductas suicidas en el medio con la aparición del intento suicida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00040" y="121392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MÉTODO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6" name="3 Rectángulo"/>
          <p:cNvSpPr/>
          <p:nvPr/>
        </p:nvSpPr>
        <p:spPr>
          <a:xfrm>
            <a:off x="2871360" y="178596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ESTUDIO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 DE CASOS Y CONTROL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3214800" y="3857760"/>
            <a:ext cx="30718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Calibri"/>
                <a:ea typeface="Calibri"/>
              </a:rPr>
              <a:t>Muestra : 9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Oval 4"/>
          <p:cNvSpPr/>
          <p:nvPr/>
        </p:nvSpPr>
        <p:spPr>
          <a:xfrm>
            <a:off x="1214280" y="4786200"/>
            <a:ext cx="2376720" cy="6494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Oval 5"/>
          <p:cNvSpPr/>
          <p:nvPr/>
        </p:nvSpPr>
        <p:spPr>
          <a:xfrm>
            <a:off x="5857920" y="4714920"/>
            <a:ext cx="2376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0" name="Arc 15" descr=""/>
          <p:cNvPicPr/>
          <p:nvPr/>
        </p:nvPicPr>
        <p:blipFill>
          <a:blip r:embed="rId1"/>
          <a:stretch/>
        </p:blipFill>
        <p:spPr>
          <a:xfrm>
            <a:off x="2762280" y="5095800"/>
            <a:ext cx="2936880" cy="1785960"/>
          </a:xfrm>
          <a:prstGeom prst="rect">
            <a:avLst/>
          </a:prstGeom>
          <a:ln w="0">
            <a:noFill/>
          </a:ln>
        </p:spPr>
      </p:pic>
      <p:sp>
        <p:nvSpPr>
          <p:cNvPr id="551" name="9 Rectángulo"/>
          <p:cNvSpPr/>
          <p:nvPr/>
        </p:nvSpPr>
        <p:spPr>
          <a:xfrm>
            <a:off x="6861240" y="55720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6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1785960" y="5500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3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1428840" y="49291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6000840" y="48578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RO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214200" y="243324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Unidad de Cuidados Intensivos del Hospital Provincial Pediátrico Docente “General Milanés”. Bayamo. Granm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Período: 1</a:t>
            </a:r>
            <a:r>
              <a:rPr b="1" lang="es-ES" sz="2400" spc="-1" strike="noStrike" baseline="30000">
                <a:solidFill>
                  <a:srgbClr val="003366"/>
                </a:solidFill>
                <a:latin typeface="Calibri"/>
                <a:ea typeface="Calibri"/>
              </a:rPr>
              <a:t>ro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enero 2018 al 31 diciembre 2019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28400" y="1213920"/>
            <a:ext cx="83581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   </a:t>
            </a:r>
            <a:r>
              <a:rPr b="1" lang="es-ES" sz="2400" spc="-1" strike="noStrike" u="sng">
                <a:solidFill>
                  <a:srgbClr val="003366"/>
                </a:solidFill>
                <a:uFillTx/>
                <a:latin typeface="Calibri"/>
                <a:ea typeface="Calibri"/>
              </a:rPr>
              <a:t>CRITERIOS DE INCLUSIÓ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Adolescentes con el diagnóstico de intento suicida ingresados en la Unidad de Cuidados Intensivos del hospital donde se llevó a cabo el estudio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Voluntariedad para participar por parte de los tutores y de los propios pacientes cuando su estado de salud lo permitió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25800" indent="-3258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    </a:t>
            </a:r>
            <a:r>
              <a:rPr b="1" lang="es-MX" sz="2400" spc="-1" strike="noStrike" u="sng">
                <a:solidFill>
                  <a:srgbClr val="003366"/>
                </a:solidFill>
                <a:uFillTx/>
                <a:latin typeface="Calibri"/>
                <a:ea typeface="Calibri"/>
              </a:rPr>
              <a:t>CRITERIOS DE EXCLUSIÓ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Adolescentes que ellos o sus tutores no dieron el consentimiento para participar en la investigación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14200" y="1499760"/>
            <a:ext cx="842976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Demográficas (edad y sexo)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Biológicas (antecedentes patológicos personales (APP) de sintomatología psiquiátrica y enfermedades discapacitantes)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Antecedentes familiares (antecedentes patológicos familiares (APF) de trastornos o sintomatología psiquiátrica y enfermedades discapacitantes)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Socioambientales (conflictos familiares, con la pareja y rechazo escolar).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alibri"/>
                <a:ea typeface="Calibri"/>
              </a:rPr>
              <a:t>Conductas suicidas en el medio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0" name="3 Rectángulo"/>
          <p:cNvSpPr/>
          <p:nvPr/>
        </p:nvSpPr>
        <p:spPr>
          <a:xfrm>
            <a:off x="2143080" y="1214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  <a:ea typeface="Calibri"/>
              </a:rPr>
              <a:t>VARIABLES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Usuario de Windows</cp:lastModifiedBy>
  <dcterms:modified xsi:type="dcterms:W3CDTF">2020-11-15T22:14:40Z</dcterms:modified>
  <cp:revision>139</cp:revision>
  <dc:subject/>
  <dc:title>PowerPoint Template</dc:title>
</cp:coreProperties>
</file>