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A49CAC-E001-4E7D-BE05-EA2F172482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1C30CD-7C08-4D64-9CBC-C767A3545F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68C7F7-82C7-43FF-A0B0-346B414D75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D57F20-BA1D-47B5-8622-1C1EC5C1A7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7A39B3-06FD-4892-8369-3369C86524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BAF1F5-4704-4F1D-B864-405C927344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2AB028-CB5B-42C4-95D6-C93525F8EF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FF14B0-22E4-4237-BA24-B527DF5685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A3D269-2596-48A0-B166-5691084E8C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1975E3-99D3-4A67-BDAB-9150C2F2EF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0CBE82-3407-47E6-8A60-8402A44223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AF745E-105C-46B1-8372-8EF3B84C6F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86A97F-7B88-44A7-8808-923381837C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B89AA7-CC75-4562-A413-452A296D66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498E67-FAB3-49B0-B3A6-0355EEE0D6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E15432-88FD-42C6-8098-DA4261DBB8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D4F058-52F1-4BF7-852F-DF6C3110D6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EE8266-F0C6-4A66-9309-464CF3769C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27C1D0-CD43-4001-8E52-796EB2E9EA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45ABDD-F037-4EE5-86A5-1CAC6AA758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2A7884-8825-47EB-BD32-1A25AAB368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F35C7C-2CB6-492F-991A-83941CFFE5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02751A-02EC-4962-AA13-592C274CAA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B9D022-025A-4833-82AD-C4AD3A2DBE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FEE0C8-7C89-48A7-AAF4-2FB2720875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99610D-E881-4006-9955-4D6E10A28A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AF5E8D-5F63-49E4-A4A1-0FB7E8EA6A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5A0DE1-62E3-4EBD-B2D9-D19ECC8FC2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4FAEF4-FEFE-4B4E-B807-4747A0B7FD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E550AC-3B35-45EE-9087-9A1183FACD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89E344-A4C8-47D3-93FE-392A2E5F4F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79C9AE-5B8B-4497-9DD9-236627DE40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76C3D8-888B-49C1-B97A-AE39EE0E8C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81C212-3396-4A94-829C-2B1282075C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0E30DA-0DB3-4C75-B8E6-5642B57B5E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D29395-B39E-45A1-A738-EA6A95A9D5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49E2EA-824D-413F-95A6-BFE376B25E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55CBCF-FC35-47F9-AE98-1F3757D787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1991AE-180E-4E0B-88BC-CA01A5429A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D2A58B-4C49-4F9A-9D84-B0F9FB7013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3348BB-311A-49B4-8A95-4A31A5BEE2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0BCB47-F52D-4EC3-9672-838DC81DFB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2B64FB-A989-4713-BE7E-53921D395E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6ECABB-FEF3-4EA0-84F9-84E13A1064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2FFFBE-99E5-4168-B69E-DC73B6417F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E1B04-3CF0-45F4-A35B-88AC8CB29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1E2A0-1FC0-429C-9F6E-4C74A7067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30C71-7698-45D0-96E3-AE12D359C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3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CBEF8-242C-446A-96AC-B7D4E2E9B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14558-6F68-4220-AC5A-EBE1814F9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2258E-0DA6-476C-B1FD-23C8C73F5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FEED8-0E11-4DCD-882B-7171481E7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A7D61-CE17-422E-81BA-E017E9F8A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7B4EE-34F8-403E-8C97-4A1166C37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D56B3-A165-4B48-AEEB-8F7CBC2B3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54A4C-C11C-491E-9E01-349B6D773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9F64E-D839-4C12-8752-FD0569D3D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1E623-2266-4073-B480-0AF33B68D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07A4B-DB6B-4986-B7DD-4013FD78C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C9D75-5B01-4215-A9F7-4E7C324D0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50AEB-9EC3-4C8C-A9D7-EFAA1C191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B7670-7F9C-4A51-A437-4E3A253BE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B043F-A18B-4327-ABED-0191CE275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6E835-DC99-4C37-8A05-FB1AD9F19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B1A63-35A4-4434-83EC-7FCBFC22C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23D52-C294-4446-8857-B8D1A9245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2F162-0BDE-453B-ACE3-0AAAB9A95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023315-668D-4810-BF2B-800629BA3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CDFF8-93B1-4B58-9044-73997BA8F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A517B3-C998-4C63-8DE7-92FE6B7852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9C5CB7-58BB-4F49-B622-91E583EBC9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CF3937-CDCB-4ADF-98DE-BE52781C2D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B56781-D8C7-4B85-8A93-CEDDEBA8DA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11BDDD-2E7A-4545-855C-314FC88CC8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37ADDD-D049-4C28-B330-9CD4A2C16A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ACB179-D990-469C-9099-F7049F5368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DB2DF6-6B4D-4E1A-8B65-2EDF425860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3F3BBB-5B9A-4A94-B3E9-E0948C181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5BB6EE-BC0C-4A03-B442-F913054D68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8449C3-37B8-4616-9E8A-DAB1E0F386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201ACF-E34D-4666-8A1D-08BC1ECC02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C2B5FA-AA9F-4533-9365-5D2590ADED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64F9A4-68C1-4582-B146-E5385036BB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F847ED-C8ED-42A5-83D8-4D7E7C19A0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D69808-1B0D-494D-A061-BADB5AFC58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49ECFF-4581-48FA-B277-676D37F65F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12B2D0-A9F6-49EB-932C-7F9208A2AB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B90C3D-C881-49EB-B7EF-FF30E6E2EC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3B5977-AE13-4942-AB55-D986408E4D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E69C36-4A52-4D1E-B857-B62E1A503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E3259A-BB79-4FC8-9D95-09A8B6555C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9FA1A6-9E39-45A1-862A-47D9D2319A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ED0B2B-0BE5-494D-8219-7757361D28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227F97-6E2D-4A98-B163-211D83C654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532754-C418-4902-B994-DCEBDA9E0E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207CEE-B890-4521-95C2-0C643FDECD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4F1B93-25CE-4DC7-836C-1D2784F583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FAD8FB-B6AE-4A97-AE69-A8C0827D84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F74BE1-E1DA-4B62-9646-9D2B93AC13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1E62F9-733F-458C-BEE6-B4FB4B4B64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70A60B-4A3B-4FCA-8368-D99E88D446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6744F5-FFC6-4673-8F1A-9F63F9192A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CC7222-DBCC-477C-BF4B-A6EA80DBFC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5B06CA-86EB-4901-AAA0-1DA6512B2E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16B51C-BF06-45A5-AF51-4331A9DFB2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449CAD-7E05-4178-8318-843AB057DE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3A11AB-ECEA-4882-87B3-5A9E97E0FC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D2A17F-D053-493C-A494-9544C63C8122}"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4" name="Picture 2" descr="foto hospital"/>
          <p:cNvPicPr/>
          <p:nvPr/>
        </p:nvPicPr>
        <p:blipFill>
          <a:blip r:embed="rId2"/>
          <a:stretch/>
        </p:blipFill>
        <p:spPr>
          <a:xfrm>
            <a:off x="8070840" y="0"/>
            <a:ext cx="90792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90" name="Picture 2" descr="foto hospital"/>
          <p:cNvPicPr/>
          <p:nvPr/>
        </p:nvPicPr>
        <p:blipFill>
          <a:blip r:embed="rId2"/>
          <a:stretch/>
        </p:blipFill>
        <p:spPr>
          <a:xfrm>
            <a:off x="8070840" y="0"/>
            <a:ext cx="907920" cy="1359000"/>
          </a:xfrm>
          <a:prstGeom prst="rect">
            <a:avLst/>
          </a:prstGeom>
          <a:ln w="0">
            <a:noFill/>
          </a:ln>
        </p:spPr>
      </p:pic>
      <p:sp>
        <p:nvSpPr>
          <p:cNvPr id="39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9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93" name="PlaceHolder 3"/>
          <p:cNvSpPr>
            <a:spLocks noGrp="1"/>
          </p:cNvSpPr>
          <p:nvPr>
            <p:ph type="dt" idx="19"/>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94" name="PlaceHolder 4"/>
          <p:cNvSpPr>
            <a:spLocks noGrp="1"/>
          </p:cNvSpPr>
          <p:nvPr>
            <p:ph type="ftr" idx="20"/>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95" name="PlaceHolder 5"/>
          <p:cNvSpPr>
            <a:spLocks noGrp="1"/>
          </p:cNvSpPr>
          <p:nvPr>
            <p:ph type="sldNum" idx="21"/>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794C-7157-4E38-9B15-D6F285AF660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4" name="Picture 2" descr="foto hospital"/>
          <p:cNvPicPr/>
          <p:nvPr/>
        </p:nvPicPr>
        <p:blipFill>
          <a:blip r:embed="rId2"/>
          <a:stretch/>
        </p:blipFill>
        <p:spPr>
          <a:xfrm>
            <a:off x="8070840" y="0"/>
            <a:ext cx="907920" cy="1359000"/>
          </a:xfrm>
          <a:prstGeom prst="rect">
            <a:avLst/>
          </a:prstGeom>
          <a:ln w="0">
            <a:noFill/>
          </a:ln>
        </p:spPr>
      </p:pic>
      <p:sp>
        <p:nvSpPr>
          <p:cNvPr id="43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3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37" name="PlaceHolder 3"/>
          <p:cNvSpPr>
            <a:spLocks noGrp="1"/>
          </p:cNvSpPr>
          <p:nvPr>
            <p:ph type="dt" idx="22"/>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438" name="PlaceHolder 4"/>
          <p:cNvSpPr>
            <a:spLocks noGrp="1"/>
          </p:cNvSpPr>
          <p:nvPr>
            <p:ph type="ftr" idx="23"/>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439" name="PlaceHolder 5"/>
          <p:cNvSpPr>
            <a:spLocks noGrp="1"/>
          </p:cNvSpPr>
          <p:nvPr>
            <p:ph type="sldNum" idx="24"/>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8CAC-2679-4A1D-AFBA-9F9F59E198C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8" name="Picture 2" descr="foto hospital"/>
          <p:cNvPicPr/>
          <p:nvPr/>
        </p:nvPicPr>
        <p:blipFill>
          <a:blip r:embed="rId2"/>
          <a:stretch/>
        </p:blipFill>
        <p:spPr>
          <a:xfrm>
            <a:off x="8070840" y="0"/>
            <a:ext cx="907920" cy="1359000"/>
          </a:xfrm>
          <a:prstGeom prst="rect">
            <a:avLst/>
          </a:prstGeom>
          <a:ln w="0">
            <a:noFill/>
          </a:ln>
        </p:spPr>
      </p:pic>
      <p:sp>
        <p:nvSpPr>
          <p:cNvPr id="47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8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81" name="PlaceHolder 3"/>
          <p:cNvSpPr>
            <a:spLocks noGrp="1"/>
          </p:cNvSpPr>
          <p:nvPr>
            <p:ph type="dt" idx="25"/>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ww.themegallery.com</a:t>
            </a:r>
            <a:endParaRPr b="0" lang="en-US" sz="2400" spc="-1" strike="noStrike">
              <a:solidFill>
                <a:srgbClr val="000000"/>
              </a:solidFill>
              <a:latin typeface="Times New Roman"/>
            </a:endParaRPr>
          </a:p>
        </p:txBody>
      </p:sp>
      <p:sp>
        <p:nvSpPr>
          <p:cNvPr id="482" name="PlaceHolder 4"/>
          <p:cNvSpPr>
            <a:spLocks noGrp="1"/>
          </p:cNvSpPr>
          <p:nvPr>
            <p:ph type="ftr" idx="26"/>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pany Logo</a:t>
            </a:r>
            <a:endParaRPr b="0" lang="en-US" sz="2400" spc="-1" strike="noStrike">
              <a:solidFill>
                <a:srgbClr val="000000"/>
              </a:solidFill>
              <a:latin typeface="Times New Roman"/>
            </a:endParaRPr>
          </a:p>
        </p:txBody>
      </p:sp>
      <p:sp>
        <p:nvSpPr>
          <p:cNvPr id="483" name="PlaceHolder 5"/>
          <p:cNvSpPr>
            <a:spLocks noGrp="1"/>
          </p:cNvSpPr>
          <p:nvPr>
            <p:ph type="sldNum" idx="27"/>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B7C1-8FEF-4214-997C-1076DD08305F}" type="slidenum">
              <a:rPr b="0" lang="en-US" sz="2400" spc="-1" strike="noStrike">
                <a:solidFill>
                  <a:srgbClr val="0033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a9dc"/>
            </a:gs>
            <a:gs pos="100000">
              <a:srgbClr val="dfe5f3"/>
            </a:gs>
          </a:gsLst>
          <a:lin ang="5400000"/>
        </a:gradFill>
      </p:bgPr>
    </p:bg>
    <p:spTree>
      <p:nvGrpSpPr>
        <p:cNvPr id="1" name=""/>
        <p:cNvGrpSpPr/>
        <p:nvPr/>
      </p:nvGrpSpPr>
      <p:grpSpPr>
        <a:xfrm>
          <a:off x="0" y="0"/>
          <a:ext cx="0" cy="0"/>
          <a:chOff x="0" y="0"/>
          <a:chExt cx="0" cy="0"/>
        </a:xfrm>
      </p:grpSpPr>
      <p:pic>
        <p:nvPicPr>
          <p:cNvPr id="41" name="Picture 2" descr="foto hospital"/>
          <p:cNvPicPr/>
          <p:nvPr/>
        </p:nvPicPr>
        <p:blipFill>
          <a:blip r:embed="rId2"/>
          <a:stretch/>
        </p:blipFill>
        <p:spPr>
          <a:xfrm>
            <a:off x="5102280" y="165240"/>
            <a:ext cx="3627360" cy="6199200"/>
          </a:xfrm>
          <a:prstGeom prst="rect">
            <a:avLst/>
          </a:prstGeom>
          <a:ln w="0">
            <a:noFill/>
          </a:ln>
        </p:spPr>
      </p:pic>
      <p:sp>
        <p:nvSpPr>
          <p:cNvPr id="42" name="Rectangle 17"/>
          <p:cNvSpPr/>
          <p:nvPr/>
        </p:nvSpPr>
        <p:spPr>
          <a:xfrm>
            <a:off x="0" y="2971800"/>
            <a:ext cx="9144000" cy="9144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 name="Rectangle 18"/>
          <p:cNvSpPr/>
          <p:nvPr/>
        </p:nvSpPr>
        <p:spPr>
          <a:xfrm>
            <a:off x="0" y="2895480"/>
            <a:ext cx="8229600" cy="9144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5"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4" name="Picture 2" descr="foto hospital"/>
          <p:cNvPicPr/>
          <p:nvPr/>
        </p:nvPicPr>
        <p:blipFill>
          <a:blip r:embed="rId2"/>
          <a:stretch/>
        </p:blipFill>
        <p:spPr>
          <a:xfrm>
            <a:off x="8070840" y="0"/>
            <a:ext cx="907920" cy="1359000"/>
          </a:xfrm>
          <a:prstGeom prst="rect">
            <a:avLst/>
          </a:prstGeom>
          <a:ln w="0">
            <a:noFill/>
          </a:ln>
        </p:spPr>
      </p:pic>
      <p:pic>
        <p:nvPicPr>
          <p:cNvPr id="85" name="Picture 2" descr="foto hospital"/>
          <p:cNvPicPr/>
          <p:nvPr/>
        </p:nvPicPr>
        <p:blipFill>
          <a:blip r:embed="rId3"/>
          <a:stretch/>
        </p:blipFill>
        <p:spPr>
          <a:xfrm>
            <a:off x="8070840" y="0"/>
            <a:ext cx="907920" cy="1359000"/>
          </a:xfrm>
          <a:prstGeom prst="rect">
            <a:avLst/>
          </a:prstGeom>
          <a:ln w="0">
            <a:noFill/>
          </a:ln>
        </p:spPr>
      </p:pic>
      <p:sp>
        <p:nvSpPr>
          <p:cNvPr id="86"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7"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Picture 2" descr="foto hospital"/>
          <p:cNvPicPr/>
          <p:nvPr/>
        </p:nvPicPr>
        <p:blipFill>
          <a:blip r:embed="rId2"/>
          <a:stretch/>
        </p:blipFill>
        <p:spPr>
          <a:xfrm>
            <a:off x="8070840" y="0"/>
            <a:ext cx="907920" cy="1359000"/>
          </a:xfrm>
          <a:prstGeom prst="rect">
            <a:avLst/>
          </a:prstGeom>
          <a:ln w="0">
            <a:noFill/>
          </a:ln>
        </p:spPr>
      </p:pic>
      <p:sp>
        <p:nvSpPr>
          <p:cNvPr id="12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2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29" name="PlaceHolder 3"/>
          <p:cNvSpPr>
            <a:spLocks noGrp="1"/>
          </p:cNvSpPr>
          <p:nvPr>
            <p:ph type="dt" idx="1"/>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30" name="PlaceHolder 4"/>
          <p:cNvSpPr>
            <a:spLocks noGrp="1"/>
          </p:cNvSpPr>
          <p:nvPr>
            <p:ph type="ftr" idx="2"/>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31" name="PlaceHolder 5"/>
          <p:cNvSpPr>
            <a:spLocks noGrp="1"/>
          </p:cNvSpPr>
          <p:nvPr>
            <p:ph type="sldNum" idx="3"/>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901E-665B-42EA-8614-F373E0F5116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0" name="Picture 2" descr="foto hospital"/>
          <p:cNvPicPr/>
          <p:nvPr/>
        </p:nvPicPr>
        <p:blipFill>
          <a:blip r:embed="rId2"/>
          <a:stretch/>
        </p:blipFill>
        <p:spPr>
          <a:xfrm>
            <a:off x="8070840" y="0"/>
            <a:ext cx="907920" cy="1359000"/>
          </a:xfrm>
          <a:prstGeom prst="rect">
            <a:avLst/>
          </a:prstGeom>
          <a:ln w="0">
            <a:noFill/>
          </a:ln>
        </p:spPr>
      </p:pic>
      <p:sp>
        <p:nvSpPr>
          <p:cNvPr id="17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7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73" name="PlaceHolder 3"/>
          <p:cNvSpPr>
            <a:spLocks noGrp="1"/>
          </p:cNvSpPr>
          <p:nvPr>
            <p:ph type="dt" idx="4"/>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74" name="PlaceHolder 4"/>
          <p:cNvSpPr>
            <a:spLocks noGrp="1"/>
          </p:cNvSpPr>
          <p:nvPr>
            <p:ph type="ftr" idx="5"/>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75" name="PlaceHolder 5"/>
          <p:cNvSpPr>
            <a:spLocks noGrp="1"/>
          </p:cNvSpPr>
          <p:nvPr>
            <p:ph type="sldNum" idx="6"/>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9B0CD-BFA0-4527-A985-489263FA392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4" name="Picture 2" descr="foto hospital"/>
          <p:cNvPicPr/>
          <p:nvPr/>
        </p:nvPicPr>
        <p:blipFill>
          <a:blip r:embed="rId2"/>
          <a:stretch/>
        </p:blipFill>
        <p:spPr>
          <a:xfrm>
            <a:off x="8070840" y="0"/>
            <a:ext cx="907920" cy="1359000"/>
          </a:xfrm>
          <a:prstGeom prst="rect">
            <a:avLst/>
          </a:prstGeom>
          <a:ln w="0">
            <a:noFill/>
          </a:ln>
        </p:spPr>
      </p:pic>
      <p:sp>
        <p:nvSpPr>
          <p:cNvPr id="21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1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7" name="PlaceHolder 3"/>
          <p:cNvSpPr>
            <a:spLocks noGrp="1"/>
          </p:cNvSpPr>
          <p:nvPr>
            <p:ph type="dt" idx="7"/>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18" name="PlaceHolder 4"/>
          <p:cNvSpPr>
            <a:spLocks noGrp="1"/>
          </p:cNvSpPr>
          <p:nvPr>
            <p:ph type="ftr" idx="8"/>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19" name="PlaceHolder 5"/>
          <p:cNvSpPr>
            <a:spLocks noGrp="1"/>
          </p:cNvSpPr>
          <p:nvPr>
            <p:ph type="sldNum" idx="9"/>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0C6F-EF57-4642-A8EB-3676E33216D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58" name="Picture 2" descr="foto hospital"/>
          <p:cNvPicPr/>
          <p:nvPr/>
        </p:nvPicPr>
        <p:blipFill>
          <a:blip r:embed="rId2"/>
          <a:stretch/>
        </p:blipFill>
        <p:spPr>
          <a:xfrm>
            <a:off x="8070840" y="0"/>
            <a:ext cx="907920" cy="1359000"/>
          </a:xfrm>
          <a:prstGeom prst="rect">
            <a:avLst/>
          </a:prstGeom>
          <a:ln w="0">
            <a:noFill/>
          </a:ln>
        </p:spPr>
      </p:pic>
      <p:sp>
        <p:nvSpPr>
          <p:cNvPr id="25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6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1" name="PlaceHolder 3"/>
          <p:cNvSpPr>
            <a:spLocks noGrp="1"/>
          </p:cNvSpPr>
          <p:nvPr>
            <p:ph type="dt" idx="10"/>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62" name="PlaceHolder 4"/>
          <p:cNvSpPr>
            <a:spLocks noGrp="1"/>
          </p:cNvSpPr>
          <p:nvPr>
            <p:ph type="ftr" idx="11"/>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63" name="PlaceHolder 5"/>
          <p:cNvSpPr>
            <a:spLocks noGrp="1"/>
          </p:cNvSpPr>
          <p:nvPr>
            <p:ph type="sldNum" idx="12"/>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B340-ABB8-48F9-BAD3-BFD1217717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02" name="Picture 2" descr="foto hospital"/>
          <p:cNvPicPr/>
          <p:nvPr/>
        </p:nvPicPr>
        <p:blipFill>
          <a:blip r:embed="rId2"/>
          <a:stretch/>
        </p:blipFill>
        <p:spPr>
          <a:xfrm>
            <a:off x="8070840" y="0"/>
            <a:ext cx="907920" cy="1359000"/>
          </a:xfrm>
          <a:prstGeom prst="rect">
            <a:avLst/>
          </a:prstGeom>
          <a:ln w="0">
            <a:noFill/>
          </a:ln>
        </p:spPr>
      </p:pic>
      <p:sp>
        <p:nvSpPr>
          <p:cNvPr id="303"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04"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05" name="PlaceHolder 3"/>
          <p:cNvSpPr>
            <a:spLocks noGrp="1"/>
          </p:cNvSpPr>
          <p:nvPr>
            <p:ph type="dt" idx="13"/>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06" name="PlaceHolder 4"/>
          <p:cNvSpPr>
            <a:spLocks noGrp="1"/>
          </p:cNvSpPr>
          <p:nvPr>
            <p:ph type="ftr" idx="14"/>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07" name="PlaceHolder 5"/>
          <p:cNvSpPr>
            <a:spLocks noGrp="1"/>
          </p:cNvSpPr>
          <p:nvPr>
            <p:ph type="sldNum" idx="15"/>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4C15-0AF5-4F22-89B6-84C49C66DD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46" name="Picture 2" descr="foto hospital"/>
          <p:cNvPicPr/>
          <p:nvPr/>
        </p:nvPicPr>
        <p:blipFill>
          <a:blip r:embed="rId2"/>
          <a:stretch/>
        </p:blipFill>
        <p:spPr>
          <a:xfrm>
            <a:off x="8070840" y="0"/>
            <a:ext cx="907920" cy="1359000"/>
          </a:xfrm>
          <a:prstGeom prst="rect">
            <a:avLst/>
          </a:prstGeom>
          <a:ln w="0">
            <a:noFill/>
          </a:ln>
        </p:spPr>
      </p:pic>
      <p:sp>
        <p:nvSpPr>
          <p:cNvPr id="34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4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49" name="PlaceHolder 3"/>
          <p:cNvSpPr>
            <a:spLocks noGrp="1"/>
          </p:cNvSpPr>
          <p:nvPr>
            <p:ph type="dt" idx="16"/>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50" name="PlaceHolder 4"/>
          <p:cNvSpPr>
            <a:spLocks noGrp="1"/>
          </p:cNvSpPr>
          <p:nvPr>
            <p:ph type="ftr" idx="17"/>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51" name="PlaceHolder 5"/>
          <p:cNvSpPr>
            <a:spLocks noGrp="1"/>
          </p:cNvSpPr>
          <p:nvPr>
            <p:ph type="sldNum" idx="18"/>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4762F-A055-4812-82D6-257F39C2238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d6ff"/>
            </a:gs>
            <a:gs pos="100000">
              <a:srgbClr val="becae7"/>
            </a:gs>
          </a:gsLst>
          <a:lin ang="27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50920" y="3068280"/>
            <a:ext cx="842472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br>
              <a:rPr sz="3200"/>
            </a:br>
            <a:r>
              <a:rPr b="1" i="1" lang="en-US" sz="3200" spc="-1" strike="noStrike">
                <a:solidFill>
                  <a:srgbClr val="ffffff"/>
                </a:solidFill>
                <a:latin typeface="Calibri"/>
                <a:ea typeface="Calibri"/>
              </a:rPr>
              <a:t> </a:t>
            </a:r>
            <a:endParaRPr b="1" lang="en-US" sz="3200" spc="-1" strike="noStrike">
              <a:solidFill>
                <a:srgbClr val="ffffff"/>
              </a:solidFill>
              <a:latin typeface="Verdana"/>
            </a:endParaRPr>
          </a:p>
        </p:txBody>
      </p:sp>
      <p:sp>
        <p:nvSpPr>
          <p:cNvPr id="521" name="PlaceHolder 2"/>
          <p:cNvSpPr>
            <a:spLocks noGrp="1"/>
          </p:cNvSpPr>
          <p:nvPr>
            <p:ph type="subTitle"/>
          </p:nvPr>
        </p:nvSpPr>
        <p:spPr>
          <a:xfrm>
            <a:off x="394920" y="4220640"/>
            <a:ext cx="5891400" cy="2351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ea typeface="Calibri"/>
              </a:rPr>
              <a:t>Autores: Dra. Mariam González Gorrín.</a:t>
            </a: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2000" spc="-1" strike="noStrike">
                <a:solidFill>
                  <a:srgbClr val="003366"/>
                </a:solidFill>
                <a:latin typeface="Calibri"/>
                <a:ea typeface="Calibri"/>
              </a:rPr>
              <a:t>Dr. Carlos Ramos Emperador.</a:t>
            </a: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ea typeface="Calibri"/>
              </a:rPr>
              <a:t>                </a:t>
            </a:r>
            <a:r>
              <a:rPr b="1" i="1" lang="en-US" sz="2000" spc="-1" strike="noStrike">
                <a:solidFill>
                  <a:srgbClr val="003366"/>
                </a:solidFill>
                <a:latin typeface="Calibri"/>
                <a:ea typeface="Calibri"/>
              </a:rPr>
              <a:t>Dr. Daniel Silva Brito.</a:t>
            </a: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Servicio de Cardiología. </a:t>
            </a: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La Habana, 2020</a:t>
            </a:r>
            <a:endParaRPr b="1" lang="en-US" sz="1600" spc="-1" strike="noStrike">
              <a:solidFill>
                <a:srgbClr val="003366"/>
              </a:solidFill>
              <a:latin typeface="Verdana"/>
            </a:endParaRPr>
          </a:p>
        </p:txBody>
      </p:sp>
      <p:pic>
        <p:nvPicPr>
          <p:cNvPr id="522" name="Picture 34" descr=""/>
          <p:cNvPicPr/>
          <p:nvPr/>
        </p:nvPicPr>
        <p:blipFill>
          <a:blip r:embed="rId1"/>
          <a:stretch/>
        </p:blipFill>
        <p:spPr>
          <a:xfrm>
            <a:off x="0" y="0"/>
            <a:ext cx="2593800" cy="1512720"/>
          </a:xfrm>
          <a:prstGeom prst="rect">
            <a:avLst/>
          </a:prstGeom>
          <a:ln w="0">
            <a:noFill/>
          </a:ln>
        </p:spPr>
      </p:pic>
      <p:sp>
        <p:nvSpPr>
          <p:cNvPr id="523" name="Rectángulo 1"/>
          <p:cNvSpPr/>
          <p:nvPr/>
        </p:nvSpPr>
        <p:spPr>
          <a:xfrm>
            <a:off x="-34920" y="1512720"/>
            <a:ext cx="5257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Calibri"/>
                <a:ea typeface="Tahoma"/>
              </a:rPr>
              <a:t>Caracterización clínico-epidemiológica de la endocarditis infecciosa según tratamiento recibido.</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graphicFrame>
        <p:nvGraphicFramePr>
          <p:cNvPr id="555" name=""/>
          <p:cNvGraphicFramePr/>
          <p:nvPr/>
        </p:nvGraphicFramePr>
        <p:xfrm>
          <a:off x="241200" y="1916280"/>
          <a:ext cx="8585280" cy="4425840"/>
        </p:xfrm>
        <a:graphic>
          <a:graphicData uri="http://schemas.openxmlformats.org/drawingml/2006/table">
            <a:tbl>
              <a:tblPr/>
              <a:tblGrid>
                <a:gridCol w="2502000"/>
                <a:gridCol w="974880"/>
                <a:gridCol w="1161720"/>
                <a:gridCol w="1163880"/>
                <a:gridCol w="1155600"/>
                <a:gridCol w="814320"/>
                <a:gridCol w="812880"/>
              </a:tblGrid>
              <a:tr h="812520">
                <a:tc rowSpan="2">
                  <a:txBody>
                    <a:bodyPr lIns="68400" rIns="6840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Complicaciones</a:t>
                      </a:r>
                      <a:endParaRPr b="0" lang="en-US" sz="14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gridSpan="2">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Tratamiento médico</a:t>
                      </a:r>
                      <a:endParaRPr b="0" lang="en-US" sz="14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9360">
                      <a:solidFill>
                        <a:srgbClr val="9cc2e5"/>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Tratamiento médico-quirúrgico</a:t>
                      </a:r>
                      <a:endParaRPr b="0" lang="en-US" sz="14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9360">
                      <a:solidFill>
                        <a:srgbClr val="9cc2e5"/>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Total</a:t>
                      </a:r>
                      <a:endParaRPr b="0" lang="en-US" sz="14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9360">
                      <a:solidFill>
                        <a:srgbClr val="9cc2e5"/>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654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No.</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9360">
                      <a:solidFill>
                        <a:srgbClr val="9cc2e5"/>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9360">
                      <a:solidFill>
                        <a:srgbClr val="9cc2e5"/>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No.</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9360">
                      <a:solidFill>
                        <a:srgbClr val="9cc2e5"/>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9360">
                      <a:solidFill>
                        <a:srgbClr val="9cc2e5"/>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No.</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9360">
                      <a:solidFill>
                        <a:srgbClr val="9cc2e5"/>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9360">
                      <a:solidFill>
                        <a:srgbClr val="9cc2e5"/>
                      </a:solidFill>
                    </a:lnT>
                    <a:lnB w="5760">
                      <a:solidFill>
                        <a:srgbClr val="bdd6ee"/>
                      </a:solidFill>
                    </a:lnB>
                    <a:noFill/>
                  </a:tcPr>
                </a:tc>
              </a:tr>
              <a:tr h="40608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Insuficiencia cardiaca</a:t>
                      </a:r>
                      <a:endParaRPr b="0" lang="en-US" sz="1600" spc="-1" strike="noStrike">
                        <a:solidFill>
                          <a:srgbClr val="003366"/>
                        </a:solidFill>
                        <a:latin typeface="Arial"/>
                      </a:endParaRPr>
                    </a:p>
                  </a:txBody>
                  <a:tcPr anchor="t"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7</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8,3</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27</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25,5</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44</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22,1</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r>
              <a:tr h="405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Infección no controlada</a:t>
                      </a:r>
                      <a:endParaRPr b="0" lang="en-US" sz="1600" spc="-1" strike="noStrike">
                        <a:solidFill>
                          <a:srgbClr val="003366"/>
                        </a:solidFill>
                        <a:latin typeface="Arial"/>
                      </a:endParaRPr>
                    </a:p>
                  </a:txBody>
                  <a:tcPr anchor="t"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6</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7,2</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32</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30,2</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48</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24,1</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r>
              <a:tr h="40644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Embolismos sistémicos</a:t>
                      </a:r>
                      <a:endParaRPr b="0" lang="en-US" sz="1600" spc="-1" strike="noStrike">
                        <a:solidFill>
                          <a:srgbClr val="003366"/>
                        </a:solidFill>
                        <a:latin typeface="Arial"/>
                      </a:endParaRPr>
                    </a:p>
                  </a:txBody>
                  <a:tcPr anchor="t"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8</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9,4</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8</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7,0</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36</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18,1</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r>
              <a:tr h="81288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Complicaciones neurológicas</a:t>
                      </a:r>
                      <a:endParaRPr b="0" lang="en-US" sz="1600" spc="-1" strike="noStrike">
                        <a:solidFill>
                          <a:srgbClr val="003366"/>
                        </a:solidFill>
                        <a:latin typeface="Arial"/>
                      </a:endParaRPr>
                    </a:p>
                  </a:txBody>
                  <a:tcPr anchor="t"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9</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9,7</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5</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4,2</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4</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2,1</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r>
              <a:tr h="40464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Complicaciones renales</a:t>
                      </a:r>
                      <a:endParaRPr b="0" lang="en-US" sz="1600" spc="-1" strike="noStrike">
                        <a:solidFill>
                          <a:srgbClr val="003366"/>
                        </a:solidFill>
                        <a:latin typeface="Arial"/>
                      </a:endParaRPr>
                    </a:p>
                  </a:txBody>
                  <a:tcPr anchor="t"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3</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4,7</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5</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3,6</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48</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24,1</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r>
              <a:tr h="40644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Insuficiencia hepática</a:t>
                      </a:r>
                      <a:endParaRPr b="0" lang="en-US" sz="1600" spc="-1" strike="noStrike">
                        <a:solidFill>
                          <a:srgbClr val="003366"/>
                        </a:solidFill>
                        <a:latin typeface="Arial"/>
                      </a:endParaRPr>
                    </a:p>
                  </a:txBody>
                  <a:tcPr anchor="t"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5</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5,4</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8</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7,5</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3</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6,5</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r>
              <a:tr h="40644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Otras complicaciones </a:t>
                      </a:r>
                      <a:endParaRPr b="0" lang="en-US" sz="1600" spc="-1" strike="noStrike">
                        <a:solidFill>
                          <a:srgbClr val="003366"/>
                        </a:solidFill>
                        <a:latin typeface="Arial"/>
                      </a:endParaRPr>
                    </a:p>
                  </a:txBody>
                  <a:tcPr anchor="t"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8</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8,6</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5</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4,2</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3</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1,6</a:t>
                      </a:r>
                      <a:endParaRPr b="0" lang="en-US" sz="16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r>
            </a:tbl>
          </a:graphicData>
        </a:graphic>
      </p:graphicFrame>
      <p:sp>
        <p:nvSpPr>
          <p:cNvPr id="556" name="Rectángulo 4"/>
          <p:cNvSpPr/>
          <p:nvPr/>
        </p:nvSpPr>
        <p:spPr>
          <a:xfrm>
            <a:off x="468360" y="1197000"/>
            <a:ext cx="85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ea typeface="Tahoma"/>
              </a:rPr>
              <a:t>Tabla 4. Distribución de los pacientes con endocarditis infecciosa que recibieron tratamiento médico o médico-quirúrgico según complicaciones.</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7" name="Rectángulo 5"/>
          <p:cNvSpPr/>
          <p:nvPr/>
        </p:nvSpPr>
        <p:spPr>
          <a:xfrm>
            <a:off x="468360" y="6319800"/>
            <a:ext cx="6912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1933"/>
                </a:solidFill>
                <a:latin typeface="Arial"/>
                <a:ea typeface="Tahoma"/>
              </a:rPr>
              <a:t>Fuente: Base de datos SPSS         Prueba Chi cuadrado, p = 0,719.</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graphicFrame>
        <p:nvGraphicFramePr>
          <p:cNvPr id="559" name=""/>
          <p:cNvGraphicFramePr/>
          <p:nvPr/>
        </p:nvGraphicFramePr>
        <p:xfrm>
          <a:off x="482760" y="2522520"/>
          <a:ext cx="8102520" cy="2879640"/>
        </p:xfrm>
        <a:graphic>
          <a:graphicData uri="http://schemas.openxmlformats.org/drawingml/2006/table">
            <a:tbl>
              <a:tblPr/>
              <a:tblGrid>
                <a:gridCol w="2360520"/>
                <a:gridCol w="920520"/>
                <a:gridCol w="1097280"/>
                <a:gridCol w="1098360"/>
                <a:gridCol w="1090800"/>
                <a:gridCol w="766440"/>
                <a:gridCol w="768600"/>
              </a:tblGrid>
              <a:tr h="1646280">
                <a:tc rowSpan="2">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1933"/>
                          </a:solidFill>
                          <a:latin typeface="Tahoma"/>
                          <a:ea typeface="Tahoma"/>
                        </a:rPr>
                        <a:t>Estado al egreso</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gridSpan="2">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1933"/>
                          </a:solidFill>
                          <a:latin typeface="Tahoma"/>
                          <a:ea typeface="Tahoma"/>
                        </a:rPr>
                        <a:t>Tratamiento médico (n=93)</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9360">
                      <a:solidFill>
                        <a:srgbClr val="9cc2e5"/>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1933"/>
                          </a:solidFill>
                          <a:latin typeface="Tahoma"/>
                          <a:ea typeface="Tahoma"/>
                        </a:rPr>
                        <a:t>Tratamiento médico-quirúrgico (n=106)</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9360">
                      <a:solidFill>
                        <a:srgbClr val="9cc2e5"/>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1933"/>
                          </a:solidFill>
                          <a:latin typeface="Tahoma"/>
                          <a:ea typeface="Tahoma"/>
                        </a:rPr>
                        <a:t>Total</a:t>
                      </a:r>
                      <a:endParaRPr b="0" lang="en-US" sz="18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1933"/>
                          </a:solidFill>
                          <a:latin typeface="Tahoma"/>
                          <a:ea typeface="Tahoma"/>
                        </a:rPr>
                        <a:t>(n=199)</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9360">
                      <a:solidFill>
                        <a:srgbClr val="9cc2e5"/>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41184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No.</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9360">
                      <a:solidFill>
                        <a:srgbClr val="9cc2e5"/>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9360">
                      <a:solidFill>
                        <a:srgbClr val="9cc2e5"/>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No.</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9360">
                      <a:solidFill>
                        <a:srgbClr val="9cc2e5"/>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9360">
                      <a:solidFill>
                        <a:srgbClr val="9cc2e5"/>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No.</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9360">
                      <a:solidFill>
                        <a:srgbClr val="9cc2e5"/>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9360">
                      <a:solidFill>
                        <a:srgbClr val="9cc2e5"/>
                      </a:solidFill>
                    </a:lnT>
                    <a:lnB w="5760">
                      <a:solidFill>
                        <a:srgbClr val="bdd6ee"/>
                      </a:solidFill>
                    </a:lnB>
                    <a:noFill/>
                  </a:tcPr>
                </a:tc>
              </a:tr>
              <a:tr h="41184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Vivo</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74</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79,6</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84</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79,2</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158</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ea typeface="Tahoma"/>
                        </a:rPr>
                        <a:t>79,4</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r>
              <a:tr h="41184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Fallecido</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19</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20,4</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22</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20,8</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41</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20,6</a:t>
                      </a:r>
                      <a:endParaRPr b="0" lang="en-US" sz="1800" spc="-1" strike="noStrike">
                        <a:solidFill>
                          <a:srgbClr val="003366"/>
                        </a:solidFill>
                        <a:latin typeface="Arial"/>
                      </a:endParaRPr>
                    </a:p>
                  </a:txBody>
                  <a:tcPr anchor="ctr" marL="68400" marR="68400">
                    <a:lnL w="5760">
                      <a:solidFill>
                        <a:srgbClr val="bdd6ee"/>
                      </a:solidFill>
                    </a:lnL>
                    <a:lnR w="5760">
                      <a:solidFill>
                        <a:srgbClr val="bdd6ee"/>
                      </a:solidFill>
                    </a:lnR>
                    <a:lnT w="5760">
                      <a:solidFill>
                        <a:srgbClr val="bdd6ee"/>
                      </a:solidFill>
                    </a:lnT>
                    <a:lnB w="5760">
                      <a:solidFill>
                        <a:srgbClr val="bdd6ee"/>
                      </a:solidFill>
                    </a:lnB>
                    <a:noFill/>
                  </a:tcPr>
                </a:tc>
              </a:tr>
            </a:tbl>
          </a:graphicData>
        </a:graphic>
      </p:graphicFrame>
      <p:sp>
        <p:nvSpPr>
          <p:cNvPr id="560" name="Rectángulo 4"/>
          <p:cNvSpPr/>
          <p:nvPr/>
        </p:nvSpPr>
        <p:spPr>
          <a:xfrm>
            <a:off x="684360" y="5589720"/>
            <a:ext cx="37432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Fuente: Base de datos SPSS</a:t>
            </a:r>
            <a:endParaRPr b="0" lang="en-US" sz="14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Estadístico exacto de Fisher, p = 0,548.</a:t>
            </a:r>
            <a:endParaRPr b="0" lang="en-US" sz="1400" spc="-1" strike="noStrike">
              <a:solidFill>
                <a:srgbClr val="003366"/>
              </a:solidFill>
              <a:latin typeface="Arial"/>
            </a:endParaRPr>
          </a:p>
        </p:txBody>
      </p:sp>
      <p:sp>
        <p:nvSpPr>
          <p:cNvPr id="561" name="Rectángulo 5"/>
          <p:cNvSpPr/>
          <p:nvPr/>
        </p:nvSpPr>
        <p:spPr>
          <a:xfrm>
            <a:off x="395280" y="1539720"/>
            <a:ext cx="856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1933"/>
                </a:solidFill>
                <a:latin typeface="Arial"/>
                <a:ea typeface="Tahoma"/>
              </a:rPr>
              <a:t>Tabla 6. Distribución de los pacientes con endocarditis infecciosa que recibieron tratamiento médico o médico-quirúrgico según estado al egreso.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525240"/>
            <a:ext cx="73915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graphicFrame>
        <p:nvGraphicFramePr>
          <p:cNvPr id="563" name=""/>
          <p:cNvGraphicFramePr/>
          <p:nvPr/>
        </p:nvGraphicFramePr>
        <p:xfrm>
          <a:off x="330120" y="1973160"/>
          <a:ext cx="8569440" cy="4469040"/>
        </p:xfrm>
        <a:graphic>
          <a:graphicData uri="http://schemas.openxmlformats.org/drawingml/2006/table">
            <a:tbl>
              <a:tblPr/>
              <a:tblGrid>
                <a:gridCol w="2525760"/>
                <a:gridCol w="982800"/>
                <a:gridCol w="842760"/>
                <a:gridCol w="844560"/>
                <a:gridCol w="843120"/>
                <a:gridCol w="844560"/>
                <a:gridCol w="842760"/>
                <a:gridCol w="843120"/>
              </a:tblGrid>
              <a:tr h="406440">
                <a:tc rowSpan="3">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1933"/>
                          </a:solidFill>
                          <a:latin typeface="Tahoma"/>
                          <a:ea typeface="Tahoma"/>
                        </a:rPr>
                        <a:t>Complicaciones</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gridSpan="4">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1933"/>
                          </a:solidFill>
                          <a:latin typeface="Tahoma"/>
                          <a:ea typeface="Tahoma"/>
                        </a:rPr>
                        <a:t>Estado al egreso</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9360">
                      <a:solidFill>
                        <a:srgbClr val="9cc2e5"/>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1933"/>
                          </a:solidFill>
                          <a:latin typeface="Tahoma"/>
                          <a:ea typeface="Tahoma"/>
                        </a:rPr>
                        <a:t>Total</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hMerge="1" row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p</a:t>
                      </a:r>
                      <a:r>
                        <a:rPr b="0" lang="es-ES" sz="1600" spc="-1" strike="noStrike" baseline="30000">
                          <a:solidFill>
                            <a:srgbClr val="001933"/>
                          </a:solidFill>
                          <a:latin typeface="Tahoma"/>
                          <a:ea typeface="Tahoma"/>
                        </a:rPr>
                        <a:t>a</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r>
              <a:tr h="4050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1933"/>
                          </a:solidFill>
                          <a:latin typeface="Tahoma"/>
                          <a:ea typeface="Tahoma"/>
                        </a:rPr>
                        <a:t>Vivo</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9360">
                      <a:solidFill>
                        <a:srgbClr val="9cc2e5"/>
                      </a:solidFill>
                    </a:lnT>
                    <a:lnB w="5760">
                      <a:solidFill>
                        <a:srgbClr val="bdd6ee"/>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1933"/>
                          </a:solidFill>
                          <a:latin typeface="Tahoma"/>
                          <a:ea typeface="Tahoma"/>
                        </a:rPr>
                        <a:t>Fallecido</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9360">
                      <a:solidFill>
                        <a:srgbClr val="9cc2e5"/>
                      </a:solidFill>
                    </a:lnT>
                    <a:lnB w="5760">
                      <a:solidFill>
                        <a:srgbClr val="bdd6ee"/>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40644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No.</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No.</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No.</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4060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Insuficiencia cardiaca</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3</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4,6</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1</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51,2</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44</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2,2</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0,000</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r>
              <a:tr h="4050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Infección no controlada</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4</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5,2</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4</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58,5</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48</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4,1</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0,000</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r>
              <a:tr h="5619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Embolismos sistémicos no neurológicos.</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7</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7,1</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9</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2</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36</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8,1</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0,497</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r>
              <a:tr h="6602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Complicaciones neurológicas</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4</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8,9</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0</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4,4</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4</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2,1</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0,013</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r>
              <a:tr h="4064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Complicaciones renales</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8</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7,7</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0</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48,8</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48</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4,1</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0,000</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r>
              <a:tr h="4050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Insuficiencia hepática</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3</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9</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0</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4,4</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3</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6,5</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0,000</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r>
              <a:tr h="4064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Otras complicaciones</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1</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7</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2</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9,3</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3</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1,6</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0,000</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r>
            </a:tbl>
          </a:graphicData>
        </a:graphic>
      </p:graphicFrame>
      <p:sp>
        <p:nvSpPr>
          <p:cNvPr id="564" name="Rectángulo 4"/>
          <p:cNvSpPr/>
          <p:nvPr/>
        </p:nvSpPr>
        <p:spPr>
          <a:xfrm>
            <a:off x="330120" y="1268280"/>
            <a:ext cx="882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1933"/>
                </a:solidFill>
                <a:latin typeface="Arial"/>
                <a:ea typeface="Tahoma"/>
              </a:rPr>
              <a:t>Tabla 7. Distribución de los pacientes con endocarditis infecciosa según las complicaciones y el estado al egreso.</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5" name="Rectángulo 6"/>
          <p:cNvSpPr/>
          <p:nvPr/>
        </p:nvSpPr>
        <p:spPr>
          <a:xfrm>
            <a:off x="468360" y="6442200"/>
            <a:ext cx="734364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Arial"/>
                <a:ea typeface="Tahoma"/>
              </a:rPr>
              <a:t>Fuente: Base de datos SPSS     pa: Estadístico exacto de Fisher.</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67" name=""/>
          <p:cNvSpPr txBox="1"/>
          <p:nvPr/>
        </p:nvSpPr>
        <p:spPr>
          <a:xfrm>
            <a:off x="419040" y="1267920"/>
            <a:ext cx="8229600" cy="5092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Verdana"/>
              </a:rPr>
              <a:t>Conclusiones.</a:t>
            </a:r>
            <a:endParaRPr b="1" lang="en-US" sz="2400" spc="-1" strike="noStrike">
              <a:solidFill>
                <a:srgbClr val="003366"/>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lgn="just">
              <a:lnSpc>
                <a:spcPct val="150000"/>
              </a:lnSpc>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1933"/>
                </a:solidFill>
                <a:latin typeface="Arial"/>
                <a:ea typeface="Tahoma"/>
              </a:rPr>
              <a:t>El perfil clínico-epidemiológico de la endocarditis infecciosa  coincidió con un predominio de hombres, con incremento de la edad y por estafilococo; en ambos tipos de tratamiento.</a:t>
            </a:r>
            <a:endParaRPr b="1" lang="en-US" sz="2000" spc="-1" strike="noStrike">
              <a:solidFill>
                <a:srgbClr val="003366"/>
              </a:solidFill>
              <a:latin typeface="Verdana"/>
            </a:endParaRPr>
          </a:p>
          <a:p>
            <a:pPr algn="just">
              <a:lnSpc>
                <a:spcPct val="150000"/>
              </a:lnSpc>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gn="just">
              <a:lnSpc>
                <a:spcPct val="150000"/>
              </a:lnSpc>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1933"/>
                </a:solidFill>
                <a:latin typeface="Arial"/>
                <a:ea typeface="Tahoma"/>
              </a:rPr>
              <a:t>El tratamiento médico convencional se indica predominantemente en pacientes con endocarditis infecciosa de válvula nativa, inmudeprimidos, con enfermedad valvular adquirida y en ausencia de complicaciones mayores.</a:t>
            </a:r>
            <a:endParaRPr b="1" lang="en-US" sz="2000" spc="-1" strike="noStrike">
              <a:solidFill>
                <a:srgbClr val="003366"/>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69" name=""/>
          <p:cNvSpPr txBox="1"/>
          <p:nvPr/>
        </p:nvSpPr>
        <p:spPr>
          <a:xfrm>
            <a:off x="457200" y="1337760"/>
            <a:ext cx="8229600" cy="5092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Verdana"/>
              </a:rPr>
              <a:t>Conclusiones.</a:t>
            </a:r>
            <a:endParaRPr b="1" lang="en-US" sz="2400" spc="-1" strike="noStrike">
              <a:solidFill>
                <a:srgbClr val="003366"/>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lgn="just">
              <a:lnSpc>
                <a:spcPct val="150000"/>
              </a:lnSpc>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1933"/>
                </a:solidFill>
                <a:latin typeface="Tahoma"/>
                <a:ea typeface="Tahoma"/>
              </a:rPr>
              <a:t>El tratamiento médico quirúrgico está indicado en endocarditis asociada a dispositivos intracardiacos y prótesis,  en presencia de complicaciones mayores. </a:t>
            </a:r>
            <a:endParaRPr b="1" lang="en-US" sz="2000" spc="-1" strike="noStrike">
              <a:solidFill>
                <a:srgbClr val="003366"/>
              </a:solidFill>
              <a:latin typeface="Verdana"/>
            </a:endParaRPr>
          </a:p>
          <a:p>
            <a:pPr algn="just">
              <a:lnSpc>
                <a:spcPct val="150000"/>
              </a:lnSpc>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gn="just">
              <a:lnSpc>
                <a:spcPct val="150000"/>
              </a:lnSpc>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1933"/>
                </a:solidFill>
                <a:latin typeface="Tahoma"/>
                <a:ea typeface="Tahoma"/>
              </a:rPr>
              <a:t>El tratamiento adecuado contribuye a una alta supervivencia y la mortalidad está asociada a la incidencia de complicaciones, independientemente del tratamiento recibido. </a:t>
            </a:r>
            <a:endParaRPr b="1" lang="en-US" sz="2000" spc="-1" strike="noStrike">
              <a:solidFill>
                <a:srgbClr val="003366"/>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71" name=""/>
          <p:cNvSpPr txBox="1"/>
          <p:nvPr/>
        </p:nvSpPr>
        <p:spPr>
          <a:xfrm>
            <a:off x="647640" y="1267920"/>
            <a:ext cx="7772400" cy="5092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Verdana"/>
              </a:rPr>
              <a:t>Recomendación.</a:t>
            </a:r>
            <a:endParaRPr b="1" lang="en-US" sz="2400" spc="-1" strike="noStrike">
              <a:solidFill>
                <a:srgbClr val="003366"/>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1933"/>
                </a:solidFill>
                <a:latin typeface="Arial"/>
                <a:ea typeface="Tahoma"/>
              </a:rPr>
              <a:t>Realizar nuevos estudios observacionales sobre los resultados del tratamiento quirúrgico de la endocarditis infecciosa, en los diferentes centros que realizan cirugía cardiovascular en nuestro país, para establecer protocolos de actuación a nivel nacional.</a:t>
            </a:r>
            <a:endParaRPr b="1" lang="en-US" sz="2400" spc="-1" strike="noStrike">
              <a:solidFill>
                <a:srgbClr val="003366"/>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25" name=""/>
          <p:cNvSpPr txBox="1"/>
          <p:nvPr/>
        </p:nvSpPr>
        <p:spPr>
          <a:xfrm>
            <a:off x="457200" y="1337760"/>
            <a:ext cx="8229600" cy="506520"/>
          </a:xfrm>
          <a:prstGeom prst="rect">
            <a:avLst/>
          </a:prstGeom>
          <a:noFill/>
          <a:ln w="0">
            <a:noFill/>
          </a:ln>
        </p:spPr>
        <p:txBody>
          <a:bodyPr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Verdana"/>
              </a:rPr>
              <a:t>Introducción.</a:t>
            </a:r>
            <a:endParaRPr b="1" lang="en-US" sz="2800" spc="-1" strike="noStrike">
              <a:solidFill>
                <a:srgbClr val="003366"/>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26" name="Rectángulo 2"/>
          <p:cNvSpPr/>
          <p:nvPr/>
        </p:nvSpPr>
        <p:spPr>
          <a:xfrm>
            <a:off x="512640" y="2071800"/>
            <a:ext cx="8042400" cy="4667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1616"/>
                </a:solidFill>
                <a:latin typeface="Arial"/>
              </a:rPr>
              <a:t>La endocarditis infecciosa es una enfermedad poco frecuente pero muy grave y potencialmente letal.</a:t>
            </a:r>
            <a:endParaRPr b="0" lang="en-US" sz="2000" spc="-1" strike="noStrike">
              <a:solidFill>
                <a:srgbClr val="003366"/>
              </a:solidFill>
              <a:latin typeface="Arial"/>
            </a:endParaRPr>
          </a:p>
          <a:p>
            <a:pPr marL="285840" indent="-285840" algn="just">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85840" indent="-285840" algn="just">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1616"/>
                </a:solidFill>
                <a:latin typeface="Arial"/>
                <a:ea typeface="Times New Roman"/>
              </a:rPr>
              <a:t>En el año 2010 causó la pérdida de 1.58 millones de años de vida saludable, como consecuencia de fallecimientos y discapacidad.</a:t>
            </a:r>
            <a:endParaRPr b="0" lang="en-US" sz="2000" spc="-1" strike="noStrike">
              <a:solidFill>
                <a:srgbClr val="003366"/>
              </a:solidFill>
              <a:latin typeface="Arial"/>
            </a:endParaRPr>
          </a:p>
          <a:p>
            <a:pPr marL="285840" indent="-285840" algn="just">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85840" indent="-285840" algn="just">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1616"/>
                </a:solidFill>
                <a:latin typeface="Arial"/>
                <a:ea typeface="Times New Roman"/>
              </a:rPr>
              <a:t>C</a:t>
            </a:r>
            <a:r>
              <a:rPr b="1" lang="es-ES_tradnl" sz="2000" spc="-1" strike="noStrike">
                <a:solidFill>
                  <a:srgbClr val="161616"/>
                </a:solidFill>
                <a:latin typeface="Arial"/>
              </a:rPr>
              <a:t>on la introducción de los antibióticos, la mortalidad de 100 % se redujo a cifras menores de 30 %.</a:t>
            </a:r>
            <a:endParaRPr b="0" lang="en-US" sz="2000" spc="-1" strike="noStrike">
              <a:solidFill>
                <a:srgbClr val="003366"/>
              </a:solidFill>
              <a:latin typeface="Arial"/>
            </a:endParaRPr>
          </a:p>
          <a:p>
            <a:pPr marL="285840" indent="-285840" algn="just">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85840" indent="-285840" algn="just">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1616"/>
                </a:solidFill>
                <a:latin typeface="Arial"/>
              </a:rPr>
              <a:t>Es una enfermedad médico-quirúrgica en la que el tratamiento quirúrgico es una parte del proceso y no un fracaso de la terapéutica.</a:t>
            </a:r>
            <a:endParaRPr b="0" lang="en-US" sz="2000" spc="-1" strike="noStrike">
              <a:solidFill>
                <a:srgbClr val="003366"/>
              </a:solidFill>
              <a:latin typeface="Arial"/>
            </a:endParaRPr>
          </a:p>
          <a:p>
            <a:pPr marL="285840" indent="-285840" algn="just">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85840" indent="-285840" algn="just">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8" name="Rectángulo 3"/>
          <p:cNvSpPr/>
          <p:nvPr/>
        </p:nvSpPr>
        <p:spPr>
          <a:xfrm>
            <a:off x="684360" y="4457880"/>
            <a:ext cx="770400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1616"/>
                </a:solidFill>
                <a:latin typeface="Arial"/>
                <a:ea typeface="Tahoma"/>
              </a:rPr>
              <a:t>Problema científico.</a:t>
            </a:r>
            <a:endParaRPr b="0" lang="en-US" sz="20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1616"/>
                </a:solidFill>
                <a:latin typeface="Arial"/>
                <a:ea typeface="Tahoma"/>
              </a:rPr>
              <a:t>¿Cuáles serán las características clínico epidemiológicas y la evolución de los pacientes con endocarditis infecciosa según el tratamiento recibido?</a:t>
            </a:r>
            <a:endParaRPr b="0" lang="en-US" sz="20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1616"/>
                </a:solidFill>
                <a:latin typeface="Arial"/>
                <a:ea typeface="Tahoma"/>
              </a:rPr>
              <a:t> </a:t>
            </a:r>
            <a:endParaRPr b="0" lang="en-US" sz="2000" spc="-1" strike="noStrike">
              <a:solidFill>
                <a:srgbClr val="003366"/>
              </a:solidFill>
              <a:latin typeface="Arial"/>
            </a:endParaRPr>
          </a:p>
        </p:txBody>
      </p:sp>
      <p:sp>
        <p:nvSpPr>
          <p:cNvPr id="529" name="Rectángulo 4"/>
          <p:cNvSpPr/>
          <p:nvPr/>
        </p:nvSpPr>
        <p:spPr>
          <a:xfrm>
            <a:off x="501480" y="1197000"/>
            <a:ext cx="8064720" cy="3060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1616"/>
                </a:solidFill>
                <a:latin typeface="Arial"/>
                <a:ea typeface="Times New Roman"/>
              </a:rPr>
              <a:t>Justificación del problema.</a:t>
            </a:r>
            <a:endParaRPr b="0" lang="en-US" sz="1800" spc="-1" strike="noStrike">
              <a:solidFill>
                <a:srgbClr val="003366"/>
              </a:solidFill>
              <a:latin typeface="Arial"/>
            </a:endParaRPr>
          </a:p>
          <a:p>
            <a:pPr algn="just">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161616"/>
                </a:solidFill>
                <a:latin typeface="Arial"/>
                <a:ea typeface="Times New Roman"/>
              </a:rPr>
              <a:t>El Hospital C.Q. Hermanos Ameijeiras cuenta con los recursos materiales y personal altamente calificado para el diagnóstico, evolución y tratamiento de la endocarditis infecciosa, incluida la cirugía cardiovascular. En las últimas décadas se ha observado que continúa existiendo un grupo de pacientes con una evolución desfavorable. Esta investigación permite adquirir una experiencia importante en función de disminuir el número de complicaciones y la mortalidad por dicha enfermedad.</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1" name=""/>
          <p:cNvSpPr txBox="1"/>
          <p:nvPr/>
        </p:nvSpPr>
        <p:spPr>
          <a:xfrm>
            <a:off x="457200" y="1337760"/>
            <a:ext cx="8229600" cy="50652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Verdana"/>
              </a:rPr>
              <a:t>Objetivos.</a:t>
            </a:r>
            <a:endParaRPr b="1" lang="en-US" sz="2000" spc="-1" strike="noStrike">
              <a:solidFill>
                <a:srgbClr val="003366"/>
              </a:solidFill>
              <a:latin typeface="Verdana"/>
            </a:endParaRPr>
          </a:p>
        </p:txBody>
      </p:sp>
      <p:sp>
        <p:nvSpPr>
          <p:cNvPr id="532" name="6 Rectángulo"/>
          <p:cNvSpPr/>
          <p:nvPr/>
        </p:nvSpPr>
        <p:spPr>
          <a:xfrm>
            <a:off x="430200" y="1592280"/>
            <a:ext cx="8207280" cy="483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161616"/>
                </a:solidFill>
                <a:latin typeface="Arial"/>
                <a:ea typeface="Tahoma"/>
              </a:rPr>
              <a:t>General.</a:t>
            </a:r>
            <a:endParaRPr b="0" lang="en-US" sz="16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1616"/>
                </a:solidFill>
                <a:latin typeface="Arial"/>
                <a:ea typeface="Tahoma"/>
              </a:rPr>
              <a:t>Describir el comportamiento clínico-epidemiológico de los pacientes con diagnóstico de endocarditis infecciosa según el tratamiento recibido.</a:t>
            </a:r>
            <a:endParaRPr b="0" lang="en-US" sz="16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161616"/>
                </a:solidFill>
                <a:latin typeface="Arial"/>
                <a:ea typeface="Tahoma"/>
              </a:rPr>
              <a:t>Específicos.</a:t>
            </a:r>
            <a:endParaRPr b="0" lang="en-US" sz="1600" spc="-1" strike="noStrike">
              <a:solidFill>
                <a:srgbClr val="003366"/>
              </a:solidFill>
              <a:latin typeface="Arial"/>
            </a:endParaRPr>
          </a:p>
          <a:p>
            <a:pPr algn="just">
              <a:lnSpc>
                <a:spcPct val="15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1616"/>
                </a:solidFill>
                <a:latin typeface="Arial"/>
                <a:ea typeface="Tahoma"/>
              </a:rPr>
              <a:t>Caracterizar a la población estudiada según aspecto demográfico y variables clínicas y microbiológicas.</a:t>
            </a:r>
            <a:endParaRPr b="0" lang="en-US" sz="1600" spc="-1" strike="noStrike">
              <a:solidFill>
                <a:srgbClr val="003366"/>
              </a:solidFill>
              <a:latin typeface="Arial"/>
            </a:endParaRPr>
          </a:p>
          <a:p>
            <a:pPr algn="just">
              <a:lnSpc>
                <a:spcPct val="15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1616"/>
                </a:solidFill>
                <a:latin typeface="Arial"/>
                <a:ea typeface="Tahoma"/>
              </a:rPr>
              <a:t>Evaluar la relación entre variables clínicas y microbiológicas según el tratamiento recibido.</a:t>
            </a:r>
            <a:endParaRPr b="0" lang="en-US" sz="1600" spc="-1" strike="noStrike">
              <a:solidFill>
                <a:srgbClr val="003366"/>
              </a:solidFill>
              <a:latin typeface="Arial"/>
            </a:endParaRPr>
          </a:p>
          <a:p>
            <a:pPr algn="just">
              <a:lnSpc>
                <a:spcPct val="15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1616"/>
                </a:solidFill>
                <a:latin typeface="Arial"/>
                <a:ea typeface="Tahoma"/>
              </a:rPr>
              <a:t>Identificar las complicaciones principales en los pacientes con endocarditis infecciosa.  </a:t>
            </a:r>
            <a:endParaRPr b="0" lang="en-US" sz="1600" spc="-1" strike="noStrike">
              <a:solidFill>
                <a:srgbClr val="003366"/>
              </a:solidFill>
              <a:latin typeface="Arial"/>
            </a:endParaRPr>
          </a:p>
          <a:p>
            <a:pPr algn="just">
              <a:lnSpc>
                <a:spcPct val="15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1616"/>
                </a:solidFill>
                <a:latin typeface="Arial"/>
                <a:ea typeface="Tahoma"/>
              </a:rPr>
              <a:t>Evaluar la relación entre el estado al egreso y el tratamiento recibido. </a:t>
            </a:r>
            <a:endParaRPr b="0" lang="en-US" sz="1600" spc="-1" strike="noStrike">
              <a:solidFill>
                <a:srgbClr val="003366"/>
              </a:solidFill>
              <a:latin typeface="Arial"/>
            </a:endParaRPr>
          </a:p>
          <a:p>
            <a:pPr algn="just">
              <a:lnSpc>
                <a:spcPct val="15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1616"/>
                </a:solidFill>
                <a:latin typeface="Arial"/>
                <a:ea typeface="Tahoma"/>
              </a:rPr>
              <a:t>Identificar la posible relación entre las complicaciones principales y el estado al egreso.</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4" name=""/>
          <p:cNvSpPr txBox="1"/>
          <p:nvPr/>
        </p:nvSpPr>
        <p:spPr>
          <a:xfrm>
            <a:off x="457200" y="1337760"/>
            <a:ext cx="8229600" cy="506520"/>
          </a:xfrm>
          <a:prstGeom prst="rect">
            <a:avLst/>
          </a:prstGeom>
          <a:noFill/>
          <a:ln w="0">
            <a:noFill/>
          </a:ln>
        </p:spPr>
        <p:txBody>
          <a:bodyPr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Verdana"/>
              </a:rPr>
              <a:t>Diseño metodológico.</a:t>
            </a:r>
            <a:endParaRPr b="1" lang="en-US" sz="2800" spc="-1" strike="noStrike">
              <a:solidFill>
                <a:srgbClr val="003366"/>
              </a:solidFill>
              <a:latin typeface="Verdana"/>
            </a:endParaRPr>
          </a:p>
        </p:txBody>
      </p:sp>
      <p:sp>
        <p:nvSpPr>
          <p:cNvPr id="535" name="Rectángulo 1"/>
          <p:cNvSpPr/>
          <p:nvPr/>
        </p:nvSpPr>
        <p:spPr>
          <a:xfrm>
            <a:off x="485640" y="1863720"/>
            <a:ext cx="822960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161616"/>
                </a:solidFill>
                <a:latin typeface="Arial"/>
                <a:ea typeface="Calibri"/>
              </a:rPr>
              <a:t>Estudio observacional, descriptivo, de corte transversal en pacientes ingresados en el Servicio de Cardiología del Hospital Clínico Quirúrgico ¨Hermanos Ameijeiras”, con diagnóstico de endocarditis infecciosa; según el tratamiento recibido, ya sea médico o médico quirúrgico, en el período comprendido entre enero del 2006 y diciembre del 2019.</a:t>
            </a:r>
            <a:endParaRPr b="0" lang="en-US" sz="1800" spc="-1" strike="noStrike">
              <a:solidFill>
                <a:srgbClr val="003366"/>
              </a:solidFill>
              <a:latin typeface="Arial"/>
            </a:endParaRPr>
          </a:p>
        </p:txBody>
      </p:sp>
      <p:sp>
        <p:nvSpPr>
          <p:cNvPr id="536" name="Rectángulo 5"/>
          <p:cNvSpPr/>
          <p:nvPr/>
        </p:nvSpPr>
        <p:spPr>
          <a:xfrm>
            <a:off x="596880" y="4029120"/>
            <a:ext cx="800748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1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1933"/>
                </a:solidFill>
                <a:latin typeface="Arial"/>
                <a:ea typeface="Tahoma"/>
              </a:rPr>
              <a:t> </a:t>
            </a:r>
            <a:r>
              <a:rPr b="1" lang="es-ES" sz="1800" spc="-1" strike="noStrike">
                <a:solidFill>
                  <a:srgbClr val="161616"/>
                </a:solidFill>
                <a:latin typeface="Arial"/>
                <a:ea typeface="Tahoma"/>
              </a:rPr>
              <a:t>Universo:</a:t>
            </a:r>
            <a:endParaRPr b="0" lang="en-US" sz="18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161616"/>
                </a:solidFill>
                <a:latin typeface="Arial"/>
                <a:ea typeface="Tahoma"/>
              </a:rPr>
              <a:t>     </a:t>
            </a:r>
            <a:r>
              <a:rPr b="1" lang="es-MX" sz="1800" spc="-1" strike="noStrike">
                <a:solidFill>
                  <a:srgbClr val="161616"/>
                </a:solidFill>
                <a:latin typeface="Arial"/>
                <a:ea typeface="Tahoma"/>
              </a:rPr>
              <a:t>204 pacientes con diagnóstico confirmado de endocarditis infecciosa (EI) según los criterios de Duke, en el periodo de estudio.</a:t>
            </a:r>
            <a:endParaRPr b="0" lang="en-US" sz="1800" spc="-1" strike="noStrike">
              <a:solidFill>
                <a:srgbClr val="003366"/>
              </a:solidFill>
              <a:latin typeface="Arial"/>
            </a:endParaRPr>
          </a:p>
        </p:txBody>
      </p:sp>
      <p:sp>
        <p:nvSpPr>
          <p:cNvPr id="537" name="Rectángulo 6"/>
          <p:cNvSpPr/>
          <p:nvPr/>
        </p:nvSpPr>
        <p:spPr>
          <a:xfrm>
            <a:off x="596880" y="5369040"/>
            <a:ext cx="8089920" cy="13284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1616"/>
                </a:solidFill>
                <a:latin typeface="Arial"/>
                <a:ea typeface="Tahoma"/>
              </a:rPr>
              <a:t>Muestra:</a:t>
            </a:r>
            <a:endParaRPr b="0" lang="en-US" sz="1800" spc="-1" strike="noStrike">
              <a:solidFill>
                <a:srgbClr val="003366"/>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161616"/>
                </a:solidFill>
                <a:latin typeface="Arial"/>
                <a:ea typeface="Tahoma"/>
              </a:rPr>
              <a:t> </a:t>
            </a:r>
            <a:r>
              <a:rPr b="1" lang="es-MX" sz="1800" spc="-1" strike="noStrike">
                <a:solidFill>
                  <a:srgbClr val="161616"/>
                </a:solidFill>
                <a:latin typeface="Arial"/>
                <a:ea typeface="Tahoma"/>
              </a:rPr>
              <a:t>199 pacientes con diagnóstico confirmado de EI, que cumplieron los criterios de inclusión establecidos.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9" name=""/>
          <p:cNvSpPr txBox="1"/>
          <p:nvPr/>
        </p:nvSpPr>
        <p:spPr>
          <a:xfrm>
            <a:off x="971280" y="1350720"/>
            <a:ext cx="4762440" cy="579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Verdana"/>
              </a:rPr>
              <a:t>Variables estudiadas.</a:t>
            </a:r>
            <a:endParaRPr b="1" lang="en-US" sz="2400" spc="-1" strike="noStrike">
              <a:solidFill>
                <a:srgbClr val="003366"/>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40" name="1 Rectángulo"/>
          <p:cNvSpPr/>
          <p:nvPr/>
        </p:nvSpPr>
        <p:spPr>
          <a:xfrm>
            <a:off x="838080" y="2176560"/>
            <a:ext cx="475308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1616"/>
                </a:solidFill>
                <a:latin typeface="Tahoma"/>
                <a:ea typeface="Tahoma"/>
              </a:rPr>
              <a:t>Edad</a:t>
            </a:r>
            <a:endParaRPr b="0" lang="en-US" sz="2400" spc="-1" strike="noStrike">
              <a:solidFill>
                <a:srgbClr val="003366"/>
              </a:solidFill>
              <a:latin typeface="Arial"/>
            </a:endParaRPr>
          </a:p>
          <a:p>
            <a:pPr marL="285840" indent="-285840">
              <a:lnSpc>
                <a:spcPct val="15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1616"/>
                </a:solidFill>
                <a:latin typeface="Tahoma"/>
                <a:ea typeface="Tahoma"/>
              </a:rPr>
              <a:t>Sexo</a:t>
            </a:r>
            <a:endParaRPr b="0" lang="en-US" sz="2400" spc="-1" strike="noStrike">
              <a:solidFill>
                <a:srgbClr val="003366"/>
              </a:solidFill>
              <a:latin typeface="Arial"/>
            </a:endParaRPr>
          </a:p>
          <a:p>
            <a:pPr marL="285840" indent="-285840">
              <a:lnSpc>
                <a:spcPct val="15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1616"/>
                </a:solidFill>
                <a:latin typeface="Tahoma"/>
                <a:ea typeface="Tahoma"/>
              </a:rPr>
              <a:t>Factores predisponentes</a:t>
            </a:r>
            <a:endParaRPr b="0" lang="en-US" sz="2400" spc="-1" strike="noStrike">
              <a:solidFill>
                <a:srgbClr val="003366"/>
              </a:solidFill>
              <a:latin typeface="Arial"/>
            </a:endParaRPr>
          </a:p>
          <a:p>
            <a:pPr marL="285840" indent="-285840">
              <a:lnSpc>
                <a:spcPct val="15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1616"/>
                </a:solidFill>
                <a:latin typeface="Tahoma"/>
                <a:ea typeface="Tahoma"/>
              </a:rPr>
              <a:t>Válvula afectada</a:t>
            </a:r>
            <a:endParaRPr b="0" lang="en-US" sz="2400" spc="-1" strike="noStrike">
              <a:solidFill>
                <a:srgbClr val="003366"/>
              </a:solidFill>
              <a:latin typeface="Arial"/>
            </a:endParaRPr>
          </a:p>
          <a:p>
            <a:pPr marL="285840" indent="-285840">
              <a:lnSpc>
                <a:spcPct val="15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1616"/>
                </a:solidFill>
                <a:latin typeface="Tahoma"/>
                <a:ea typeface="Tahoma"/>
              </a:rPr>
              <a:t>Complicaciones</a:t>
            </a:r>
            <a:endParaRPr b="0" lang="en-US" sz="2400" spc="-1" strike="noStrike">
              <a:solidFill>
                <a:srgbClr val="003366"/>
              </a:solidFill>
              <a:latin typeface="Arial"/>
            </a:endParaRPr>
          </a:p>
          <a:p>
            <a:pPr marL="285840" indent="-285840">
              <a:lnSpc>
                <a:spcPct val="15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1616"/>
                </a:solidFill>
                <a:latin typeface="Tahoma"/>
                <a:ea typeface="Tahoma"/>
              </a:rPr>
              <a:t>Tipo de tratamiento</a:t>
            </a:r>
            <a:endParaRPr b="0" lang="en-US" sz="2400" spc="-1" strike="noStrike">
              <a:solidFill>
                <a:srgbClr val="003366"/>
              </a:solidFill>
              <a:latin typeface="Arial"/>
            </a:endParaRPr>
          </a:p>
          <a:p>
            <a:pPr marL="285840" indent="-285840">
              <a:lnSpc>
                <a:spcPct val="15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1616"/>
                </a:solidFill>
                <a:latin typeface="Tahoma"/>
                <a:ea typeface="Tahoma"/>
              </a:rPr>
              <a:t>Estado al egreso</a:t>
            </a:r>
            <a:endParaRPr b="0" lang="en-US" sz="2400" spc="-1" strike="noStrike">
              <a:solidFill>
                <a:srgbClr val="003366"/>
              </a:solidFill>
              <a:latin typeface="Arial"/>
            </a:endParaRPr>
          </a:p>
          <a:p>
            <a:pPr marL="285840" indent="-285840">
              <a:lnSpc>
                <a:spcPct val="15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42" name=""/>
          <p:cNvSpPr txBox="1"/>
          <p:nvPr/>
        </p:nvSpPr>
        <p:spPr>
          <a:xfrm>
            <a:off x="457200" y="1186920"/>
            <a:ext cx="8229600" cy="5065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Verdana"/>
              </a:rPr>
              <a:t>Resultados.</a:t>
            </a:r>
            <a:endParaRPr b="1" lang="en-US" sz="2400" spc="-1" strike="noStrike">
              <a:solidFill>
                <a:srgbClr val="003366"/>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graphicFrame>
        <p:nvGraphicFramePr>
          <p:cNvPr id="543" name=""/>
          <p:cNvGraphicFramePr/>
          <p:nvPr/>
        </p:nvGraphicFramePr>
        <p:xfrm>
          <a:off x="457200" y="2421000"/>
          <a:ext cx="8280360" cy="3905280"/>
        </p:xfrm>
        <a:graphic>
          <a:graphicData uri="http://schemas.openxmlformats.org/drawingml/2006/table">
            <a:tbl>
              <a:tblPr/>
              <a:tblGrid>
                <a:gridCol w="1195560"/>
                <a:gridCol w="1196640"/>
                <a:gridCol w="1092240"/>
                <a:gridCol w="1090800"/>
                <a:gridCol w="1092240"/>
                <a:gridCol w="1085760"/>
                <a:gridCol w="763560"/>
                <a:gridCol w="763560"/>
              </a:tblGrid>
              <a:tr h="639720">
                <a:tc gridSpan="2" rowSpan="2">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Variables demográficas</a:t>
                      </a:r>
                      <a:endParaRPr b="0" lang="en-US" sz="14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hMerge="1" row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Tratamiento médico </a:t>
                      </a:r>
                      <a:endParaRPr b="0" lang="en-US" sz="14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n=93)</a:t>
                      </a:r>
                      <a:endParaRPr b="0" lang="en-US" sz="14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9360">
                      <a:solidFill>
                        <a:srgbClr val="9cc2e5"/>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Tratamiento médico-quirúrgico (n=106)</a:t>
                      </a:r>
                      <a:endParaRPr b="0" lang="en-US" sz="14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9360">
                      <a:solidFill>
                        <a:srgbClr val="9cc2e5"/>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Total</a:t>
                      </a:r>
                      <a:endParaRPr b="0" lang="en-US" sz="14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n=199)</a:t>
                      </a:r>
                      <a:endParaRPr b="0" lang="en-US" sz="14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9360">
                      <a:solidFill>
                        <a:srgbClr val="9cc2e5"/>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411840">
                <a:tc vMerge="1" grid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No.</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9360">
                      <a:solidFill>
                        <a:srgbClr val="9cc2e5"/>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9360">
                      <a:solidFill>
                        <a:srgbClr val="9cc2e5"/>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No.</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9360">
                      <a:solidFill>
                        <a:srgbClr val="9cc2e5"/>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9360">
                      <a:solidFill>
                        <a:srgbClr val="9cc2e5"/>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No.</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9360">
                      <a:solidFill>
                        <a:srgbClr val="9cc2e5"/>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9360">
                      <a:solidFill>
                        <a:srgbClr val="9cc2e5"/>
                      </a:solidFill>
                    </a:lnT>
                    <a:lnB w="5760">
                      <a:solidFill>
                        <a:srgbClr val="bdd6ee"/>
                      </a:solidFill>
                    </a:lnB>
                    <a:noFill/>
                  </a:tcPr>
                </a:tc>
              </a:tr>
              <a:tr h="823320">
                <a:tc rowSpan="2">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1933"/>
                          </a:solidFill>
                          <a:latin typeface="Tahoma"/>
                          <a:ea typeface="Tahoma"/>
                        </a:rPr>
                        <a:t>Sexo</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Femenino</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27</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29,0</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23</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21,7</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50</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25,1</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r>
              <a:tr h="82332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77400" rIns="7740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Masculino</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ea typeface="Tahoma"/>
                        </a:rPr>
                        <a:t>66</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ea typeface="Tahoma"/>
                        </a:rPr>
                        <a:t>71,0</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ea typeface="Tahoma"/>
                        </a:rPr>
                        <a:t>83</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ea typeface="Tahoma"/>
                        </a:rPr>
                        <a:t>78,3</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ahoma"/>
                          <a:ea typeface="Tahoma"/>
                        </a:rPr>
                        <a:t>149</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ea typeface="Tahoma"/>
                        </a:rPr>
                        <a:t>74,9</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r>
              <a:tr h="411840">
                <a:tc rowSpan="4">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1933"/>
                          </a:solidFill>
                          <a:latin typeface="Tahoma"/>
                          <a:ea typeface="Tahoma"/>
                        </a:rPr>
                        <a:t>Edad</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20-29</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12</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12,9</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11</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10,4</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23</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11,6</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r>
              <a:tr h="41184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77400" rIns="7740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30-49</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18</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19,4</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24</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22,6</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42</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21,1</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r>
              <a:tr h="41184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77400" rIns="7740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50-69</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36</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38,7</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51</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48,1</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ea typeface="Tahoma"/>
                        </a:rPr>
                        <a:t>87</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ea typeface="Tahoma"/>
                        </a:rPr>
                        <a:t>43,7</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r>
              <a:tr h="41184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77400" rIns="7740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70 y más</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27</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29,0</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20</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18,9</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47</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c>
                  <a:txBody>
                    <a:bodyPr lIns="77400" rIns="77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1933"/>
                          </a:solidFill>
                          <a:latin typeface="Tahoma"/>
                          <a:ea typeface="Tahoma"/>
                        </a:rPr>
                        <a:t>23,6</a:t>
                      </a:r>
                      <a:endParaRPr b="0" lang="en-US" sz="1800" spc="-1" strike="noStrike">
                        <a:solidFill>
                          <a:srgbClr val="003366"/>
                        </a:solidFill>
                        <a:latin typeface="Arial"/>
                      </a:endParaRPr>
                    </a:p>
                  </a:txBody>
                  <a:tcPr anchor="ctr" marL="77400" marR="77400">
                    <a:lnL w="5760">
                      <a:solidFill>
                        <a:srgbClr val="bdd6ee"/>
                      </a:solidFill>
                    </a:lnL>
                    <a:lnR w="5760">
                      <a:solidFill>
                        <a:srgbClr val="bdd6ee"/>
                      </a:solidFill>
                    </a:lnR>
                    <a:lnT w="5760">
                      <a:solidFill>
                        <a:srgbClr val="bdd6ee"/>
                      </a:solidFill>
                    </a:lnT>
                    <a:lnB w="5760">
                      <a:solidFill>
                        <a:srgbClr val="bdd6ee"/>
                      </a:solidFill>
                    </a:lnB>
                    <a:noFill/>
                  </a:tcPr>
                </a:tc>
              </a:tr>
            </a:tbl>
          </a:graphicData>
        </a:graphic>
      </p:graphicFrame>
      <p:sp>
        <p:nvSpPr>
          <p:cNvPr id="544" name="5 Rectángulo"/>
          <p:cNvSpPr/>
          <p:nvPr/>
        </p:nvSpPr>
        <p:spPr>
          <a:xfrm>
            <a:off x="596880" y="1693800"/>
            <a:ext cx="814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1933"/>
                </a:solidFill>
                <a:latin typeface="Arial"/>
                <a:ea typeface="Tahoma"/>
              </a:rPr>
              <a:t>Tabla 1. Distribución de los pacientes con EI que recibieron tratamiento médico o médico-quirúrgico según sexo y edad.</a:t>
            </a:r>
            <a:endParaRPr b="0" lang="en-US" sz="1800" spc="-1" strike="noStrike">
              <a:solidFill>
                <a:srgbClr val="003366"/>
              </a:solidFill>
              <a:latin typeface="Arial"/>
            </a:endParaRPr>
          </a:p>
        </p:txBody>
      </p:sp>
      <p:sp>
        <p:nvSpPr>
          <p:cNvPr id="545" name="7 Rectángulo"/>
          <p:cNvSpPr/>
          <p:nvPr/>
        </p:nvSpPr>
        <p:spPr>
          <a:xfrm>
            <a:off x="588960" y="6326280"/>
            <a:ext cx="3149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1933"/>
                </a:solidFill>
                <a:latin typeface="Arial"/>
                <a:ea typeface="Tahoma"/>
              </a:rPr>
              <a:t>F</a:t>
            </a:r>
            <a:r>
              <a:rPr b="1" lang="es-ES" sz="1600" spc="-1" strike="noStrike">
                <a:solidFill>
                  <a:srgbClr val="001933"/>
                </a:solidFill>
                <a:latin typeface="Arial"/>
                <a:ea typeface="Tahoma"/>
              </a:rPr>
              <a:t>uente: Base de datos SPSS</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graphicFrame>
        <p:nvGraphicFramePr>
          <p:cNvPr id="547" name=""/>
          <p:cNvGraphicFramePr/>
          <p:nvPr/>
        </p:nvGraphicFramePr>
        <p:xfrm>
          <a:off x="168120" y="1789200"/>
          <a:ext cx="8731440" cy="4640040"/>
        </p:xfrm>
        <a:graphic>
          <a:graphicData uri="http://schemas.openxmlformats.org/drawingml/2006/table">
            <a:tbl>
              <a:tblPr/>
              <a:tblGrid>
                <a:gridCol w="3108600"/>
                <a:gridCol w="790560"/>
                <a:gridCol w="1296720"/>
                <a:gridCol w="1224000"/>
                <a:gridCol w="1008360"/>
                <a:gridCol w="647640"/>
                <a:gridCol w="655560"/>
              </a:tblGrid>
              <a:tr h="639720">
                <a:tc row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Factores predisponentes</a:t>
                      </a:r>
                      <a:endParaRPr b="0" lang="en-US" sz="14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grid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Tratamiento médico</a:t>
                      </a:r>
                      <a:endParaRPr b="0" lang="en-US" sz="14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9360">
                      <a:solidFill>
                        <a:srgbClr val="9cc2e5"/>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Tratamiento médico-quirúrgico</a:t>
                      </a:r>
                      <a:endParaRPr b="0" lang="en-US" sz="14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9360">
                      <a:solidFill>
                        <a:srgbClr val="9cc2e5"/>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Total</a:t>
                      </a:r>
                      <a:endParaRPr b="0" lang="en-US" sz="14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9360">
                      <a:solidFill>
                        <a:srgbClr val="9cc2e5"/>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654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No.</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9360">
                      <a:solidFill>
                        <a:srgbClr val="9cc2e5"/>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9360">
                      <a:solidFill>
                        <a:srgbClr val="9cc2e5"/>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No.</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9360">
                      <a:solidFill>
                        <a:srgbClr val="9cc2e5"/>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9360">
                      <a:solidFill>
                        <a:srgbClr val="9cc2e5"/>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No.</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9360">
                      <a:solidFill>
                        <a:srgbClr val="9cc2e5"/>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9360">
                      <a:solidFill>
                        <a:srgbClr val="9cc2e5"/>
                      </a:solidFill>
                    </a:lnT>
                    <a:lnB w="5760">
                      <a:solidFill>
                        <a:srgbClr val="bdd6ee"/>
                      </a:solidFill>
                    </a:lnB>
                    <a:no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Endocarditis previa</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7</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7,5</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3</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2,3</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0</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0,1</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Diabetes Mellitus</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Tahoma"/>
                          <a:ea typeface="Tahoma"/>
                        </a:rPr>
                        <a:t>10</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Tahoma"/>
                          <a:ea typeface="Tahoma"/>
                        </a:rPr>
                        <a:t>10,8</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Tahoma"/>
                          <a:ea typeface="Tahoma"/>
                        </a:rPr>
                        <a:t>10</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Tahoma"/>
                          <a:ea typeface="Tahoma"/>
                        </a:rPr>
                        <a:t>9,4</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Tahoma"/>
                          <a:ea typeface="Tahoma"/>
                        </a:rPr>
                        <a:t>20</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Tahoma"/>
                          <a:ea typeface="Tahoma"/>
                        </a:rPr>
                        <a:t>10,1</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Inmunodeprimidos</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24</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25,8</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9</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8,5</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33</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6,6</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Cardiopatías Congénitas</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0</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0,8</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6</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5,7</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6</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8,0</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r>
              <a:tr h="73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Enfermedad valvular cardíaca adquirida</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23</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24,7</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9</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7,9</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42</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21,1</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Prótesis Valvulares</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5</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6,1</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29</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27,4</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44</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22,1</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r>
              <a:tr h="73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Dispositivos cardioestimuladores</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0</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0,8</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23</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21,7</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33</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6,6</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IRC</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6</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6,5</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5</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4,7</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1</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5,5</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r>
            </a:tbl>
          </a:graphicData>
        </a:graphic>
      </p:graphicFrame>
      <p:sp>
        <p:nvSpPr>
          <p:cNvPr id="548" name="5 Rectángulo"/>
          <p:cNvSpPr/>
          <p:nvPr/>
        </p:nvSpPr>
        <p:spPr>
          <a:xfrm>
            <a:off x="468360" y="1187280"/>
            <a:ext cx="901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1933"/>
                </a:solidFill>
                <a:latin typeface="Arial"/>
                <a:ea typeface="Tahoma"/>
              </a:rPr>
              <a:t>Tabla 2. Distribución de los pacientes con endocarditis infecciosa que recibieron tratamiento médico o médico-quirúrgico según factores predisponentes. </a:t>
            </a:r>
            <a:endParaRPr b="0" lang="en-US" sz="1600" spc="-1" strike="noStrike">
              <a:solidFill>
                <a:srgbClr val="003366"/>
              </a:solidFill>
              <a:latin typeface="Arial"/>
            </a:endParaRPr>
          </a:p>
        </p:txBody>
      </p:sp>
      <p:sp>
        <p:nvSpPr>
          <p:cNvPr id="549" name="7 Rectángulo"/>
          <p:cNvSpPr/>
          <p:nvPr/>
        </p:nvSpPr>
        <p:spPr>
          <a:xfrm>
            <a:off x="611280" y="6402240"/>
            <a:ext cx="3024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Arial"/>
                <a:ea typeface="Tahoma"/>
              </a:rPr>
              <a:t>Fuente: Base de datos SPSS</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graphicFrame>
        <p:nvGraphicFramePr>
          <p:cNvPr id="551" name=""/>
          <p:cNvGraphicFramePr/>
          <p:nvPr/>
        </p:nvGraphicFramePr>
        <p:xfrm>
          <a:off x="441360" y="1979640"/>
          <a:ext cx="8448480" cy="4048200"/>
        </p:xfrm>
        <a:graphic>
          <a:graphicData uri="http://schemas.openxmlformats.org/drawingml/2006/table">
            <a:tbl>
              <a:tblPr/>
              <a:tblGrid>
                <a:gridCol w="2340000"/>
                <a:gridCol w="1144440"/>
                <a:gridCol w="1147680"/>
                <a:gridCol w="1146240"/>
                <a:gridCol w="1103400"/>
                <a:gridCol w="792360"/>
                <a:gridCol w="774360"/>
              </a:tblGrid>
              <a:tr h="639720">
                <a:tc row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Válvula afectada</a:t>
                      </a:r>
                      <a:endParaRPr b="0" lang="en-US" sz="14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grid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Tratamiento médico (n=93)</a:t>
                      </a:r>
                      <a:endParaRPr b="0" lang="en-US" sz="14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9360">
                      <a:solidFill>
                        <a:srgbClr val="9cc2e5"/>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Tratamiento médico-quirúrgico (n=106)</a:t>
                      </a:r>
                      <a:endParaRPr b="0" lang="en-US" sz="14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9360">
                      <a:solidFill>
                        <a:srgbClr val="9cc2e5"/>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Total</a:t>
                      </a:r>
                      <a:endParaRPr b="0" lang="en-US" sz="14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1933"/>
                          </a:solidFill>
                          <a:latin typeface="Tahoma"/>
                          <a:ea typeface="Tahoma"/>
                        </a:rPr>
                        <a:t>(n=199)</a:t>
                      </a:r>
                      <a:endParaRPr b="0" lang="en-US" sz="14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9360">
                      <a:solidFill>
                        <a:srgbClr val="9cc2e5"/>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654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No.</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9360">
                      <a:solidFill>
                        <a:srgbClr val="9cc2e5"/>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9360">
                      <a:solidFill>
                        <a:srgbClr val="9cc2e5"/>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No.</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9360">
                      <a:solidFill>
                        <a:srgbClr val="9cc2e5"/>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9360">
                      <a:solidFill>
                        <a:srgbClr val="9cc2e5"/>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No.</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9360">
                      <a:solidFill>
                        <a:srgbClr val="9cc2e5"/>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9360">
                      <a:solidFill>
                        <a:srgbClr val="9cc2e5"/>
                      </a:solidFill>
                    </a:lnT>
                    <a:lnB w="5760">
                      <a:solidFill>
                        <a:srgbClr val="bdd6ee"/>
                      </a:solidFill>
                    </a:lnB>
                    <a:noFill/>
                  </a:tcPr>
                </a:tc>
              </a:tr>
              <a:tr h="730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 </a:t>
                      </a:r>
                      <a:r>
                        <a:rPr b="0" lang="es-ES" sz="1600" spc="-1" strike="noStrike">
                          <a:solidFill>
                            <a:srgbClr val="001933"/>
                          </a:solidFill>
                          <a:latin typeface="Tahoma"/>
                          <a:ea typeface="Tahoma"/>
                        </a:rPr>
                        <a:t>Válvula nativa </a:t>
                      </a:r>
                      <a:endParaRPr b="0" lang="en-US" sz="16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 </a:t>
                      </a:r>
                      <a:r>
                        <a:rPr b="0" lang="es-ES" sz="1600" spc="-1" strike="noStrike">
                          <a:solidFill>
                            <a:srgbClr val="001933"/>
                          </a:solidFill>
                          <a:latin typeface="Tahoma"/>
                          <a:ea typeface="Tahoma"/>
                        </a:rPr>
                        <a:t>izquierda</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69</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74,2</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55</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51,9</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24</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62,3</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r>
              <a:tr h="730440">
                <a:tc>
                  <a:txBody>
                    <a:bodyPr lIns="68760" rIns="68760" tIns="0" bIns="0" anchor="ctr">
                      <a:noAutofit/>
                    </a:bodyPr>
                    <a:p>
                      <a:pPr marL="381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Válvula protésica precoz</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6</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6,5</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2</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11,3</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8</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9,0</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r>
              <a:tr h="730440">
                <a:tc>
                  <a:txBody>
                    <a:bodyPr lIns="68760" rIns="68760" tIns="0" bIns="0" anchor="ctr">
                      <a:noAutofit/>
                    </a:bodyPr>
                    <a:p>
                      <a:pPr marL="381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Válvula protésica tardía</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0</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0,8</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6</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15,1</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6</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3,1</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Derecha</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1</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5</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4,7</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6</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3,0</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Relacionada con DCEIs</a:t>
                      </a:r>
                      <a:endParaRPr b="0" lang="en-US" sz="1600" spc="-1" strike="noStrike">
                        <a:solidFill>
                          <a:srgbClr val="003366"/>
                        </a:solidFill>
                        <a:latin typeface="Arial"/>
                      </a:endParaRPr>
                    </a:p>
                  </a:txBody>
                  <a:tcPr anchor="t"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7</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7,5</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8</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ea typeface="Tahoma"/>
                        </a:rPr>
                        <a:t>17,0</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25</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1933"/>
                          </a:solidFill>
                          <a:latin typeface="Tahoma"/>
                          <a:ea typeface="Tahoma"/>
                        </a:rPr>
                        <a:t>12,6</a:t>
                      </a:r>
                      <a:endParaRPr b="0" lang="en-US" sz="1600" spc="-1" strike="noStrike">
                        <a:solidFill>
                          <a:srgbClr val="003366"/>
                        </a:solidFill>
                        <a:latin typeface="Arial"/>
                      </a:endParaRPr>
                    </a:p>
                  </a:txBody>
                  <a:tcPr anchor="ctr" marL="68760" marR="68760">
                    <a:lnL w="5760">
                      <a:solidFill>
                        <a:srgbClr val="bdd6ee"/>
                      </a:solidFill>
                    </a:lnL>
                    <a:lnR w="5760">
                      <a:solidFill>
                        <a:srgbClr val="bdd6ee"/>
                      </a:solidFill>
                    </a:lnR>
                    <a:lnT w="5760">
                      <a:solidFill>
                        <a:srgbClr val="bdd6ee"/>
                      </a:solidFill>
                    </a:lnT>
                    <a:lnB w="5760">
                      <a:solidFill>
                        <a:srgbClr val="bdd6ee"/>
                      </a:solidFill>
                    </a:lnB>
                    <a:noFill/>
                  </a:tcPr>
                </a:tc>
              </a:tr>
            </a:tbl>
          </a:graphicData>
        </a:graphic>
      </p:graphicFrame>
      <p:sp>
        <p:nvSpPr>
          <p:cNvPr id="552" name="Rectángulo 1"/>
          <p:cNvSpPr/>
          <p:nvPr/>
        </p:nvSpPr>
        <p:spPr>
          <a:xfrm>
            <a:off x="611280" y="5934240"/>
            <a:ext cx="45720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1933"/>
                </a:solidFill>
                <a:latin typeface="Arial"/>
                <a:ea typeface="Tahoma"/>
              </a:rPr>
              <a:t>Fuente: Base de datos SPSS</a:t>
            </a:r>
            <a:endParaRPr b="0" lang="en-US" sz="16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1933"/>
                </a:solidFill>
                <a:latin typeface="Arial"/>
                <a:ea typeface="Tahoma"/>
              </a:rPr>
              <a:t>Prueba Chi cuadrado, p = 0,020</a:t>
            </a:r>
            <a:endParaRPr b="0" lang="en-US" sz="1600" spc="-1" strike="noStrike">
              <a:solidFill>
                <a:srgbClr val="003366"/>
              </a:solidFill>
              <a:latin typeface="Arial"/>
            </a:endParaRPr>
          </a:p>
        </p:txBody>
      </p:sp>
      <p:sp>
        <p:nvSpPr>
          <p:cNvPr id="553" name="5 Rectángulo"/>
          <p:cNvSpPr/>
          <p:nvPr/>
        </p:nvSpPr>
        <p:spPr>
          <a:xfrm>
            <a:off x="468360" y="1163520"/>
            <a:ext cx="8807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1933"/>
                </a:solidFill>
                <a:latin typeface="Arial"/>
                <a:ea typeface="Tahoma"/>
              </a:rPr>
              <a:t>Tabla 3. Distribución de los pacientes con endocarditis infecciosa que recibieron tratamiento médico o médico-quirúrgico según válvula afectada.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31T16:23:37Z</dcterms:created>
  <dc:creator>invbio3</dc:creator>
  <dc:description/>
  <dc:language>en-US</dc:language>
  <cp:lastModifiedBy>Marian</cp:lastModifiedBy>
  <dcterms:modified xsi:type="dcterms:W3CDTF">2020-11-11T04:03:51Z</dcterms:modified>
  <cp:revision>103</cp:revision>
  <dc:subject/>
  <dc:title>PowerPoint Template</dc:title>
</cp:coreProperties>
</file>