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AC1B1-589C-433D-9753-90BEABF1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5F73F-2268-43C6-9B73-7DDD7F8F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470C0-5AD4-45A2-A804-6A1E9B79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BED75-B973-4C69-A6AD-A9BADDA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A9444-A281-44A1-9709-ACC41690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5DA04-89A5-48B5-A4A3-69101882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2F192-0E48-4CB0-A248-05CEE7E0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DBB7D-1957-46D6-9096-2CA0C63F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C5F07-D99B-4504-8962-0B735ACE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B6530-2A02-40BD-BC8E-B29A5A0F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7453C-323C-4E49-9FC4-251B1BD6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12F2E-3501-4B38-9817-57D5D7E9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83DE4-2109-4A05-9C91-0BD61B1E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746E9-1915-4630-87CF-DF0BC039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FAD8C-AC44-40A3-B38B-81E7729C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B5CA2-75F9-4D01-BD7F-EFFCAC5B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46942-CDA6-4562-ADE0-9854BB57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C495A-1D8E-428C-9F08-2BF187D3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71263-ADF7-47E3-AF62-04F626F8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49918-C3B1-4F62-A6D5-92723910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34C6B-22AA-4B73-B45A-5CB40055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E70FD-7032-410C-9F32-7857E1C8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7F46F-D65E-4FCF-B088-BD1AB664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B0240-D062-46D8-9780-C0D0641E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73913-26F8-4785-8DCF-E28F0F0A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66B1A-2925-4296-A70E-8A23C54B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E8F53-6A4E-4EFE-A707-09852EFC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2852D-16F4-403D-89B1-32F0ED11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875F0-2A5A-4844-9A1E-CD92D10B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B00A5-40B3-4414-872F-9EA6AC11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8CCC9-D4A7-4CB5-A767-C0B9D6DA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9001A-5A63-45C9-AB9E-0CF353D0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3EC9F-3E63-4A95-93AA-5626A7FD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DBD59-6A26-49E4-964B-70CE14E6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4506B-6F30-40EC-A6AD-4D1730C5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0DCF9-EDC2-41A1-9E22-ED10CE1C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8E8A9-CC96-454A-9940-156C1BF9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AB156-61DE-41DD-986F-61ABC27D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842ED-D2A9-4952-A252-CA61420C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80480-CC79-49A1-8548-F62126CE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127DA-7206-4FFD-832C-917C7F51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6E84E-1649-4BA6-9F31-A7F88FE4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4A434-98F6-46F0-8E6E-52935EE7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2FB7A-FA31-4405-974E-8E8C8706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F245C-E4B7-44E7-8BBC-732D0E41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C49-CF5A-4F13-8E79-C95E51A6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EE6-FD15-4905-9F05-A43268F2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4BE-20ED-4F62-B0E9-1B00605A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03A-5402-40A9-AE51-263C8EA3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219-07B8-4790-83C2-DE77FDB9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C84-6C1D-4B4D-9DF6-E7D89B77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CE4-5048-4698-A45B-7EABF017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2C0-E416-41D4-9063-DFEAF15E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BCC-9939-4B5C-8F3C-B6EE6901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CD7-E639-4EC4-AC26-BA6849DC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1BA-5715-4D45-9152-1135F338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D24-F63A-4542-866A-760B6EF6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8A14-C54D-4E0A-B001-80DE84EE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01B3-D84F-4935-909C-08F3E138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12FA-ED17-467B-A930-E5877A49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B6F1-4F84-41E5-B45D-0336DDD0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6468-2B03-4051-A22D-F1602BE5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1363-E175-4EB9-BA2D-30955692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7CF1-E60B-4C1F-B152-973F064E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6165-1FAC-4AC2-9547-3A0D7FB3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69AB-75C1-4B85-9E08-315EDBD9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2E67-E3B0-45CE-BD3E-FCE6008D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A23E-BE1A-4538-8675-F07B35BE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51CC-95AE-452F-871D-F936A805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6F6D3-C1E3-426A-AD50-8437C9C1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38A9-9511-42B3-ACF1-8EF931A0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6CF5-BE05-44EF-8A5A-E792B6A7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0C691-B939-44C7-B2A0-1418EA23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30871-ADC7-448E-8628-4B7E66C2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65FCC-60FB-4E64-B3CA-004B9689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07240-E0ED-43FF-9497-BBCFA32C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2F54-6674-4BD7-B1C7-D6083015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A16F2-2DAB-4AA5-B2FF-31648781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EB8A-E472-498A-B28E-0331593F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53FF-BEBE-486A-9A53-B89634B6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B354-530A-416A-94A4-F8357E30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FD03F-53DC-42EE-BE8A-E029E108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B06C0-86C2-45ED-854C-B9D737CE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19B1C-A725-42FE-A87F-0435227C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6B5A-F021-4B47-80B0-5EF1D5DC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154FB-AAF6-48A7-B4AB-9CC9A0D3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D2D96-3C3E-4B73-82AB-20BD0049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9474-9316-47B2-AE41-05F5F692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D166-5F70-4A49-A584-9CFF560B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3B2C-21A8-4345-A197-2805E718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A4F9E-A8C0-4E7E-B3FC-91D0520E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CA7CC-328C-42F4-B509-132CEA64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A9D06-F152-4651-81CC-C81CE584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B9E71-4A42-41E8-9D6B-DC133318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2FEE3-B0B9-4F19-B4C2-265C2270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B0323-A8C5-47E8-B70C-EE80507C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6BF3E-6F18-48DE-A0CF-5704C74F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04889-2E5D-409A-A14A-61637429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B54A3-60CE-4C8F-8007-B6E0C20B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0A1BC-77C6-4DAC-9732-76BE16DC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33D5E-FC6B-4F7F-9063-D35C7847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C3190-C132-4BD1-92E0-30DAD2DA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FE303-F347-4240-A221-B76AB4AB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6CB30-D8FF-4982-8D14-85A01232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FE8B4-3296-46EA-8353-EA550251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FBF8F-F09E-4131-BAC1-D1131489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48842-7AE9-408F-B345-45076791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6A01E-7B6A-472F-A6EF-F4BB5D68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E00D-ECC2-45D1-90FD-7DD6BBAD11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B122-0365-46CF-AF2A-F4EFA425BE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D6F1-9768-4E4C-A1F1-C5D95EFB6A29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102280" y="165240"/>
            <a:ext cx="362736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2B14-25ED-4813-924D-98F490715A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50CF-E25D-462A-9525-3DB6FBE893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A01-D3C7-4E72-B33F-A4A144B245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78E0-BFA8-4EA3-B8CD-ECA8CFD136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B4C2-6F2B-414F-8898-0E2520A26F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49E3-4ADD-4C51-BB67-B3ED7280FB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Verdana"/>
              </a:rPr>
              <a:t>JORNADA DE TEMAS TERMINADOS</a:t>
            </a:r>
            <a:br>
              <a:rPr sz="2800"/>
            </a:br>
            <a:br>
              <a:rPr sz="2800"/>
            </a:b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Predictores de mortalidad en pacientes con Insuficiencia Cardíaca y fracción de eyección preservada.</a:t>
            </a:r>
            <a:br>
              <a:rPr sz="20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94920" y="4005360"/>
            <a:ext cx="79930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utores: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Calibri"/>
              </a:rPr>
              <a:t>            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Yamile Roselló Azcanio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Caridad Chao Pereir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Angela Gutierrez Rojas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Kelly Espitia Cordero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</a:rPr>
              <a:t>Servicio Medicina Interna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</a:rPr>
              <a:t>La Habana, 2020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2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ultad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619280" y="2349360"/>
          <a:ext cx="5869080" cy="3146400"/>
        </p:xfrm>
        <a:graphic>
          <a:graphicData uri="http://schemas.openxmlformats.org/drawingml/2006/table">
            <a:tbl>
              <a:tblPr/>
              <a:tblGrid>
                <a:gridCol w="2060640"/>
                <a:gridCol w="882360"/>
                <a:gridCol w="809640"/>
                <a:gridCol w="1020960"/>
                <a:gridCol w="1095480"/>
              </a:tblGrid>
              <a:tr h="293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mento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do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=63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ificación estadístic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lecidos n=16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os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=47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ECA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(93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(80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(84,12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urético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(93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 (89,4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 (90,47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agonista aldosteron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(87,6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 (83,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(84,12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(25,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(27,7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 (26,9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A II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(12,.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2,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(4,76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(82,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 (59,6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(65,07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gita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(37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(25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(28,57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to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(12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(21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(19,94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</a:tbl>
          </a:graphicData>
        </a:graphic>
      </p:graphicFrame>
      <p:sp>
        <p:nvSpPr>
          <p:cNvPr id="548" name=""/>
          <p:cNvSpPr/>
          <p:nvPr/>
        </p:nvSpPr>
        <p:spPr>
          <a:xfrm>
            <a:off x="1513440" y="1557360"/>
            <a:ext cx="57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3366"/>
                </a:solidFill>
                <a:latin typeface="Verdana"/>
              </a:rPr>
              <a:t>Tabla 7. </a:t>
            </a:r>
            <a:r>
              <a:rPr b="0" lang="es-CR" sz="1600" spc="-1" strike="noStrike">
                <a:solidFill>
                  <a:srgbClr val="003366"/>
                </a:solidFill>
                <a:latin typeface="Verdana"/>
              </a:rPr>
              <a:t>Variables relacionadas con el tratamiento médic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ultad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835280" y="2565360"/>
          <a:ext cx="5294160" cy="3095640"/>
        </p:xfrm>
        <a:graphic>
          <a:graphicData uri="http://schemas.openxmlformats.org/drawingml/2006/table">
            <a:tbl>
              <a:tblPr/>
              <a:tblGrid>
                <a:gridCol w="1371600"/>
                <a:gridCol w="900000"/>
                <a:gridCol w="912960"/>
                <a:gridCol w="955800"/>
                <a:gridCol w="115380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orbilidades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do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=63 (%)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ificación estadístic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lecidos n=16 (%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os n=47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TA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(75,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(66,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 (68,2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M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(25,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(10,6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(23,8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lipidemia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(18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(6,4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(9,52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(37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(42,6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(41,26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OC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(25,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(17,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(19,04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(31,3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 (40,4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(38,09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emi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(43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(34,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(36,5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(31,3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(48,9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 (44,4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</a:tbl>
          </a:graphicData>
        </a:graphic>
      </p:graphicFrame>
      <p:sp>
        <p:nvSpPr>
          <p:cNvPr id="551" name=""/>
          <p:cNvSpPr/>
          <p:nvPr/>
        </p:nvSpPr>
        <p:spPr>
          <a:xfrm>
            <a:off x="1629720" y="1916280"/>
            <a:ext cx="56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3366"/>
                </a:solidFill>
                <a:latin typeface="Verdana"/>
              </a:rPr>
              <a:t>Tabla 8.  </a:t>
            </a:r>
            <a:r>
              <a:rPr b="0" lang="es-CR" sz="1600" spc="-1" strike="noStrike">
                <a:solidFill>
                  <a:srgbClr val="003366"/>
                </a:solidFill>
                <a:latin typeface="Verdana"/>
              </a:rPr>
              <a:t>Distribución de pacientes según comorbilidad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ultad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116000" y="2565360"/>
          <a:ext cx="6768720" cy="2541240"/>
        </p:xfrm>
        <a:graphic>
          <a:graphicData uri="http://schemas.openxmlformats.org/drawingml/2006/table">
            <a:tbl>
              <a:tblPr/>
              <a:tblGrid>
                <a:gridCol w="1397520"/>
                <a:gridCol w="1614600"/>
                <a:gridCol w="1157040"/>
                <a:gridCol w="1202040"/>
                <a:gridCol w="1397520"/>
              </a:tblGrid>
              <a:tr h="354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omorbilidade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stado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=63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sociación linea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52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allecido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 = 16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ivo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 = 47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ingun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 (18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2 (25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5 (23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= 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(43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5 (31,9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2 (34,9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 (12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2 (25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4 (22,2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 (12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 (12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8 (12,7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 (12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 (4,3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 (6,3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6 (10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7 (10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3 (10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4" name=""/>
          <p:cNvSpPr/>
          <p:nvPr/>
        </p:nvSpPr>
        <p:spPr>
          <a:xfrm>
            <a:off x="788040" y="1773360"/>
            <a:ext cx="75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Verdana"/>
              </a:rPr>
              <a:t>Tabla 9.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  Asociación lineal entre el número de comorbilidades y la mortalid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908000" y="2852640"/>
          <a:ext cx="5288040" cy="2278080"/>
        </p:xfrm>
        <a:graphic>
          <a:graphicData uri="http://schemas.openxmlformats.org/drawingml/2006/table">
            <a:tbl>
              <a:tblPr/>
              <a:tblGrid>
                <a:gridCol w="1098720"/>
                <a:gridCol w="630000"/>
                <a:gridCol w="420840"/>
                <a:gridCol w="749160"/>
                <a:gridCol w="684360"/>
                <a:gridCol w="895320"/>
                <a:gridCol w="809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egresión logística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g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ig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xp (B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95% I.C para Exp (B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ferior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perior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resencia de comorbilidad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,4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,5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,5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,3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dad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,0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,0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,0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,0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,1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onstante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5,7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,0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,0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2"/>
          <p:cNvSpPr/>
          <p:nvPr/>
        </p:nvSpPr>
        <p:spPr>
          <a:xfrm>
            <a:off x="1042920" y="1557360"/>
            <a:ext cx="72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Verdana"/>
              </a:rPr>
              <a:t>Tabla 10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. Regresión logística entre la presencia de comorbilidades, la edad y la mortalid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89240" y="54144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esul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lusion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9528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99190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3366"/>
                </a:solidFill>
                <a:latin typeface="Verdana"/>
              </a:rPr>
              <a:t>La edad constituyó un factor de riesgo para la mortalidad en la ICFEp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99190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CR" sz="1600" spc="-1" strike="noStrike">
                <a:solidFill>
                  <a:srgbClr val="003366"/>
                </a:solidFill>
                <a:latin typeface="Verdana"/>
              </a:rPr>
              <a:t>Las comorbilidades más frecuentes fueron HTA, ERC y la CI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99190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3366"/>
                </a:solidFill>
                <a:latin typeface="Verdana"/>
              </a:rPr>
              <a:t>La presencia de dislipidemia se asoció con mayor mortalidad en los pacientes estudiados.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99190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3366"/>
                </a:solidFill>
                <a:latin typeface="Verdana"/>
              </a:rPr>
              <a:t>Los diuréticos, IECAS y antagonistas de aldosterona fueron los fármacos de mayor indicación en los pacientes con ICFEp., sin que mostraran asociación con la mortalidad.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OBJETIVOS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755640" y="1612440"/>
            <a:ext cx="691344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152280" bIns="15228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Arial"/>
              </a:rPr>
              <a:t>GENERAL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O" sz="1600" spc="-1" strike="noStrike">
                <a:solidFill>
                  <a:srgbClr val="003366"/>
                </a:solidFill>
                <a:latin typeface="Arial"/>
              </a:rPr>
              <a:t>Evaluar predictores de mortalidad en pacientes con insuficiencia cardiaca con fracción de eyección preservad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Arial"/>
              </a:rPr>
              <a:t>ESPECÍFICOS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Identificar los factores demográficos y epidemiológicos que influyen en la mortal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Evaluar las comorbilidades y variables de laboratorio que influyen en la mortalid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Identificar las variables relacionadas con el tratamiento que influyan como factores pronósticos en la mortal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erial y métod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79280" y="134100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Verdana"/>
              </a:rPr>
              <a:t>DISEÑO METODOLÓGICO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99190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AR" sz="1600" spc="-1" strike="noStrike" u="sng">
                <a:solidFill>
                  <a:srgbClr val="003366"/>
                </a:solidFill>
                <a:uFillTx/>
                <a:latin typeface="Verdana"/>
              </a:rPr>
              <a:t>Tipo de estudio</a:t>
            </a:r>
            <a:r>
              <a:rPr b="1" lang="es-AR" sz="1600" spc="-1" strike="noStrike">
                <a:solidFill>
                  <a:srgbClr val="003366"/>
                </a:solidFill>
                <a:latin typeface="Verdana"/>
              </a:rPr>
              <a:t>: </a:t>
            </a:r>
            <a:r>
              <a:rPr b="1" lang="es-CR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Verdana"/>
              </a:rPr>
              <a:t>O</a:t>
            </a:r>
            <a:r>
              <a:rPr b="1" lang="es-CR" sz="1600" spc="-1" strike="noStrike">
                <a:solidFill>
                  <a:srgbClr val="003366"/>
                </a:solidFill>
                <a:latin typeface="Verdana"/>
              </a:rPr>
              <a:t>bservacional analítico de cohorte retrospectivo</a:t>
            </a:r>
            <a:r>
              <a:rPr b="1" lang="es-AR" sz="1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99190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3366"/>
                </a:solidFill>
                <a:uFillTx/>
                <a:latin typeface="Verdana"/>
              </a:rPr>
              <a:t>Universo</a:t>
            </a:r>
            <a:r>
              <a:rPr b="1" lang="es-ES" sz="1600" spc="-1" strike="noStrike">
                <a:solidFill>
                  <a:srgbClr val="003366"/>
                </a:solidFill>
                <a:latin typeface="Verdana"/>
              </a:rPr>
              <a:t>: Todos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los pacientes con insuficiencia cardiaca crónica con fracción de eyección mayor o igual a 50% y que cumplieron con los siguientes criterios de selección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erial y métod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68360" y="131400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3366"/>
                </a:solidFill>
                <a:uFillTx/>
                <a:latin typeface="Verdana"/>
              </a:rPr>
              <a:t>Criterios de inclusión: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99190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acientes mayores de 18 años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99190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acientes con diagnóstico de insuficiencia cardiaca según los criterios de Framinghan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99190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acientes con un estudio ecocardiográfico transtorácico con FEVI preservada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99190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acientes con  seguimiento estable en la consulta protocolo de insuficiencia cardiaca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99190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acientes que fallecieron por causa cardiovasculares</a:t>
            </a:r>
            <a:r>
              <a:rPr b="1" lang="es-ES" sz="1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3366"/>
                </a:solidFill>
                <a:uFillTx/>
                <a:latin typeface="Verdana"/>
              </a:rPr>
              <a:t>Criterios de exclusión: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99190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acientes que presentaron enfermedades oncológicas durante el estudio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ultad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547640" y="2349360"/>
          <a:ext cx="5916600" cy="3070080"/>
        </p:xfrm>
        <a:graphic>
          <a:graphicData uri="http://schemas.openxmlformats.org/drawingml/2006/table">
            <a:tbl>
              <a:tblPr/>
              <a:tblGrid>
                <a:gridCol w="1549440"/>
                <a:gridCol w="1023840"/>
                <a:gridCol w="1149480"/>
                <a:gridCol w="1023840"/>
                <a:gridCol w="117000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s sociodemográficas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do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=63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ificación estadística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lecido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=16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os n=47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o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culino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(50,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 (40,4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(42,9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enino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(50,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 (59,6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 (57,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r de la piel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anco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(61,9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(55,3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 (61,9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blanco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(18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(44,7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(38,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  promedio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10205"/>
                          </a:solidFill>
                          <a:latin typeface="Arial"/>
                          <a:ea typeface="Times New Roman"/>
                        </a:rPr>
                        <a:t>76,38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11,0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10205"/>
                          </a:solidFill>
                          <a:latin typeface="Arial"/>
                          <a:ea typeface="Times New Roman"/>
                        </a:rPr>
                        <a:t>69,57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11,1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,30±11,41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0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880200" y="1628640"/>
            <a:ext cx="69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3366"/>
                </a:solidFill>
                <a:latin typeface="Verdana"/>
              </a:rPr>
              <a:t>Tabla 1.- Distribución de pacientes según variables sociodemográfic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ultad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547640" y="2060640"/>
          <a:ext cx="5610240" cy="1457280"/>
        </p:xfrm>
        <a:graphic>
          <a:graphicData uri="http://schemas.openxmlformats.org/drawingml/2006/table">
            <a:tbl>
              <a:tblPr/>
              <a:tblGrid>
                <a:gridCol w="1390680"/>
                <a:gridCol w="847800"/>
                <a:gridCol w="911160"/>
                <a:gridCol w="1066680"/>
                <a:gridCol w="13939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ecedentes patológicos familiares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do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=63 (%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ificación estadística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lecidos n=16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os n=47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T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(50,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 (46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(47,6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(37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(25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(28,57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1619280" y="4437000"/>
          <a:ext cx="5608440" cy="1457280"/>
        </p:xfrm>
        <a:graphic>
          <a:graphicData uri="http://schemas.openxmlformats.org/drawingml/2006/table">
            <a:tbl>
              <a:tblPr/>
              <a:tblGrid>
                <a:gridCol w="1399680"/>
                <a:gridCol w="847800"/>
                <a:gridCol w="920880"/>
                <a:gridCol w="1036440"/>
                <a:gridCol w="140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óxicos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do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=63 (%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ificación estadístic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lecidos n=16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os n=47 (%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aquismo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(50,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 (46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 (30,1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cohol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6,3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(8,5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(7,93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,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>
            <a:off x="1048320" y="1484280"/>
            <a:ext cx="75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3366"/>
                </a:solidFill>
                <a:latin typeface="Verdana"/>
              </a:rPr>
              <a:t>Tabla 2. </a:t>
            </a:r>
            <a:r>
              <a:rPr b="0" lang="es-CR" sz="1600" spc="-1" strike="noStrike">
                <a:solidFill>
                  <a:srgbClr val="003366"/>
                </a:solidFill>
                <a:latin typeface="Verdana"/>
              </a:rPr>
              <a:t>Distribución de pacientes según antecedentes patológicos familiar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8600" y="3860640"/>
            <a:ext cx="68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3366"/>
                </a:solidFill>
                <a:latin typeface="Verdana"/>
              </a:rPr>
              <a:t>Tabla 3.</a:t>
            </a:r>
            <a:r>
              <a:rPr b="0" lang="es-CR" sz="1600" spc="-1" strike="noStrike">
                <a:solidFill>
                  <a:srgbClr val="003366"/>
                </a:solidFill>
                <a:latin typeface="Verdana"/>
              </a:rPr>
              <a:t> Distribución de pacientes según presencia de hábitos tóxic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ultad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476360" y="2708280"/>
          <a:ext cx="5976720" cy="2068560"/>
        </p:xfrm>
        <a:graphic>
          <a:graphicData uri="http://schemas.openxmlformats.org/drawingml/2006/table">
            <a:tbl>
              <a:tblPr/>
              <a:tblGrid>
                <a:gridCol w="1456200"/>
                <a:gridCol w="903240"/>
                <a:gridCol w="1166760"/>
                <a:gridCol w="1290600"/>
                <a:gridCol w="1159920"/>
              </a:tblGrid>
              <a:tr h="32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C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do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=63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ificación estadístic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lecidos n=16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os n=47 (%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o peso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0,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2,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1,6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=0,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o peso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(50,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(25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(</a:t>
                      </a:r>
                      <a:r>
                        <a:rPr b="0" lang="es-CR" sz="1200" spc="-1" strike="noStrike">
                          <a:solidFill>
                            <a:srgbClr val="010205"/>
                          </a:solidFill>
                          <a:latin typeface="Arial"/>
                          <a:ea typeface="Times New Roman"/>
                        </a:rPr>
                        <a:t>31,7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brepeso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(25,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(42,6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(38,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eso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(25,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(29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(28,6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9" name=""/>
          <p:cNvSpPr/>
          <p:nvPr/>
        </p:nvSpPr>
        <p:spPr>
          <a:xfrm>
            <a:off x="971280" y="1868400"/>
            <a:ext cx="58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3366"/>
                </a:solidFill>
                <a:latin typeface="Arial"/>
              </a:rPr>
              <a:t>Tabla 4.</a:t>
            </a:r>
            <a:r>
              <a:rPr b="0" lang="es-CR" sz="1600" spc="-1" strike="noStrike">
                <a:solidFill>
                  <a:srgbClr val="003366"/>
                </a:solidFill>
                <a:latin typeface="Arial"/>
              </a:rPr>
              <a:t> Distribución de pacientes según valoración nutricion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ultad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619280" y="2924280"/>
          <a:ext cx="5749920" cy="2367000"/>
        </p:xfrm>
        <a:graphic>
          <a:graphicData uri="http://schemas.openxmlformats.org/drawingml/2006/table">
            <a:tbl>
              <a:tblPr/>
              <a:tblGrid>
                <a:gridCol w="1598760"/>
                <a:gridCol w="990360"/>
                <a:gridCol w="630360"/>
                <a:gridCol w="809640"/>
                <a:gridCol w="635040"/>
                <a:gridCol w="10857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s química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do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ificación estadístic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lecido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=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D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o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=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D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globin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inin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ltrado glomerula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ucemi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stero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glicérido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>
            <a:off x="1555560" y="200988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3366"/>
                </a:solidFill>
                <a:latin typeface="Verdana"/>
              </a:rPr>
              <a:t>Tabla 5.</a:t>
            </a:r>
            <a:r>
              <a:rPr b="0" lang="es-CR" sz="1600" spc="-1" strike="noStrike">
                <a:solidFill>
                  <a:srgbClr val="003366"/>
                </a:solidFill>
                <a:latin typeface="Verdana"/>
              </a:rPr>
              <a:t> Variables de laborato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ultad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476360" y="2781360"/>
          <a:ext cx="6202080" cy="2734920"/>
        </p:xfrm>
        <a:graphic>
          <a:graphicData uri="http://schemas.openxmlformats.org/drawingml/2006/table">
            <a:tbl>
              <a:tblPr/>
              <a:tblGrid>
                <a:gridCol w="1348560"/>
                <a:gridCol w="1213560"/>
                <a:gridCol w="1283040"/>
                <a:gridCol w="1068480"/>
                <a:gridCol w="1288440"/>
              </a:tblGrid>
              <a:tr h="40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e funciona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do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=63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ificación estadística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68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lecidos n=16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os n=47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6,3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(8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(7,9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(37,5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 (46,8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 (44,4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(50,0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(38,3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(41,3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(6,3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(6,4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(6,3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8d08d"/>
                      </a:solidFill>
                    </a:lnL>
                    <a:lnR w="5760">
                      <a:solidFill>
                        <a:srgbClr val="a8d08d"/>
                      </a:solidFill>
                    </a:lnR>
                    <a:lnT w="5760">
                      <a:solidFill>
                        <a:srgbClr val="a8d08d"/>
                      </a:solidFill>
                    </a:lnT>
                    <a:lnB w="5760">
                      <a:solidFill>
                        <a:srgbClr val="a8d08d"/>
                      </a:solidFill>
                    </a:lnB>
                    <a:solidFill>
                      <a:srgbClr val="e2ef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1325880" y="1989000"/>
            <a:ext cx="62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3366"/>
                </a:solidFill>
                <a:latin typeface="Verdana"/>
              </a:rPr>
              <a:t>Tabla 6.</a:t>
            </a:r>
            <a:r>
              <a:rPr b="0" lang="es-CR" sz="1600" spc="-1" strike="noStrike">
                <a:solidFill>
                  <a:srgbClr val="003366"/>
                </a:solidFill>
                <a:latin typeface="Verdana"/>
              </a:rPr>
              <a:t> Distribución de pacientes según clase funcional (NYH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jclinint</cp:lastModifiedBy>
  <dcterms:modified xsi:type="dcterms:W3CDTF">2020-11-16T21:24:46Z</dcterms:modified>
  <cp:revision>88</cp:revision>
  <dc:subject/>
  <dc:title>PowerPoint Template</dc:title>
</cp:coreProperties>
</file>