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A8B91-B63F-4444-924B-D1921479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36868-4814-4FDE-8243-89915438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08991-F975-4FCD-8540-7CCB460D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0A7CA-16EF-459B-9D31-8F8D984D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0BA49-3963-4377-A850-FE689D09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BB708-B8AE-4EB0-9169-6C4A3FF0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783BE-FC60-476B-8552-65E7F324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27E6E-3067-4F3D-A0C9-1E007365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4DA31-E639-4D9A-933A-98BDEE87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4EF4C-8064-400A-915D-811B7AA3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301FF-A9AB-48A7-93C5-C575E5E1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CF080-E273-48FC-9652-28C3DCC9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EF302-828E-4C3A-B586-8A48AAE2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24633-CC4A-4223-AD30-8460E71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85232-6292-49F7-9EB0-C8000EDB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9E55A-F9E5-4FAC-A0CF-C1B2B95D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91CF3-B5A4-483D-9F88-B26350E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6B863-7D2B-4D38-ABB7-7E782CCF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93A20-0A8C-4DB2-B30C-C5C259CB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3E88F-1348-4748-850D-F36B3072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CEFF8-6E87-424F-9104-53080591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248C1-AF01-4947-B3AC-29F9462F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D28EA-A491-4EF4-98A1-3DE24285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BA2CD-400C-4210-A3DA-FED4313F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B14B1-8A23-4138-B066-FFC8DC7B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BE3F0-3683-4FE1-9AE5-1AA93501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D6C3A-44F1-4AE8-9031-6B1B99B4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1F045-C4E8-41D9-97D8-4C291171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5A699-F8B3-41CA-AC4F-9455B0A3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6AAA3-659C-4639-A5CE-7A769E16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B1609-8C6D-43D1-B9D0-5B9DAF3E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F47A8-1DA2-4AEC-824E-B34BFC19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DA74D-BFB7-4168-BEA3-D648174C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645DE-37FD-452D-BFF0-A1DBBB4E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95D44-0952-468C-A126-20425D1C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43913-DC23-4EE8-B211-E9121F0C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BBCEE4-33EA-4C57-9616-E78D0DAF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D93D5-E718-45D7-8E7D-D6DC451A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112A1-8608-4C35-AC2F-AE939C68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8B7D0-0DF1-4611-94B4-3026DCFC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39A52-C654-4671-B900-9AC84913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49514-B5CA-4C55-B57D-7A2B76D8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68941-DC78-4764-B193-EC4E5FE9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C6B83-F1A9-4AA2-8F56-323EB9EF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39DE0-D3B7-4D3A-A104-C6F43F61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EC82-37B6-494A-8783-AA8024CC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524-3B45-4E1D-B096-24F0C7BA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C01-60B7-4496-AE26-4492B4BEE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CB8-367E-4E35-81D8-C45836EC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505B-D7A8-4A7A-B6B5-DF13A725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2EF-0DFC-4E0C-B9FC-7A27AB4E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1BA-4DB7-478F-BFBD-C02F27DF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8D9F-CA0F-4C79-BC9A-4099AAF9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2AF-E242-41F2-BEC8-6AD8ADFB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5AB-7C61-41B1-91CE-18A8B91F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5BC-C214-486A-AF2A-D5B795E7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8C2-064F-4462-914A-311954D87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9171-BF4C-41E1-A3AC-BDFF2651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97AB-43ED-471E-BB34-44C3055C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8F15-B89A-482F-A3DD-DE7F60F3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95D9-0C13-405B-BDE6-52550BBB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ED0C-5733-4262-B8F1-E4E3D074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1BD3-E6AF-4BA5-8CC1-4EDFF4CC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D743-75AF-470F-9182-C0B456C4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FC96-90D6-4F58-822F-FBF3166A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3041-343F-4FDD-8AF7-55E4FB60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9B60-A335-4F31-956B-410297D5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F232-8583-4102-8047-268929B7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BF84-DDC0-49D4-B343-4F7A1C14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95B3-E120-4B8E-A148-7633556E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C078B-D596-4A39-AF9A-346240AE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EBC83-2A33-4644-86DE-8AFF8A28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F667D-B052-457D-A439-E37320E3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483E-7949-482D-BD5E-59E9C6F6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DFCF-C0F1-47F5-A50B-7B901C0B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7088-0326-4F26-B7D7-E2852480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D6B2-8084-4ECE-924D-A547E538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28DC-B923-4679-A597-FC2EBE29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1263-BB6F-4C80-8853-E13B743E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01644-5B4A-4A0E-8A77-FEBE4A10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922C-FC17-4536-96F2-22B76C6E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06FC-831A-4B55-92EE-730577C7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6AB46-BC0B-4CF9-BDB4-79A698DD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9584D-64CB-455E-A50C-77B614C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53CF7-CCAB-4524-8251-3D665BA2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EEA70-88E3-4493-8E04-C77890F1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4736D-0EE3-4203-80B6-8E389DCB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5055A-772E-4EEA-9879-1BC28F3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9DCAA-5411-4248-B9AE-EEF0A7FC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42EAD-40C8-4947-9837-EB639AE8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84327-8923-4E89-B011-441C91A9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3A99B-CF99-4C39-9592-2CFC3F28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753AE-425A-4FCE-8319-7722AA5B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AA179-2A9C-4B40-B1A0-48C46A68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54720-6031-427D-8C6A-E20DCE1F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E6329-0CF9-43A0-99F5-FA0EF4D7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C8D87-0455-4DB7-8E5D-D03A916B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1DB36-C789-4C93-AE67-A97A4EC3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EB1FD-39CF-43A7-A9FB-00917DD6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1F534-0C1C-40F2-8AC0-131290BC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E76A0-7C9C-47EB-AA5E-08E0551E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2D245-DDE1-448F-A85E-A3F4AF58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8F05-AF4F-4979-B0DA-89C69EB2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39BD2-8E5A-4FA3-BE0B-91D81D66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BFBF6-3A48-47A3-8EA5-F37DAB18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2EC67-847C-424B-B49F-300D6D11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477A7-7E65-44A7-8594-31F933AB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8072C-7D69-4DD8-9953-CB1D66C9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127C-4713-4D0A-9270-CA48CD8AAB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93CC-B733-4C92-996F-7D048D4064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257A-1BFA-449B-8115-2924EAB810B4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905E-9C14-4677-AABD-3037768BE9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86FF-0D56-4DC7-AC1E-7959D3D0A0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34E7-EEBD-4531-9E54-E67A313F6F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4683-8E07-44A4-BAEB-FDC32415F1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7356-D677-45DE-A546-56CA4525C6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E92D-30FC-4712-9CF7-577A1C1A1E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1498320"/>
            <a:ext cx="84247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3366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TITULO: </a:t>
            </a:r>
            <a:r>
              <a:rPr b="1" i="1" lang="es-ES" sz="3200" spc="-1" strike="noStrike">
                <a:solidFill>
                  <a:srgbClr val="ffffff"/>
                </a:solidFill>
                <a:latin typeface="Calibri"/>
                <a:ea typeface="Calibri"/>
              </a:rPr>
              <a:t>Trombosis en pacientes con mieloma múltiple tratados con Talidomida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4560" y="4076280"/>
            <a:ext cx="842652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  </a:t>
            </a:r>
            <a:r>
              <a:rPr b="1" i="1" lang="en-US" sz="1700" spc="-1" strike="noStrike">
                <a:solidFill>
                  <a:srgbClr val="003366"/>
                </a:solidFill>
                <a:latin typeface="Calibri"/>
                <a:ea typeface="Calibri"/>
              </a:rPr>
              <a:t>Dr. Jose Carnot Uria</a:t>
            </a:r>
            <a:endParaRPr b="1" lang="en-US" sz="17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. Dayagnis González Cardoso   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. Jorge Muñio  Peruren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. Calixto  Hernández Cruz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. Oliday Rios Jiménez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. Yusaima Rodriguez Frag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 Aliette García García   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 Kali Cepero Cepero Llauger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          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Dra Karina Pardo Ramírez           </a:t>
            </a:r>
            <a:r>
              <a:rPr b="1" i="1" lang="en-US" sz="1800" spc="-1" strike="noStrike">
                <a:solidFill>
                  <a:srgbClr val="003366"/>
                </a:solidFill>
                <a:latin typeface="Berlin Sans FB Demi"/>
                <a:ea typeface="Calibri"/>
              </a:rPr>
              <a:t>Servicio de Hematologia La Habana, 2020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2" name="table" descr=""/>
          <p:cNvPicPr/>
          <p:nvPr/>
        </p:nvPicPr>
        <p:blipFill>
          <a:blip r:embed="rId1"/>
          <a:stretch/>
        </p:blipFill>
        <p:spPr>
          <a:xfrm>
            <a:off x="639720" y="1916280"/>
            <a:ext cx="7864560" cy="40798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1"/>
          <p:cNvSpPr/>
          <p:nvPr/>
        </p:nvSpPr>
        <p:spPr>
          <a:xfrm>
            <a:off x="771480" y="136872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Características  de los pacientes que presentaron trombo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48888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5" name="table" descr=""/>
          <p:cNvPicPr/>
          <p:nvPr/>
        </p:nvPicPr>
        <p:blipFill>
          <a:blip r:embed="rId1"/>
          <a:stretch/>
        </p:blipFill>
        <p:spPr>
          <a:xfrm>
            <a:off x="539640" y="1419120"/>
            <a:ext cx="7931160" cy="503424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1"/>
          <p:cNvSpPr/>
          <p:nvPr/>
        </p:nvSpPr>
        <p:spPr>
          <a:xfrm>
            <a:off x="1106640" y="1156680"/>
            <a:ext cx="6930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Características clínico-biológicas e incidencia de </a:t>
            </a:r>
            <a:r>
              <a:rPr b="1" lang="es-ES" sz="1400" spc="-1" strike="noStrike">
                <a:solidFill>
                  <a:srgbClr val="00000a"/>
                </a:solidFill>
                <a:latin typeface="Arial"/>
                <a:ea typeface="SimSun"/>
              </a:rPr>
              <a:t> </a:t>
            </a:r>
            <a:r>
              <a:rPr b="1" lang="es-ES" sz="1400" spc="-1" strike="noStrike">
                <a:solidFill>
                  <a:srgbClr val="003366"/>
                </a:solidFill>
                <a:latin typeface="Arial"/>
                <a:ea typeface="Times New Roman"/>
              </a:rPr>
              <a:t>trombosis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CONCLUSIONES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Los pacientes con MM incluidos en el estudio están caracterizados por el predominio de los  mayores de 60 años de edad y de etapas avanzadas de la enfermedad (estadio III)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El uso de talidomida   incrementa el riesgo de eventos trombóticos venosos con una frecuencia de 10.8% en nuestra serie, los cuales se presentan aproximadamente al año del tratamiento.</a:t>
            </a: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De las variabes estudiadas la edad mayor de 60 años fue el único factor de riesgo asociado los eventos trombóticos que mostró una significación estadística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farmaco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con mayor frecuencia asociado a la Talidomida  y trombosis fue la dexametasona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285840" y="3949920"/>
            <a:ext cx="85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ENDACIONES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tener la utilización de la Talidomida en la  terapéutica del  MM con la administración de ASA como tromboprofilaxis.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vulgar los resultados obtenidos en el presente estudio para alertar a los médicos que tratan a este tipo de paciente sobre los riesgos de trombosis e incrementar el monitoreo de los eventos trombóticos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Rectangle 1"/>
          <p:cNvSpPr/>
          <p:nvPr/>
        </p:nvSpPr>
        <p:spPr>
          <a:xfrm>
            <a:off x="285840" y="3949920"/>
            <a:ext cx="85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ENDACIONES cont.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ar esta línea de investigación para incrementar el  número de casos y estudiar, además de la frecuencia y características de la trombosis,  otros aspectos como serian: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influencia de los eventos trombóticos en la mortalidad y sobrevida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esquemas de profilaxis antitrombótica, evaluando su  toxicidad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r otros factores de riesgo clínicos-biológicos-terapéuticos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Mieloma Múltiple (MM): es la segunda neoplasia hematológica más frecuente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En las últimas dos décadas se ha producido una mejoría progresiva de la  supervivencia  debido a la incorporación de nuevas drogas  y del trasplante de células progenitoras hematopoyéticas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La talidomida como un agente antimielomatoso fue probado por primera vez en 1999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33776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Las trombosis venosas y los eventos tromboembólicos  han emergido como las complicaciones aislada más importantes de la talidomida en el MM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En el Servicio de Hematología , la talidomida fue introducida progresivamente en el tratamiento del MM a partir de marzo del 2006</a:t>
            </a:r>
            <a:r>
              <a:rPr b="1" lang="es-ES" sz="2800" spc="-1" strike="noStrike" baseline="30000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    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OBJETIVOS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a"/>
                </a:solidFill>
                <a:latin typeface="Arial"/>
                <a:ea typeface="SimSun"/>
              </a:rPr>
              <a:t>GENERAL</a:t>
            </a:r>
            <a:r>
              <a:rPr b="0" lang="es-ES" sz="2400" spc="-1" strike="noStrike">
                <a:solidFill>
                  <a:srgbClr val="00000a"/>
                </a:solidFill>
                <a:latin typeface="Arial"/>
                <a:ea typeface="SimSun"/>
              </a:rPr>
              <a:t>: Determinar  la frecuencia y características de eventos trombóticos en  pacientes con diagnóstico de MM tratados con talidomida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SimSun"/>
              </a:rPr>
              <a:t>ESPECÍFICO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SimSun"/>
              </a:rPr>
              <a:t>1. Describir las características clínicas-biológicas de los pacientes incluidos en el estudio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SimSun"/>
              </a:rPr>
              <a:t>2. Identificar la frecuencia de eventos trombóticos, tiempo de aparición posterior al tratamiento y localización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  <a:ea typeface="SimSun"/>
              </a:rPr>
              <a:t>3. Evaluar la posible relación entre las características clínico-biológicas de los pacientes, los fármacos asociados a la talidomida y la aparición de eventos trombótico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 Y METODOS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udio descriptivo retrospectivo en el Servicio de Hematología del HHA, en el periodo comprendido entre 2006 y 2016.</a:t>
            </a:r>
            <a:r>
              <a:rPr b="1" lang="es-ES" sz="28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Arial"/>
                <a:ea typeface="Arial"/>
              </a:rPr>
              <a:t>Universo: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todos los pacientes con diagnóstico de MM tratados con talidomida.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Arial"/>
                <a:ea typeface="Arial"/>
              </a:rPr>
              <a:t>Muestra: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  <a:ea typeface="Arial"/>
              </a:rPr>
              <a:t> 65 pacientes que cumplieron con los criterios de selección establecidos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VARIABLES ESTUDIADAS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Edad,sexo,antecedentes patológicos personale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Variedad inmunológica,estadío al diagnóstico (Durie y Salmon)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Calcio sérico, proteínas totales,creatinina,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Terapéutica concomitante, presencia de trombosis, sitios de trombosis y tiempo de aparición de los eventos trombóticos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DOSIS DE TALIDOMIDA: 100mg/día según protocolo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TROMBOPROFILAXIS: Aspirina (ASA) 125mg/día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3366"/>
                </a:solidFill>
                <a:latin typeface="Arial"/>
                <a:ea typeface="Arial"/>
              </a:rPr>
              <a:t>RESULTADOS</a:t>
            </a:r>
            <a:endParaRPr b="1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6" name="table" descr=""/>
          <p:cNvPicPr/>
          <p:nvPr/>
        </p:nvPicPr>
        <p:blipFill>
          <a:blip r:embed="rId1"/>
          <a:stretch/>
        </p:blipFill>
        <p:spPr>
          <a:xfrm>
            <a:off x="1547640" y="1809720"/>
            <a:ext cx="6193080" cy="4498920"/>
          </a:xfrm>
          <a:prstGeom prst="rect">
            <a:avLst/>
          </a:prstGeom>
          <a:ln w="0">
            <a:noFill/>
          </a:ln>
        </p:spPr>
      </p:pic>
      <p:sp>
        <p:nvSpPr>
          <p:cNvPr id="537" name="1 Rectángulo"/>
          <p:cNvSpPr/>
          <p:nvPr/>
        </p:nvSpPr>
        <p:spPr>
          <a:xfrm>
            <a:off x="1187280" y="1341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aracterísticas  generales  de los pacientes estudi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1143000" y="2451240"/>
            <a:ext cx="6858000" cy="3786120"/>
          </a:xfrm>
          <a:prstGeom prst="rect">
            <a:avLst/>
          </a:prstGeom>
          <a:ln w="0">
            <a:noFill/>
          </a:ln>
        </p:spPr>
      </p:pic>
      <p:sp>
        <p:nvSpPr>
          <p:cNvPr id="540" name="1 Rectángulo"/>
          <p:cNvSpPr/>
          <p:nvPr/>
        </p:nvSpPr>
        <p:spPr>
          <a:xfrm>
            <a:off x="2286000" y="1557360"/>
            <a:ext cx="516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Arial"/>
              </a:rPr>
              <a:t>Distribución de los pacientes según incidencia de evento trombót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José Carnot</cp:lastModifiedBy>
  <dcterms:modified xsi:type="dcterms:W3CDTF">2020-11-17T06:31:57Z</dcterms:modified>
  <cp:revision>98</cp:revision>
  <dc:subject/>
  <dc:title>PowerPoint Template</dc:title>
</cp:coreProperties>
</file>