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dt" idx="28"/>
          </p:nvPr>
        </p:nvSpPr>
        <p:spPr>
          <a:xfrm>
            <a:off x="4022280" y="0"/>
            <a:ext cx="3078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Img"/>
          </p:nvPr>
        </p:nvSpPr>
        <p:spPr>
          <a:xfrm>
            <a:off x="1526760" y="1123560"/>
            <a:ext cx="404820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ftr" idx="29"/>
          </p:nvPr>
        </p:nvSpPr>
        <p:spPr>
          <a:xfrm>
            <a:off x="0" y="8540280"/>
            <a:ext cx="30780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 type="sldNum" idx="30"/>
          </p:nvPr>
        </p:nvSpPr>
        <p:spPr>
          <a:xfrm>
            <a:off x="4022280" y="8540280"/>
            <a:ext cx="307836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EE9E-9B3F-48B6-8374-713C6FE31E9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527120" y="1123920"/>
            <a:ext cx="4048200" cy="30351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09200" y="4327560"/>
            <a:ext cx="56833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Marcador de número de diapositiva 3"/>
          <p:cNvSpPr/>
          <p:nvPr/>
        </p:nvSpPr>
        <p:spPr>
          <a:xfrm>
            <a:off x="4022640" y="8540640"/>
            <a:ext cx="3078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432-78B8-453B-A10B-1840218485BD}" type="slidenum">
              <a:rPr b="0" lang="es-E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2A48-EFBB-414F-A416-4327C9A1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247A6-38D0-4F0C-9DAD-EE334936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C426D-E424-4F23-8873-B048F69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EF100-F8CF-4AA5-AFF7-F6F34E2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AF65E-288C-40BB-8073-D2FE645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9DBE-EE4D-4C1F-9DE7-D4F9DCF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21C05-5059-4F3E-9552-EFA305CA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17F61-F415-45FE-AF13-5B9FA6B9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14A09-BF0A-4358-BF1F-4F679217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999F0-D983-43BB-A6A1-8A4AC9D4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97831-47CB-452D-B87A-1BA41BF1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AC681-6B1F-4A85-BE4F-7499867A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37DA-E55F-4E5D-806F-B955514A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49F85-7F93-42CC-84FC-C85D62D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94EE-4511-4A81-AB9D-8230AE17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A1897-1069-480C-B2AB-8D1DD4F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BE71A-BDDD-45ED-AF7A-A377D56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66E0C-514A-4539-9931-E5A14E3A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72E83-570E-430C-B8EA-CB40E21B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5114E-1E7F-4DF7-AD1A-074A1565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E6498-6FD3-4F1F-A170-4EE19E27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077BA-C207-46C5-AE5F-70986505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B7918-D05B-4725-8754-1605F98B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49A93-AB89-4FC6-BF98-71CBC740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D0755-F1FA-4E26-8882-7F4E8A47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C217-C2F9-44F3-A215-860DDE22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9738D-D5EC-45D2-8200-47D8FA2B1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A3E3E-74EA-4E08-8144-B723001D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A7C8F-FFBD-4F04-A075-A28725A6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97B4-FCB7-4E60-B932-57325F21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F9F44-403F-410B-9B0F-B407DE48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8639-64F8-4455-BA18-51DA7A0D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D36D-96BB-4CA9-ACBB-4AB9EA19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051AE-2421-463C-A075-79BC3B9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38D3C-D838-439A-8BF3-4A4037D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931E0-C819-4CC9-97D9-B7739E25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7D796-B77B-4262-9707-8CB3D0D4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7E79B-6B46-4707-B0A4-78E12704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21990-198A-409F-ADE2-98A6DF81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314D2-4787-4F45-B03C-7A009878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A1667-8797-4FC7-8C34-CD7FFF6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5C872-BDB4-4F46-BA81-37CAD1D5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9E3BA-FA62-4FD2-B2D6-C56DF136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75AA2-AB55-442B-A497-5BE4EF79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5DA6C-63C8-41E8-9EFB-4803B4F7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242-07D3-4B48-9FB2-7F599D75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422-0FBA-4ED7-9BDF-1CA124F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74D0-3D14-4685-9CFD-B12C21D6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DBA-F286-47DD-AB56-9F266C4C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5D6-4CE1-41DD-8E11-83819F26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DF9-3B86-4AA8-A46F-9FF54E61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2172-5290-4B24-AB95-8EEB3B5E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506-3D97-4628-9034-365AEBBE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726-C047-401F-B799-BBD22B1B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FEF-43E4-4C3D-AB6E-0F0C5FFC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845-5D75-4D0E-A2CB-441B5D96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FCA-5978-4076-A2E2-8BDC17E1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872A-56C2-47BB-A58D-7D49BA5C4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76E3-53D1-4099-A7C6-2469FACB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C333-E9DA-4BDC-A551-DA72C7AF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362E-9E76-447D-95F9-9131B683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19E3-885D-4D2A-B93D-ED212361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E0D1-48EE-4922-8B00-8E719D52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C3F8-2B5A-4F06-874F-4738FDBF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8ABC-33F4-475A-986A-DC1F477F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BE1C-C15C-431C-86C3-7837885D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71C6-3276-4931-9809-4FCFB46C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CA1D-7F61-4213-A1FE-F8BEA1D6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8DC8-5777-4B81-A005-2AB8FC433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E845-F074-432B-8E57-5B5179AD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853B-42D2-4B68-9B4B-68C89AEA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B9E21-C600-4ED1-9E7C-17A18815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9804-3313-42B5-92F6-841D50E0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48B7-3F0B-4FC9-A7D0-F3D72566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3660-F83A-480F-BC85-50FB21C1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7845-78A3-4AEE-BBCD-578D3682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C8029-989C-441A-86DF-E7D2DFAE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8AB2-AB9B-449D-BBA8-7378126D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D0DC4-50CC-4091-8BCA-68F087C6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6CDF-6243-4DB7-B8E7-6CDCA1F7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8451-7781-45E1-A772-93E83AB1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F65E-E178-4449-86C9-5D31F2D3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41CB-D893-4A94-9FC7-1513408A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B9ACB-19EE-445F-9111-C4385280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B7A26-809D-4CE7-8478-5B3B0C0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D8909-90B2-4BC6-B175-D1998BE2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C657A-3503-48DA-B2FA-AF900D10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80DC-AE16-450E-85B0-CB4B670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103A7-EBFC-4383-88DB-C504D75E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040D6-3ECD-473C-944F-1CFB099B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F2B7-72F0-4A30-8E13-6F1DA46D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4C8C-380A-43EB-A55A-3792CF04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E80E9-35B0-4AB2-8B99-5654EB24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FB55E-2D3A-4387-BAC0-F93613DC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4839-A15B-4720-B5F8-7256EA70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44737-239D-4942-B1FE-B8F140CD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A5B6-2F71-4B81-9B40-4E4BE256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CEDDA-5EC0-4127-9C49-FC9156E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9A08-F8F3-4E62-91EF-5E94F71A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30DE-8A15-4862-B878-EE8317A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FB98D-CAC4-4BCD-8106-14D8DB3D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FCBF6-7E30-41D9-9267-C61DB4CA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EE03-9F5E-4547-9A38-CCC29447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1B698-D1BF-4552-9EE2-AA9B9AC6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87AE-4937-48B3-8D50-1639D43E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F270C-114D-4384-8696-15D2CDC7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CA6C-F16A-4A6F-B29D-88A01115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B586-7D4D-40E2-B9F2-EE46EE35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61DC-F029-48EB-8020-1E2ED1D04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9989-E696-458B-A4F1-FC269044C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660E-633F-498C-BC49-08F5F980FD6E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095800" y="165240"/>
            <a:ext cx="363384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6DD2-3D52-4961-B20B-1099FF5B14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C17F-2AA8-432F-B085-562C994A99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05CC-021F-46AA-9163-B79609F5A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D060-B7C1-4C64-B1AA-327C9F1327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0783-7C84-48F4-A58A-0C838756C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64360" y="-6480"/>
            <a:ext cx="920880" cy="1371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B85-730E-44E4-A7C1-E0D50787FF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3068280"/>
            <a:ext cx="84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3366"/>
                </a:solidFill>
                <a:latin typeface="Agency FB"/>
              </a:rPr>
              <a:t>Título: VARIABLES CLÍNICAS EN EL ESTUDIO DE LINFOMAS CON COMPROMISO MEDIASTINAL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</a:t>
            </a:r>
            <a:r>
              <a:rPr b="1" i="1" lang="es-ES" sz="1600" spc="-1" strike="noStrike">
                <a:solidFill>
                  <a:srgbClr val="003366"/>
                </a:solidFill>
                <a:latin typeface="Agency FB"/>
              </a:rPr>
              <a:t>: Dr. Yoendris García Casadevall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gency FB"/>
              </a:rPr>
              <a:t>                        </a:t>
            </a:r>
            <a:r>
              <a:rPr b="1" i="1" lang="es-ES" sz="1600" spc="-1" strike="noStrike">
                <a:solidFill>
                  <a:srgbClr val="003366"/>
                </a:solidFill>
                <a:latin typeface="Agency FB"/>
              </a:rPr>
              <a:t>Dra. Tania Hidalgo Cost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gency FB"/>
              </a:rPr>
              <a:t>                        </a:t>
            </a:r>
            <a:r>
              <a:rPr b="1" i="1" lang="es-ES" sz="1600" spc="-1" strike="noStrike">
                <a:solidFill>
                  <a:srgbClr val="003366"/>
                </a:solidFill>
                <a:latin typeface="Agency FB"/>
              </a:rPr>
              <a:t>Dra. Beatriz I. Stusser Iglesias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3366"/>
                </a:solidFill>
                <a:latin typeface="Agency FB"/>
              </a:rPr>
              <a:t>                       </a:t>
            </a:r>
            <a:r>
              <a:rPr b="1" i="1" lang="es-MX" sz="1600" spc="-1" strike="noStrike">
                <a:solidFill>
                  <a:srgbClr val="003366"/>
                </a:solidFill>
                <a:latin typeface="Agency FB"/>
              </a:rPr>
              <a:t>Dr. Fabián Andrés López Amezquit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Servicio Medicina Interna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9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84240" y="1481040"/>
          <a:ext cx="4602240" cy="5405400"/>
        </p:xfrm>
        <a:graphic>
          <a:graphicData uri="http://schemas.openxmlformats.org/drawingml/2006/table">
            <a:tbl>
              <a:tblPr/>
              <a:tblGrid>
                <a:gridCol w="1265040"/>
                <a:gridCol w="1265400"/>
                <a:gridCol w="1265040"/>
                <a:gridCol w="806760"/>
              </a:tblGrid>
              <a:tr h="45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ondición asocia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resent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Frecuencia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orciento%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99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rrame pleur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bilater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8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rrame pleural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5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rrame pleur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izquierd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7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erram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pericárdic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81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Adenopatía intra y/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retroperitoni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3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6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sa mediastin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ayor de 10 c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0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7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5" name="Rectángulo 4"/>
          <p:cNvSpPr/>
          <p:nvPr/>
        </p:nvSpPr>
        <p:spPr>
          <a:xfrm>
            <a:off x="262080" y="111132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1f497d"/>
                </a:solidFill>
                <a:latin typeface="Arial"/>
                <a:ea typeface="Cambria"/>
              </a:rPr>
              <a:t>Tabla 4 Condición asoci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Rectángulo 5"/>
          <p:cNvSpPr/>
          <p:nvPr/>
        </p:nvSpPr>
        <p:spPr>
          <a:xfrm>
            <a:off x="4686480" y="2924280"/>
            <a:ext cx="406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Cambria"/>
              </a:rPr>
              <a:t>. De esta forma se encontró que las adenopatías intra o retroperitoneales fueron las más frecuentes estando presentes en el 23,3 % de los casos, en el 20,9 % la lesión mediastinal fue mayor de 10 cm, además el derrame pericárdico se encontró en el 18,6 % de los pacien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179280" y="1755720"/>
          <a:ext cx="4608720" cy="3081240"/>
        </p:xfrm>
        <a:graphic>
          <a:graphicData uri="http://schemas.openxmlformats.org/drawingml/2006/table">
            <a:tbl>
              <a:tblPr/>
              <a:tblGrid>
                <a:gridCol w="1536840"/>
                <a:gridCol w="1535040"/>
                <a:gridCol w="1536840"/>
              </a:tblGrid>
              <a:tr h="1602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Presencia de Síndrome de ve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ava Superior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Frecuenci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Porciento%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8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N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81,4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43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1"/>
          <p:cNvSpPr/>
          <p:nvPr/>
        </p:nvSpPr>
        <p:spPr>
          <a:xfrm>
            <a:off x="179280" y="10954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  <a:ea typeface="Cambria"/>
              </a:rPr>
              <a:t>Tabla 6 Presencia de Síndrome de vena Cava Superi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ángulo 5"/>
          <p:cNvSpPr/>
          <p:nvPr/>
        </p:nvSpPr>
        <p:spPr>
          <a:xfrm>
            <a:off x="5003640" y="177480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Cambria"/>
              </a:rPr>
              <a:t>La Tabla 6 muestra la presencia de Síndrome de vena cava superior el cual se determinó en ocho pacientes para un 18,6 % del total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826920" y="2917800"/>
          <a:ext cx="3624480" cy="3768840"/>
        </p:xfrm>
        <a:graphic>
          <a:graphicData uri="http://schemas.openxmlformats.org/drawingml/2006/table">
            <a:tbl>
              <a:tblPr/>
              <a:tblGrid>
                <a:gridCol w="1208160"/>
                <a:gridCol w="1208160"/>
                <a:gridCol w="1208160"/>
              </a:tblGrid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lasificación  Ann Arbo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Frecuencia 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Porciento 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stadio 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stadio I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2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51,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stadio II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1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37,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stadio IV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11,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4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100,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Rectangle 1"/>
          <p:cNvSpPr/>
          <p:nvPr/>
        </p:nvSpPr>
        <p:spPr>
          <a:xfrm>
            <a:off x="684360" y="1693080"/>
            <a:ext cx="40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3366"/>
                </a:solidFill>
                <a:latin typeface="Arial"/>
                <a:ea typeface="Cambria"/>
              </a:rPr>
              <a:t>Tabla 7 Pacientes según Clasificación de Ann Arb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Rectángulo 2"/>
          <p:cNvSpPr/>
          <p:nvPr/>
        </p:nvSpPr>
        <p:spPr>
          <a:xfrm>
            <a:off x="4603680" y="29178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Respecto a la Clasificación de Ann Arbor, predominaron los pacientes en estadio I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(51,2%), seguidos en orden descendente por el Estadio III (37,2%), mientras qu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66"/>
                </a:solidFill>
                <a:latin typeface="Arial"/>
              </a:rPr>
              <a:t>cinco pacientes restantes se clasificaron como estadio IV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Variedades anatomopatológica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95280" y="1338120"/>
          <a:ext cx="8064360" cy="5519880"/>
        </p:xfrm>
        <a:graphic>
          <a:graphicData uri="http://schemas.openxmlformats.org/drawingml/2006/table">
            <a:tbl>
              <a:tblPr/>
              <a:tblGrid>
                <a:gridCol w="2471760"/>
                <a:gridCol w="2355840"/>
                <a:gridCol w="1762200"/>
                <a:gridCol w="1474560"/>
              </a:tblGrid>
              <a:tr h="50184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iagnóstico anatomopa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ológic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Variedad antomopa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ológica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Frecuencia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Porciento %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68360">
                <a:tc rowSpan="6"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Linfomas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de Hodgkin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Hodgkin predominio linfocitico nodular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Hodgkin clásico esclerosis nodular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7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6,4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Hodgkin clásico rico en linfocitos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Hodgkin clásico de celularidad mixta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4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9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Hodgkin clásico depleción linfocítica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ubtotal linfomas Hodgkin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4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32,6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15920">
                <a:tc rowSpan="8"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Linfoma no Hodgkin de células B maduras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linfoplasmocitic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3366"/>
                          </a:solidFill>
                          <a:latin typeface="Cambria"/>
                          <a:ea typeface="Cambria"/>
                        </a:rPr>
                        <a:t>Linfoma de células B de alto grad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7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6,4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 de células grandes B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5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1,6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ifuso de células grandes B 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5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1,6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e células B rico en histiocitos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4,6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e células grandes B mediastinal primari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7,0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e células B inclasificable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7.0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ubtotal linfomas no Hodgkin de células B maduras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6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60,5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84120">
                <a:tc rowSpan="4"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Linfomas no Hodgkin de células T maduras y Natural Killer.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e células T del adult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e células T periféric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Linfoma de células grandes anaplásico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2,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Subtotal de Linfomas no Hodgkin de células T maduras y Natural Killer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6,9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33280">
                <a:tc>
                  <a:txBody>
                    <a:bodyPr lIns="60480" rIns="60480" tIns="0" bIns="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Totales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Total Linfomas Hodgkin y no Hodgkin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43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480" rIns="6048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7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100</a:t>
                      </a:r>
                      <a:endParaRPr b="0" lang="en-US" sz="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Conclusiones: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-Los pacientes con linfomas y compromiso mediastinal tienen características clínicas propias que definen aspectos del abordaje  diagnostico. Una visión particularizada crea bases para evitar estudios invasivos en el diagnostico inicial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- El sistema de Clasificación Ann Arbor  es una  herramienta  que aporta a los médicos elementos predictivos de la enfermedad, por lo que se debe  utilizar en salas de Medicina Intern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-  El patrón de variantes anatomopatológicas descrito es similar al reportado en la literatura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22200" indent="-322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Recomendaciones: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-Generalizar, publicar e intercambiar experiencias en la asistencia diagnostica inicial en salas de medicina interna de la provincia y el país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- Aplicar la protocolización del abordaje diagnostico a las lesiones tumorales del mediastino empleando los aspectos teóricos y técnicos disponibles garantizando la seguridad al paciente y evitar pruebas invasivas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Introducción: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El mediastino es el espacio comprendido entre el orificio torácico superior arriba, el diafragma abajo, el esternón en frente, la columna vertebral atrás y la pleura mediastinal a los lados.</a:t>
            </a:r>
            <a:r>
              <a:rPr b="1" lang="es-ES" sz="1200" spc="-1" strike="noStrike" baseline="30000">
                <a:solidFill>
                  <a:srgbClr val="003366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La incidencia de linfoma ha aumentado espectacularmente desde la última mitad del siglo XX. 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El abordaje diagnostico de masas o ganglios mediastinales, en ausencia de ganglios  en periferia, o cuando su estudio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patológico de estos últimos no es concluyente constituye una vía frecuente de consulta e ingresos de estos pacientes.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32" name="Imagen 3" descr=""/>
          <p:cNvPicPr/>
          <p:nvPr/>
        </p:nvPicPr>
        <p:blipFill>
          <a:blip r:embed="rId1"/>
          <a:stretch/>
        </p:blipFill>
        <p:spPr>
          <a:xfrm>
            <a:off x="1469880" y="3681360"/>
            <a:ext cx="6127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4" name="Marcador de contenido 3" descr=""/>
          <p:cNvPicPr/>
          <p:nvPr/>
        </p:nvPicPr>
        <p:blipFill>
          <a:blip r:embed="rId1"/>
          <a:stretch/>
        </p:blipFill>
        <p:spPr>
          <a:xfrm>
            <a:off x="474840" y="1268280"/>
            <a:ext cx="8194320" cy="2521080"/>
          </a:xfrm>
          <a:prstGeom prst="rect">
            <a:avLst/>
          </a:prstGeom>
          <a:ln w="0">
            <a:noFill/>
          </a:ln>
        </p:spPr>
      </p:pic>
      <p:pic>
        <p:nvPicPr>
          <p:cNvPr id="535" name="Imagen 4" descr=""/>
          <p:cNvPicPr/>
          <p:nvPr/>
        </p:nvPicPr>
        <p:blipFill>
          <a:blip r:embed="rId2"/>
          <a:stretch/>
        </p:blipFill>
        <p:spPr>
          <a:xfrm>
            <a:off x="611280" y="3946680"/>
            <a:ext cx="41767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Objetivos: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General: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Describir características clínicas en pacientes con linfomas y compromiso mediastinal atendidos en el servicio de Medicina Interna.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Específicos: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1. Caracterizar a los pacientes según variables demográficas y clínicas.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2. Clasificar a los pacientes según sistema de estadiamiento Ann Arbor modificación de Cotswold.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3. Identificar las  variantes anatomopatológicas  más frecuentes. 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Resumen del método: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        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La investigación se realizó en el Hospital Clínico Quirúrgico Hermanos Ameijeiras, ubicado en San Lázaro esquina Belascoaín, municipio Centro Habana, La Habana, Cuba. El período analizado comprenderá entre enero 2013 y enero 2020.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        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Arial"/>
              </a:rPr>
              <a:t>El universo de estudio quedo constituido por los pacientes con lesiones tumorales mediastinales recogidos en la base de datos del servicio de medicina interna y la muestra por los que tienen diagnóstico de linfoma independiente de su variante histológica con informe tomográfico de lesión mediastinal &gt; 2cm.</a:t>
            </a:r>
            <a:endParaRPr b="1" lang="en-US" sz="12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0" name="Imagen 1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311640" cy="2857680"/>
          </a:xfrm>
          <a:prstGeom prst="rect">
            <a:avLst/>
          </a:prstGeom>
          <a:ln w="0">
            <a:noFill/>
          </a:ln>
        </p:spPr>
      </p:pic>
      <p:sp>
        <p:nvSpPr>
          <p:cNvPr id="541" name="Rectángulo 2"/>
          <p:cNvSpPr/>
          <p:nvPr/>
        </p:nvSpPr>
        <p:spPr>
          <a:xfrm>
            <a:off x="3059280" y="3605040"/>
            <a:ext cx="914400" cy="266760"/>
          </a:xfrm>
          <a:prstGeom prst="rect">
            <a:avLst/>
          </a:prstGeom>
          <a:solidFill>
            <a:srgbClr val="003366"/>
          </a:solidFill>
          <a:ln w="25560">
            <a:solidFill>
              <a:srgbClr val="1447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Verdana"/>
              </a:rPr>
              <a:t>Variabl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0" y="1203480"/>
          <a:ext cx="9144000" cy="5465520"/>
        </p:xfrm>
        <a:graphic>
          <a:graphicData uri="http://schemas.openxmlformats.org/drawingml/2006/table">
            <a:tbl>
              <a:tblPr/>
              <a:tblGrid>
                <a:gridCol w="2200320"/>
                <a:gridCol w="1730160"/>
                <a:gridCol w="1419480"/>
                <a:gridCol w="1263600"/>
                <a:gridCol w="2530440"/>
              </a:tblGrid>
              <a:tr h="22356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Variable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efinición Conceptual/ Operacional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imensión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Tipo de Variable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scal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37620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dad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Años cumplidos a partir de la fecha de nacimient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Cronológica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ntitativa Continu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&lt; 20 año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20-49 año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50-64 año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65 y má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ex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ondición biológica que define los caracteres sexuale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 Dicotómi-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Femenin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Masculin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 gridSpan="5"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Variables clínica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íntoma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Manifestaciones clínicas referidas o no por paciente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 Dicotómi-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Asintomátic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Asteni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Dolor torácic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Disne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Tos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Disfagia.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Sudoración nocturn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Disfoní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gno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ignos clínicos encontrados al examen físic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 Dicotómi-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Fiebre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Adenopatia periféric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Hepatomegaloi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Esplenomegali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Pérdida de pes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Edema facial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-Aumento de volumen del tórax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ompartimientos Mediastinale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egún la división topográfica del mediastino.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Ordinal Politóm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Anterior: desde la apertura torácica superior hasta el diafragma del y borde posterior del esternón al pericardi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Medio: Delimitado anteriormente por el pericardio y posterior el pericardio y la tráque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Posterior: Desde el pericardio posterior y la tráquea hasta la región ventral de las vértebra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índrome de vena cava superior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eterminación de síndrome clínico, según el juicio clínico del autor y tutor se considere es secundario a la entidad en estudi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 Dicotóm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Presente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No presente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ondición asociad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Hallazgos con la asociación de examen físic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 </a:t>
                      </a: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y pruebas de imagen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 Dicotóm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errame pleural izquierdo. Derecho y bilateral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errame pericárdic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Adenopatías intra y/o retroperitoneales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imensión de la lesión mediastinal por tomografí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(mayor o menor de 10 cm)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lasificación Ann Arbor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egún Clasificación Ann Arbor modificación de Cotswold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de neoplasias Linfoides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Estadio I,II,III,IV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5"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Variables Diagnósticas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Proceder diagnostic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Procedimiento mediante el cual se intentó obtener la muestra  para procesar en anatomía patológic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 Politóm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 Exceresis de Ganglio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Trucut mediastinal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Videotoracoscopia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Mediastinoscopia.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-Broncoscopi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_BM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40320" rIns="403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Tipo histológico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Según el resultado histológico e inmunohistoquímico del tumor.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Biológ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Cualitativa Nominal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Politómica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320" rIns="4032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Linfoma no Hodgkin de linfocitos B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Linfoma no Hodgkin  linfocitos T y  NK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Linfoma Hodgkin 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500" spc="-1" strike="noStrike">
                          <a:solidFill>
                            <a:srgbClr val="003366"/>
                          </a:solidFill>
                          <a:latin typeface="Arial"/>
                          <a:ea typeface="Cambria"/>
                        </a:rPr>
                        <a:t> </a:t>
                      </a:r>
                      <a:endParaRPr b="0" lang="en-US" sz="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40320" marR="40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760" y="378576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El comportamiento demográfico en los pacientes estudiados (n=43), el 51,2 % fueron del sexo femenino y el 48,8 % los masculinos. El 90,7 % de los casos se encontraron en grupo etario de 20 a 49 años. El paciente más joven fue de 18 años y más longevo de 75 con una media de 33,9 años y una desviación estándar de 11,4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6" name="Imagen 1" descr=""/>
          <p:cNvPicPr/>
          <p:nvPr/>
        </p:nvPicPr>
        <p:blipFill>
          <a:blip r:embed="rId1"/>
          <a:stretch/>
        </p:blipFill>
        <p:spPr>
          <a:xfrm>
            <a:off x="216000" y="2044800"/>
            <a:ext cx="53416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8" name="Marcador de contenido 3" descr=""/>
          <p:cNvPicPr/>
          <p:nvPr/>
        </p:nvPicPr>
        <p:blipFill>
          <a:blip r:embed="rId1"/>
          <a:stretch/>
        </p:blipFill>
        <p:spPr>
          <a:xfrm>
            <a:off x="0" y="1135080"/>
            <a:ext cx="9144000" cy="3949560"/>
          </a:xfrm>
          <a:prstGeom prst="rect">
            <a:avLst/>
          </a:prstGeom>
          <a:ln w="0">
            <a:noFill/>
          </a:ln>
        </p:spPr>
      </p:pic>
      <p:sp>
        <p:nvSpPr>
          <p:cNvPr id="549" name="Rectángulo 5"/>
          <p:cNvSpPr/>
          <p:nvPr/>
        </p:nvSpPr>
        <p:spPr>
          <a:xfrm>
            <a:off x="755640" y="5084640"/>
            <a:ext cx="7848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 los ocho síntomas clínicos referidos, la tos (51,2 %) el dolor torácico (46,5 %) y la disnea (32,6 %) fueron los más frecuentes. El 11,6 % de los pacientes fueron asintomático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1" name="Marcador de contenido 3" descr=""/>
          <p:cNvPicPr/>
          <p:nvPr/>
        </p:nvPicPr>
        <p:blipFill>
          <a:blip r:embed="rId1"/>
          <a:stretch/>
        </p:blipFill>
        <p:spPr>
          <a:xfrm>
            <a:off x="0" y="1111320"/>
            <a:ext cx="9144000" cy="4379760"/>
          </a:xfrm>
          <a:prstGeom prst="rect">
            <a:avLst/>
          </a:prstGeom>
          <a:ln w="0">
            <a:noFill/>
          </a:ln>
        </p:spPr>
      </p:pic>
      <p:sp>
        <p:nvSpPr>
          <p:cNvPr id="552" name="Rectángulo 4"/>
          <p:cNvSpPr/>
          <p:nvPr/>
        </p:nvSpPr>
        <p:spPr>
          <a:xfrm>
            <a:off x="179280" y="547848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Cambria"/>
              </a:rPr>
              <a:t>Los signos clínicos descritos en la historia y recogidos en la base de datos fueron 12, de ellos la fiebre (37,2%), la pérdida de peso (25,6) y la hepatomegalia (23,3%) fueron los más usuales. No se encontró en ningún paciente adenopatías epitroclear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jsala16b</cp:lastModifiedBy>
  <dcterms:modified xsi:type="dcterms:W3CDTF">2020-11-09T18:12:13Z</dcterms:modified>
  <cp:revision>123</cp:revision>
  <dc:subject/>
  <dc:title>PowerPoint Template</dc:title>
</cp:coreProperties>
</file>