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B9A38-95A9-4D86-A805-F9FE636D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B6139-144B-493B-A59B-CBA57762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A0A34-391B-462C-B487-2BD3812A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56EEC-D0C0-4EC1-B369-D52D0F4E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D7A2F-A3A3-4127-B525-BFECB203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02345-1743-466C-A9FA-EB94DDC8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802B9-2C7A-4224-AC65-E0BB1FB4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BB8D3-3B51-4077-A303-442E3EFD0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CF47A-68B5-426A-8C73-A8755AF8A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86B4E-C8B6-4A97-939C-BF2FC11C1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3F1DF-215E-4EA1-9D4C-48CE4D6C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E170F-DDCF-40E9-85AA-6AE1AF9D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A452E-8C14-4FD1-8449-F67AED73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6CBB3-1601-4336-B02F-0B68926D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9734A-89F6-41C7-89DB-AA85C502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456BD-FBA2-4FA2-BAAD-82A4BD56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E2B96-D346-4871-BF17-CE9F8FB8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CE3B8-09E9-495F-8157-737FEF43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B3A81-DEF2-49A2-99EE-DBDD6BD2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7FF61-B095-4F0D-862C-691A11F5D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C9A6A-86AE-4FF0-A8B9-4E527B09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C8227-5D92-4B4A-8D0F-202A07E22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8D6F9-D36B-4659-87D7-52D71189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9DBB9-E3D0-4B9C-962F-78646D49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EC05F-24EF-434A-AE75-B71FB752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58392-926B-4DB6-BEE5-ED89F340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DCC26-F58E-4CBA-B239-49E9BF14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28E11-9ADF-4386-AEB6-ACA9E603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D14FB-A6B0-4F84-A7EA-B5E0CC69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0A468-B208-44B2-8951-A7CDF5AB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B23C7-1CCE-4473-B6D7-733B97F6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50256-616F-4848-A545-00CBC9F8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DC694-5A55-42B7-8C8F-01D7E4479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1F007-49BC-4894-8C14-703DEEFC4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348BF-2FAD-48BF-9518-9ECB94D8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E852F-B1F0-4AA6-8F74-A0FB0DF8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C725D-A28A-45E0-B16A-4518D88E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F6D4F-88EF-420B-BD84-67901422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B43F0-57F7-4F1D-843E-81C2CA3E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B34CD-C66D-471D-835D-1B35346A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6C8F7-CDE0-47CB-8529-6862FB0D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163F6-88C0-4604-925F-09F423A2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F85B0-8311-4CE9-B1F0-7E8F2E59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AECD8-D153-46C7-9706-A9BF09804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20D13-00B7-4C26-B573-719514060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7298-15F5-4339-8346-B1E673D9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77C0-0C2F-4F7D-B17E-8AAEA80C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DC23-509B-473D-A374-B703E8BC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E2FA-8DCB-4EFE-B840-627E9F41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FCE9-2FE5-4338-959C-3F22DADF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F1FD-A696-48E3-9DFE-45604FBC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CEF0-B4F4-4298-86B0-B8140E76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0B38-4959-44C5-94E1-3FCCFCCE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E2D6-047F-4D37-8729-219F99D5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FB03-0408-41B6-B498-55979478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A8DB-168C-4234-B4C1-5E57E925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36B3-E88E-466E-B8EA-C2DE9D87B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174C-51A8-4038-BCC0-6D9237EFF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5D81-9811-4D11-8FB0-B8903E55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68DB-70DD-4582-BED2-AA971D99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769E-4DEE-40B7-BA8C-DAD6BA47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0F42-5423-4384-A30D-BB6D382D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910E-A5B4-4841-B170-D62C2351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5193-A6EE-4E97-86C1-5D2F6F76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9D1D-37AB-4C52-B5BF-12D342CF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A68B-B478-40F2-8B14-A5804872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26FE-01A2-490F-AB41-E69A73EF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A9F0-154B-4C43-BFB4-C4EFCBE8F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22C4-C709-402F-AB6D-74A766D23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790D7-19C1-4B81-9510-42F8DA271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51D1B-1EB2-495F-B9DA-C522158D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FB75D-D17A-4E62-AE8F-8A67A2AF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BE2E3-0A64-4E83-A0D3-F6BABBD2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95976-FB67-4604-879A-147C9528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E7863-C64D-4068-9B4B-8A2DBC1E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BC014-FAA8-4ED9-8998-02098239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5C4A7-5D1A-42A0-9119-F04141C8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C15F2-6A2C-443F-ADE9-6F3CF7C1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CA38C-B805-42B8-8CA8-E10A6AF4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012B5-078A-48F9-B82C-F362CA82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4FC78-A731-429F-8DEE-F004DCCA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1174D-FE4F-46DD-A23A-57FAF0A54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66DF0-70CC-4CE3-9DA4-CD451B54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74906-FE84-4691-8FEB-0D4E2446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725E6-3E64-49EF-97ED-5ADBCEE6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78C2E-83EB-4EEC-B2FD-9E2AED46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D37BC-9A2C-46C0-8654-617947F2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E644B-1D65-43AB-9245-9E7B9D80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AD112-107B-4C05-9DD6-5641BC07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23C31-2C72-40E4-AC1D-AAE52D42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60AEA-E914-4E37-824C-BD1A90B6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D6FD7-3357-48F5-8A8B-8AE1CB42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67A4A-9C02-4341-BB94-965BC1E40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EE5EE-71DA-4D0B-BFF3-F1B272C5E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32855-AAD1-4962-A0E8-7D400BB4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51D48-D5A7-4930-AAFF-83A1A53E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A070E-6595-4C0E-A017-75BF98DB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6DCBA-D4C1-4D2B-A7B5-5FB13F45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ADD22-8FD6-493D-9A32-DE8BA99A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E04A9-313B-46D7-B6E1-3C164881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3A127-DFCE-44CB-8998-52601880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3038E-123C-497A-9535-DF31B875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8F811-B7FF-41AA-827C-B937DA55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3FEC7-8182-4EF3-895B-33E01E4D5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D4CBD-1113-40B2-B75F-0A3B859F1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631B7-5C80-45C8-B912-6F77B572C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4B41D-8E50-4420-BB3A-644FA357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33CDA-3CEA-47B5-BAFF-20C1918B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90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0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1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54C0-DC5F-40AB-ABB2-44E385C843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3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2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3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24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4326-50AA-493F-A7E6-A923FF26D0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78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5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6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7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1497-CD22-4B12-8B90-CC2B80888255}" type="slidenum"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a9dc"/>
            </a:gs>
            <a:gs pos="100000">
              <a:srgbClr val="dfe5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oto hospital"/>
          <p:cNvPicPr/>
          <p:nvPr/>
        </p:nvPicPr>
        <p:blipFill>
          <a:blip r:embed="rId2"/>
          <a:stretch/>
        </p:blipFill>
        <p:spPr>
          <a:xfrm>
            <a:off x="5102280" y="165240"/>
            <a:ext cx="3627360" cy="61992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7"/>
          <p:cNvSpPr/>
          <p:nvPr/>
        </p:nvSpPr>
        <p:spPr>
          <a:xfrm>
            <a:off x="0" y="2971800"/>
            <a:ext cx="9144000" cy="9144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Rectangle 18"/>
          <p:cNvSpPr/>
          <p:nvPr/>
        </p:nvSpPr>
        <p:spPr>
          <a:xfrm>
            <a:off x="0" y="2895480"/>
            <a:ext cx="8229600" cy="9144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foto hospital"/>
          <p:cNvPicPr/>
          <p:nvPr/>
        </p:nvPicPr>
        <p:blipFill>
          <a:blip r:embed="rId3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2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3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134D-646C-408D-A549-4C61E1E45B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0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B838-FF6C-4743-81F0-4FCE88DD82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7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8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9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5FED-5B5D-47CD-AA5F-BAE413B208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8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0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1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2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EABD-2FED-4525-ACC5-32E676C993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2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E6E6-7124-4EB0-89FC-B5EF342DAF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46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6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7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8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3F07-DE69-4FB0-B4B7-069E56BCB4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50920" y="1987200"/>
            <a:ext cx="842472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3366"/>
                </a:solidFill>
                <a:latin typeface="Calibri"/>
                <a:ea typeface="Calibri"/>
              </a:rPr>
              <a:t>JORNADA DE TEMAS TERMINADOS</a:t>
            </a:r>
            <a:br>
              <a:rPr sz="3200"/>
            </a:br>
            <a:r>
              <a:rPr b="1" i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TITULO:</a:t>
            </a:r>
            <a:r>
              <a:rPr b="1" i="1" lang="es-ES" sz="2800" spc="-1" strike="noStrike">
                <a:solidFill>
                  <a:srgbClr val="ffffff"/>
                </a:solidFill>
                <a:latin typeface="Agency FB"/>
              </a:rPr>
              <a:t>Resultados del trasplante alogénico de progenitores hamatopoyéticos no mieloablativo y de toxicidad reducida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4560" y="4076280"/>
            <a:ext cx="842652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  <a:ea typeface="Calibri"/>
              </a:rPr>
              <a:t>Autores:  </a:t>
            </a:r>
            <a:r>
              <a:rPr b="1" i="1" lang="en-US" sz="1700" spc="-1" strike="noStrike">
                <a:solidFill>
                  <a:srgbClr val="003366"/>
                </a:solidFill>
                <a:latin typeface="Calibri"/>
                <a:ea typeface="Calibri"/>
              </a:rPr>
              <a:t>Dr. Jose Carnot Uria</a:t>
            </a:r>
            <a:endParaRPr b="1" lang="en-US" sz="17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  </a:t>
            </a: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Dra.  Esther Cabrera Avila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  </a:t>
            </a: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Dr. Jorge Muñio  Perurena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  </a:t>
            </a: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Dr. Calixto  Hernández Cruz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  </a:t>
            </a: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Dra. Oliday Rios Jiménez 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  </a:t>
            </a: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Dra. Yusaima Rodriguez Fraga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  </a:t>
            </a: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Dra Aliette García García    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  </a:t>
            </a: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Dra Kali  Cepero Llauger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  </a:t>
            </a: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Dra Karina Pardo Ramírez           </a:t>
            </a:r>
            <a:r>
              <a:rPr b="1" i="1" lang="en-US" sz="1800" spc="-1" strike="noStrike">
                <a:solidFill>
                  <a:srgbClr val="003366"/>
                </a:solidFill>
                <a:latin typeface="Berlin Sans FB Demi"/>
                <a:ea typeface="Calibri"/>
              </a:rPr>
              <a:t>Servicio de Hematologia La Habana, 2020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22" name="Picture 34" descr=""/>
          <p:cNvPicPr/>
          <p:nvPr/>
        </p:nvPicPr>
        <p:blipFill>
          <a:blip r:embed="rId1"/>
          <a:stretch/>
        </p:blipFill>
        <p:spPr>
          <a:xfrm>
            <a:off x="0" y="0"/>
            <a:ext cx="25938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6" name="4 Marcador de contenido"/>
          <p:cNvGraphicFramePr/>
          <p:nvPr/>
        </p:nvGraphicFramePr>
        <p:xfrm>
          <a:off x="179280" y="2421000"/>
          <a:ext cx="4697640" cy="237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7" name="4 Marcador de contenido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421000"/>
                    <a:ext cx="469764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5 Objeto"/>
          <p:cNvGraphicFramePr/>
          <p:nvPr/>
        </p:nvGraphicFramePr>
        <p:xfrm>
          <a:off x="4859280" y="2492280"/>
          <a:ext cx="3902040" cy="2462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49" name="5 Objeto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2492280"/>
                    <a:ext cx="3902040" cy="24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6 CuadroTexto"/>
          <p:cNvSpPr/>
          <p:nvPr/>
        </p:nvSpPr>
        <p:spPr>
          <a:xfrm>
            <a:off x="2268360" y="1341360"/>
            <a:ext cx="49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3366"/>
                </a:solidFill>
                <a:uFillTx/>
                <a:latin typeface="Arial"/>
              </a:rPr>
              <a:t>RECUPERACION HEMATOPOYET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CuadroTexto 9"/>
          <p:cNvSpPr/>
          <p:nvPr/>
        </p:nvSpPr>
        <p:spPr>
          <a:xfrm>
            <a:off x="216000" y="1844640"/>
            <a:ext cx="46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Recuperación del conteo de  neutrófilos Rango 7-17 días; media 12 dia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CuadroTexto 1"/>
          <p:cNvSpPr/>
          <p:nvPr/>
        </p:nvSpPr>
        <p:spPr>
          <a:xfrm>
            <a:off x="4932360" y="1844640"/>
            <a:ext cx="403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  <a:ea typeface="Arial"/>
              </a:rPr>
              <a:t>Recuperación del conteo de plaquetas; Rango 6-23 días; media 13.7 dia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53" name="Picture 11" descr=""/>
          <p:cNvPicPr/>
          <p:nvPr/>
        </p:nvPicPr>
        <p:blipFill>
          <a:blip r:embed="rId5"/>
          <a:stretch/>
        </p:blipFill>
        <p:spPr>
          <a:xfrm>
            <a:off x="2987640" y="4653000"/>
            <a:ext cx="4176720" cy="2160720"/>
          </a:xfrm>
          <a:prstGeom prst="rect">
            <a:avLst/>
          </a:prstGeom>
          <a:ln w="0">
            <a:noFill/>
          </a:ln>
        </p:spPr>
      </p:pic>
      <p:sp>
        <p:nvSpPr>
          <p:cNvPr id="554" name="7 CuadroTexto"/>
          <p:cNvSpPr/>
          <p:nvPr/>
        </p:nvSpPr>
        <p:spPr>
          <a:xfrm>
            <a:off x="611280" y="5373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REQUERIMIENTO DE HEMODERIVAD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56" name="1 Marcador de contenido"/>
          <p:cNvGraphicFramePr/>
          <p:nvPr/>
        </p:nvGraphicFramePr>
        <p:xfrm>
          <a:off x="730080" y="1652760"/>
          <a:ext cx="768204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7" name="1 Marcador de contenido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1652760"/>
                    <a:ext cx="768204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59" name="Imagen 1" descr=""/>
          <p:cNvPicPr/>
          <p:nvPr/>
        </p:nvPicPr>
        <p:blipFill>
          <a:blip r:embed="rId1"/>
          <a:stretch/>
        </p:blipFill>
        <p:spPr>
          <a:xfrm>
            <a:off x="5332320" y="2819520"/>
            <a:ext cx="3776760" cy="2625480"/>
          </a:xfrm>
          <a:prstGeom prst="rect">
            <a:avLst/>
          </a:prstGeom>
          <a:ln w="0">
            <a:noFill/>
          </a:ln>
        </p:spPr>
      </p:pic>
      <p:sp>
        <p:nvSpPr>
          <p:cNvPr id="560" name="CuadroTexto 6"/>
          <p:cNvSpPr/>
          <p:nvPr/>
        </p:nvSpPr>
        <p:spPr>
          <a:xfrm>
            <a:off x="1020240" y="1619280"/>
            <a:ext cx="57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 u="sng">
                <a:solidFill>
                  <a:srgbClr val="003366"/>
                </a:solidFill>
                <a:uFillTx/>
                <a:latin typeface="Arial"/>
                <a:ea typeface="Calibri"/>
              </a:rPr>
              <a:t>Estado actual  de los pacientes y causas de muer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2"/>
          <a:stretch/>
        </p:blipFill>
        <p:spPr>
          <a:xfrm>
            <a:off x="108000" y="2819520"/>
            <a:ext cx="546264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3" name="Picture 4" descr=""/>
          <p:cNvPicPr/>
          <p:nvPr/>
        </p:nvPicPr>
        <p:blipFill>
          <a:blip r:embed="rId1"/>
          <a:stretch/>
        </p:blipFill>
        <p:spPr>
          <a:xfrm>
            <a:off x="954000" y="2128680"/>
            <a:ext cx="7236000" cy="4469040"/>
          </a:xfrm>
          <a:prstGeom prst="rect">
            <a:avLst/>
          </a:prstGeom>
          <a:ln w="0">
            <a:noFill/>
          </a:ln>
        </p:spPr>
      </p:pic>
      <p:sp>
        <p:nvSpPr>
          <p:cNvPr id="564" name="CuadroTexto 6"/>
          <p:cNvSpPr/>
          <p:nvPr/>
        </p:nvSpPr>
        <p:spPr>
          <a:xfrm>
            <a:off x="1089360" y="1619280"/>
            <a:ext cx="63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Supervivencia Global (SG) a cinco años (Kaplan – Mei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6" name="Picture 4" descr=""/>
          <p:cNvPicPr/>
          <p:nvPr/>
        </p:nvPicPr>
        <p:blipFill>
          <a:blip r:embed="rId1"/>
          <a:stretch/>
        </p:blipFill>
        <p:spPr>
          <a:xfrm>
            <a:off x="457200" y="1617840"/>
            <a:ext cx="8229600" cy="4533840"/>
          </a:xfrm>
          <a:prstGeom prst="rect">
            <a:avLst/>
          </a:prstGeom>
          <a:ln w="0">
            <a:noFill/>
          </a:ln>
        </p:spPr>
      </p:pic>
      <p:sp>
        <p:nvSpPr>
          <p:cNvPr id="567" name="1 CuadroTexto"/>
          <p:cNvSpPr/>
          <p:nvPr/>
        </p:nvSpPr>
        <p:spPr>
          <a:xfrm>
            <a:off x="2987640" y="1197000"/>
            <a:ext cx="252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CONCLUSIONES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9" name="Picture 4" descr=""/>
          <p:cNvPicPr/>
          <p:nvPr/>
        </p:nvPicPr>
        <p:blipFill>
          <a:blip r:embed="rId1"/>
          <a:stretch/>
        </p:blipFill>
        <p:spPr>
          <a:xfrm>
            <a:off x="457200" y="2381400"/>
            <a:ext cx="8229600" cy="3006720"/>
          </a:xfrm>
          <a:prstGeom prst="rect">
            <a:avLst/>
          </a:prstGeom>
          <a:ln w="0">
            <a:noFill/>
          </a:ln>
        </p:spPr>
      </p:pic>
      <p:sp>
        <p:nvSpPr>
          <p:cNvPr id="570" name="1 Rectángulo"/>
          <p:cNvSpPr/>
          <p:nvPr/>
        </p:nvSpPr>
        <p:spPr>
          <a:xfrm>
            <a:off x="3295080" y="1700280"/>
            <a:ext cx="255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RECOMENDAC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197000"/>
            <a:ext cx="822960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3366"/>
                </a:solidFill>
                <a:latin typeface="Arial"/>
                <a:ea typeface="Arial"/>
              </a:rPr>
              <a:t>El trasplante de progenitores hematopoyéticos (TPH) constituye una terapéutica útil, en ocasiones única, para una gran variedad de enfermedades hematológicas y no hematológicas.</a:t>
            </a:r>
            <a:endParaRPr b="1" lang="en-US" sz="2300" spc="-1" strike="noStrike">
              <a:solidFill>
                <a:srgbClr val="003366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3366"/>
                </a:solidFill>
                <a:latin typeface="Arial"/>
                <a:ea typeface="Arial"/>
              </a:rPr>
              <a:t>Los regímenes no mieloablativos y de intensidad reducida(NMA/IR) surgen como alternativa viable a los trasplantes  convencionales.</a:t>
            </a:r>
            <a:endParaRPr b="1" lang="en-US" sz="2300" spc="-1" strike="noStrike">
              <a:solidFill>
                <a:srgbClr val="003366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3366"/>
                </a:solidFill>
                <a:latin typeface="Arial"/>
                <a:ea typeface="Arial"/>
              </a:rPr>
              <a:t>Los esquemas NMA/IR son de menor intensidad, producen citopenia mínima y menor toxicidad, lo cual disminuye las complicaciones de los trasplantes convencionales</a:t>
            </a:r>
            <a:endParaRPr b="1" lang="en-US" sz="2300" spc="-1" strike="noStrike">
              <a:solidFill>
                <a:srgbClr val="003366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3366"/>
                </a:solidFill>
                <a:latin typeface="Arial"/>
                <a:ea typeface="Arial"/>
              </a:rPr>
              <a:t>Permite ampliar los criterios de inclusión en los trasplante  a pacientes de mayor edad y/o con comorbilidades</a:t>
            </a:r>
            <a:endParaRPr b="1" lang="en-US" sz="2300" spc="-1" strike="noStrike">
              <a:solidFill>
                <a:srgbClr val="003366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En nuestro centro el TCH NMA/TR se comenzó a realizar en el año2000 en pacientes con diversas hemopatías malignas y no malignas.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En el presente trabajo reportamos los resultados de esta modalidad terapéutica en este grupo de enfermos.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OBJETIVOS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3366"/>
                </a:solidFill>
                <a:uFillTx/>
                <a:latin typeface="Arial"/>
                <a:ea typeface="SimSun"/>
              </a:rPr>
              <a:t>GENERAL</a:t>
            </a:r>
            <a:r>
              <a:rPr b="0" lang="es-ES" sz="2200" spc="-1" strike="noStrike">
                <a:solidFill>
                  <a:srgbClr val="003366"/>
                </a:solidFill>
                <a:latin typeface="Arial"/>
                <a:ea typeface="SimSun"/>
              </a:rPr>
              <a:t>: </a:t>
            </a:r>
            <a:r>
              <a:rPr b="0" lang="es-ES" sz="2200" spc="-1" strike="noStrike">
                <a:solidFill>
                  <a:srgbClr val="003366"/>
                </a:solidFill>
                <a:latin typeface="Verdana"/>
              </a:rPr>
              <a:t>Evaluar los resultados del </a:t>
            </a:r>
            <a:r>
              <a:rPr b="0" lang="es-ES" sz="2400" spc="-1" strike="noStrike">
                <a:solidFill>
                  <a:srgbClr val="003366"/>
                </a:solidFill>
                <a:latin typeface="Verdana"/>
              </a:rPr>
              <a:t>TCH NMA/TR</a:t>
            </a:r>
            <a:r>
              <a:rPr b="0" lang="es-ES" sz="2200" spc="-1" strike="noStrike">
                <a:solidFill>
                  <a:srgbClr val="003366"/>
                </a:solidFill>
                <a:latin typeface="Verdana"/>
              </a:rPr>
              <a:t>.</a:t>
            </a:r>
            <a:endParaRPr b="1" lang="en-US" sz="2200" spc="-1" strike="noStrike">
              <a:solidFill>
                <a:srgbClr val="003366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3366"/>
                </a:solidFill>
                <a:uFillTx/>
                <a:latin typeface="Arial"/>
                <a:ea typeface="SimSun"/>
              </a:rPr>
              <a:t>ESPECÍFICOS:</a:t>
            </a:r>
            <a:endParaRPr b="1" lang="en-US" sz="2200" spc="-1" strike="noStrike">
              <a:solidFill>
                <a:srgbClr val="003366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66"/>
                </a:solidFill>
                <a:latin typeface="Arial"/>
                <a:ea typeface="SimSun"/>
              </a:rPr>
              <a:t>1</a:t>
            </a:r>
            <a:r>
              <a:rPr b="0" lang="es-ES" sz="2200" spc="-1" strike="noStrike">
                <a:solidFill>
                  <a:srgbClr val="003366"/>
                </a:solidFill>
                <a:latin typeface="Arial"/>
                <a:ea typeface="SimSun"/>
              </a:rPr>
              <a:t>. Describir las características clínicas-biológicas de los pacientes incluidos en el estudio</a:t>
            </a:r>
            <a:endParaRPr b="1" lang="en-US" sz="22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0" lang="es-ES" sz="2200" spc="-1" strike="noStrike">
                <a:solidFill>
                  <a:srgbClr val="003366"/>
                </a:solidFill>
                <a:latin typeface="Verdana"/>
              </a:rPr>
              <a:t>.Determinar: tipo de trasplante según el donante; fuente de obtención de células progenitoras, esquemas de acondicionamiento, esquemas de profilaxis de la enfermedad de injerto contra huésped, la recuperación hematológica, el quimerismo y estadía hospitalaria.</a:t>
            </a:r>
            <a:endParaRPr b="1" lang="en-US" sz="22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0" lang="es-ES" sz="2200" spc="-1" strike="noStrike">
                <a:solidFill>
                  <a:srgbClr val="003366"/>
                </a:solidFill>
                <a:latin typeface="Verdana"/>
              </a:rPr>
              <a:t>. Identificar las complicaciones, causas de muerte y estado de los pacientes posterior al trasplante.</a:t>
            </a:r>
            <a:endParaRPr b="1" lang="en-US" sz="22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0" lang="es-ES" sz="2200" spc="-1" strike="noStrike">
                <a:solidFill>
                  <a:srgbClr val="003366"/>
                </a:solidFill>
                <a:latin typeface="Verdana"/>
              </a:rPr>
              <a:t>. Estimar la supervivencia global.</a:t>
            </a:r>
            <a:endParaRPr b="1" lang="en-US" sz="22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TERIAL Y METODOS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Estudio descriptivo retrospectivo en el Servicio de Hematología del HHA, en el periodo comprendido entre Enero 2002 y  Dic.2018.</a:t>
            </a: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  <a:ea typeface="Arial"/>
              </a:rPr>
              <a:t>Universo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  <a:ea typeface="Arial"/>
              </a:rPr>
              <a:t>: todos los pacientes sometidos a </a:t>
            </a: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  <a:ea typeface="Arial"/>
              </a:rPr>
              <a:t>TCH en ese periodo 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  <a:ea typeface="Arial"/>
              </a:rPr>
              <a:t>Muestra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  <a:ea typeface="Arial"/>
              </a:rPr>
              <a:t>: Conformada por 19 pacientes sometidos a </a:t>
            </a: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TCH con esquema de acondicionamiento NMA/TR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  <a:ea typeface="Arial"/>
              </a:rPr>
              <a:t> que cumplieron con los criterios de selección establecidos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32" name="Picture 4" descr=""/>
          <p:cNvPicPr/>
          <p:nvPr/>
        </p:nvPicPr>
        <p:blipFill>
          <a:blip r:embed="rId1"/>
          <a:stretch/>
        </p:blipFill>
        <p:spPr>
          <a:xfrm>
            <a:off x="457200" y="1765440"/>
            <a:ext cx="8229600" cy="4238640"/>
          </a:xfrm>
          <a:prstGeom prst="rect">
            <a:avLst/>
          </a:prstGeom>
          <a:ln w="0">
            <a:noFill/>
          </a:ln>
        </p:spPr>
      </p:pic>
      <p:sp>
        <p:nvSpPr>
          <p:cNvPr id="533" name="CuadroTexto 2"/>
          <p:cNvSpPr/>
          <p:nvPr/>
        </p:nvSpPr>
        <p:spPr>
          <a:xfrm>
            <a:off x="4344840" y="2276640"/>
            <a:ext cx="4619880" cy="37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50000"/>
              </a:lnSpc>
              <a:buClr>
                <a:srgbClr val="00193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" sz="1200" spc="-1" strike="noStrike">
                <a:solidFill>
                  <a:srgbClr val="001933"/>
                </a:solidFill>
                <a:latin typeface="Arial"/>
                <a:ea typeface="Arial"/>
              </a:rPr>
              <a:t>Estadía hospitalaria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00193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" sz="1200" spc="-1" strike="noStrike">
                <a:solidFill>
                  <a:srgbClr val="001933"/>
                </a:solidFill>
                <a:latin typeface="Arial"/>
                <a:ea typeface="Arial"/>
              </a:rPr>
              <a:t>Quimerism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00193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" sz="1200" spc="-1" strike="noStrike">
                <a:solidFill>
                  <a:srgbClr val="001933"/>
                </a:solidFill>
                <a:latin typeface="Arial"/>
                <a:ea typeface="Arial"/>
              </a:rPr>
              <a:t>Establecimiento del quimerism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19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1933"/>
                </a:solidFill>
                <a:latin typeface="Arial"/>
                <a:ea typeface="Arial"/>
              </a:rPr>
              <a:t>    </a:t>
            </a:r>
            <a:r>
              <a:rPr b="1" lang="es-ES" sz="1400" spc="-1" strike="noStrike">
                <a:solidFill>
                  <a:srgbClr val="001933"/>
                </a:solidFill>
                <a:latin typeface="Arial"/>
                <a:ea typeface="Arial"/>
              </a:rPr>
              <a:t>Relacionadas con las complicaciones, evolución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1933"/>
                </a:solidFill>
                <a:latin typeface="Arial"/>
                <a:ea typeface="Arial"/>
              </a:rPr>
              <a:t>     </a:t>
            </a:r>
            <a:r>
              <a:rPr b="1" lang="es-ES" sz="1400" spc="-1" strike="noStrike">
                <a:solidFill>
                  <a:srgbClr val="001933"/>
                </a:solidFill>
                <a:latin typeface="Arial"/>
                <a:ea typeface="Arial"/>
              </a:rPr>
              <a:t>y resultad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00193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" sz="1200" spc="-1" strike="noStrike">
                <a:solidFill>
                  <a:srgbClr val="001933"/>
                </a:solidFill>
                <a:latin typeface="Arial"/>
                <a:ea typeface="Arial"/>
              </a:rPr>
              <a:t>Complicaciones relacionadas con la toxicdad  del acondicionamient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00193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" sz="1200" spc="-1" strike="noStrike">
                <a:solidFill>
                  <a:srgbClr val="001933"/>
                </a:solidFill>
                <a:latin typeface="Arial"/>
                <a:ea typeface="Arial"/>
              </a:rPr>
              <a:t>Complicaciones relacionadas con el trasplant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00193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" sz="1200" spc="-1" strike="noStrike">
                <a:solidFill>
                  <a:srgbClr val="001933"/>
                </a:solidFill>
                <a:latin typeface="Arial"/>
                <a:ea typeface="Arial"/>
              </a:rPr>
              <a:t>Estado actual de los pac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00193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" sz="1200" spc="-1" strike="noStrike">
                <a:solidFill>
                  <a:srgbClr val="001933"/>
                </a:solidFill>
                <a:latin typeface="Arial"/>
                <a:ea typeface="Arial"/>
              </a:rPr>
              <a:t>Mortalidad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00193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" sz="1200" spc="-1" strike="noStrike">
                <a:solidFill>
                  <a:srgbClr val="001933"/>
                </a:solidFill>
                <a:latin typeface="Arial"/>
                <a:ea typeface="Arial"/>
              </a:rPr>
              <a:t>Supervivencia globa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Calibri"/>
              </a:rPr>
              <a:t>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1 CuadroTexto"/>
          <p:cNvSpPr/>
          <p:nvPr/>
        </p:nvSpPr>
        <p:spPr>
          <a:xfrm>
            <a:off x="2340000" y="119700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VARIABLES ESTUDIAD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36" name="Picture 4" descr=""/>
          <p:cNvPicPr/>
          <p:nvPr/>
        </p:nvPicPr>
        <p:blipFill>
          <a:blip r:embed="rId1"/>
          <a:stretch/>
        </p:blipFill>
        <p:spPr>
          <a:xfrm>
            <a:off x="1270080" y="1720800"/>
            <a:ext cx="6603840" cy="5092920"/>
          </a:xfrm>
          <a:prstGeom prst="rect">
            <a:avLst/>
          </a:prstGeom>
          <a:ln w="0">
            <a:noFill/>
          </a:ln>
        </p:spPr>
      </p:pic>
      <p:sp>
        <p:nvSpPr>
          <p:cNvPr id="537" name="CuadroTexto 6"/>
          <p:cNvSpPr/>
          <p:nvPr/>
        </p:nvSpPr>
        <p:spPr>
          <a:xfrm>
            <a:off x="6435000" y="1197000"/>
            <a:ext cx="262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RESULTA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8" name="CuadroTexto 6"/>
          <p:cNvSpPr/>
          <p:nvPr/>
        </p:nvSpPr>
        <p:spPr>
          <a:xfrm>
            <a:off x="1114920" y="1403280"/>
            <a:ext cx="237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Características General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0" name="Picture 4" descr=""/>
          <p:cNvPicPr/>
          <p:nvPr/>
        </p:nvPicPr>
        <p:blipFill>
          <a:blip r:embed="rId1"/>
          <a:stretch/>
        </p:blipFill>
        <p:spPr>
          <a:xfrm>
            <a:off x="649440" y="1847880"/>
            <a:ext cx="7845120" cy="4749840"/>
          </a:xfrm>
          <a:prstGeom prst="rect">
            <a:avLst/>
          </a:prstGeom>
          <a:ln w="0">
            <a:noFill/>
          </a:ln>
        </p:spPr>
      </p:pic>
      <p:sp>
        <p:nvSpPr>
          <p:cNvPr id="541" name="CuadroTexto 6"/>
          <p:cNvSpPr/>
          <p:nvPr/>
        </p:nvSpPr>
        <p:spPr>
          <a:xfrm>
            <a:off x="1506240" y="1341360"/>
            <a:ext cx="488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Estado de la enfermedad Pretrasplan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3" name="Picture 4" descr=""/>
          <p:cNvPicPr/>
          <p:nvPr/>
        </p:nvPicPr>
        <p:blipFill>
          <a:blip r:embed="rId1"/>
          <a:stretch/>
        </p:blipFill>
        <p:spPr>
          <a:xfrm>
            <a:off x="1217520" y="1649520"/>
            <a:ext cx="6708960" cy="5092560"/>
          </a:xfrm>
          <a:prstGeom prst="rect">
            <a:avLst/>
          </a:prstGeom>
          <a:ln w="0">
            <a:noFill/>
          </a:ln>
        </p:spPr>
      </p:pic>
      <p:sp>
        <p:nvSpPr>
          <p:cNvPr id="544" name="CuadroTexto 6"/>
          <p:cNvSpPr/>
          <p:nvPr/>
        </p:nvSpPr>
        <p:spPr>
          <a:xfrm>
            <a:off x="2843640" y="1197000"/>
            <a:ext cx="33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Características del traspla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31T16:23:37Z</dcterms:created>
  <dc:creator>invbio3</dc:creator>
  <dc:description/>
  <dc:language>en-US</dc:language>
  <cp:lastModifiedBy>José Carnot</cp:lastModifiedBy>
  <dcterms:modified xsi:type="dcterms:W3CDTF">2020-11-18T00:34:55Z</dcterms:modified>
  <cp:revision>104</cp:revision>
  <dc:subject/>
  <dc:title>PowerPoint Template</dc:title>
</cp:coreProperties>
</file>