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EAB009-5F5B-44A6-A292-6EBAC8FE5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9CD16-03EE-4AC3-A5FB-2A05BA53FE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DC2508-F1FA-42E9-A56B-B70B14683E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4D4A91-577B-4A62-8F5C-18C1586AB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D9A905-379C-46BC-A749-4AF41FCF2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8ECBF-86AF-4F35-ADE2-6BB8B5BC8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452EBA-A724-4510-8E33-3889FDA1C0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1CC22E1-C4FB-4D5B-8A08-4573D664E4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71260B-1070-4698-8867-6DED6D89EC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A693CE-2675-4848-A952-2BBE8014FD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7EA29-E8AA-4616-9456-C7E99E17BD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D0716-8F2B-4E1B-A4E7-5708654544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4F0F5D-0EFA-42D3-8527-990716F48A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EC050B-8AC0-4A35-B565-E32188AA51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E6705-45EC-4CBD-8A7C-0C7936C6E1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0FB48A-2A1E-4ED4-B7C7-DA8C8D3CF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81398-F82C-4947-98FE-50D49AFD3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8FA386-2FA2-45D3-9540-B291B64AD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2E004E-2B57-4E12-AA0E-E139BACDD4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30C004-99E9-4198-8EF2-DC9BCF94BF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1BA88E-74CA-4067-87DD-4E9CF0BC2A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1E8129-2DE9-4956-9E99-420FB3B088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8BEE3-A3E9-4FCB-8C96-6E3B662FDC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9A3853-F329-450C-B3A8-0FB6172E40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4474DE-682B-49A4-B52F-B52BC8F7DE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00BDED-B27C-4ACF-8A2B-95E0CAFD18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203871-03EF-406D-AE4C-9A73AF0292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471828-A3CC-4AC6-AA4C-A2AD8A3DD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D6AB00-DEA7-426D-A543-5A3B1FEAA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E6779C-B2A3-4FFE-9DC7-360AC2734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8DF130-CDC3-4343-B1C8-E0551FF66D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3E38C9-7392-4075-9C22-9BD6462C45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1CB6B3-67F2-429B-AFAD-47D2917D4C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0897CE-CFA2-4EC9-9C68-E3756A1430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AC2D28-E9E0-4C26-9734-3111984660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52DF68-5204-4235-8FCF-DA48B76020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2F5171-FE48-4FA4-AFC7-C7DDAB9B08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017DE7-9304-4465-A67D-96754B363D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A2842D-1521-43C4-BD1B-790A6E251E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C1D738-9EA5-4A4B-A241-A14870CCB2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5A2496-701E-4D2A-B773-E31BDD4CC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C5AA0-4C19-45FF-AA61-55D63A97A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E4476A-B57A-4E1E-808F-C86CDB20DC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CA170E-8E73-4330-8343-AB4D1408B5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6E5A17-1C69-46A7-A758-017FFC8461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6F3FB6-5C9D-4443-AE57-584FDEC11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7E558-5CAB-45B0-A4FD-46DB79AF1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D734-A066-4D70-BCA6-0EE878ED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4A81D-3A2A-4FCF-B1C0-3780684FA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BCB9A-7860-4869-900E-E3B1D1979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7DAD-482E-40C4-B72F-C6336EBE4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3E74C-756F-4BA5-A958-B69D52BE7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BA1E7-0707-4B57-B437-D2A8388C7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6F1AB-AC32-439C-9BD4-C747F6D9D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1A3F9-4E38-4C7E-8A0A-AB56021E8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898EC-3BF9-4DCD-9C95-93A596BFF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030EA-5640-463F-A091-1639C75EA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35097-D3EE-40A6-A4C0-E9DF00541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500DB-96A5-422F-9B32-F6A06E948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B2A56-FB0E-48D6-86FA-7B759519A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3E848-E33F-4F1B-8028-321124D84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90E65-6AF9-4DCB-BBE3-3DA307AF0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2F8E78-62C8-4382-9EDF-CD774C220D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B5D8B-67F0-4BD7-8358-08A9D887E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7B861-0E98-4262-A8CA-EFB4FC99F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0AFB-BDF4-4E2D-9A99-900496B86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47784-C340-41A3-AA6E-EB18842BD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FF540-E1DC-4945-ADD1-8C322EFF1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47E787-9D18-49E3-8258-3A744202B2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F86088-20D2-482E-B643-5750948DFD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28B57D-2483-47C0-AE88-7C563FB8B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445282-5463-44BA-8DB3-22F381700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A4FD0F-4B39-4710-96FA-46D6AF334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2D071D-8701-44D0-A996-2709ABBBB0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41228B-3E15-464E-B272-B205F8A459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ABF53-F573-4943-83DD-E7355893A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B63E5-8FB5-4E30-B134-4683DA8CD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1B3659-1914-484F-A766-EE72015D5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6EDD5D-D913-45BA-97AD-12F933E171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235D6D-F1B8-4623-8B70-4F6CC4079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3E93FC-EF83-4C63-ADD1-22F2D60DF8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94126B-DF93-4BD1-BD92-CDDC1FDB08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65DD1-5424-4227-9C2D-0C1707DE8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96136D-18CA-4190-94C1-5AE5793FFB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D3F38-C24B-4485-AD12-965CA2B53A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C499B-D62B-4882-8D66-83F6DAF28C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91452-B2E2-4C92-9914-AB1D225757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837A0-A7BA-4C76-AF03-CC632396DA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17E58F-9E48-4AB8-8C0F-2B1ABC52B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2D2A2-362B-45D2-94C9-9F1808506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E06872-D67A-4F93-BDDA-853298564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5569CF-7449-474D-8C14-3DB378727D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B1EE81-3ECE-40D7-A22F-F97844E4E4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CD98BA-AD85-4D48-A663-7FF09A1AF3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39DAA9-4CE7-45AB-92FA-F9754953D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FD1420-8F62-40FC-A7CF-B54E09AAA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49DEE3-5DC3-4E3F-815C-CC6EFE17BE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DA3B2-8B26-4CA5-8DF3-AF479D157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A1734-BA6F-433C-8406-0A473297E0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464D05-2B5F-4FA1-81EF-1647EE9188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536BB-D013-4E10-A246-15DBA90BB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887AE-ACD2-4D60-A1A3-0B8F8D168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EE33A3-6E89-4A94-ACEB-C84B9CA9D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8ED939-FE55-4145-BDB1-78D2774C7F5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1EF0EA-27DA-466A-B754-61D0C29F40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5BE989-BF2C-4558-B36B-8CEAF7C31A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55B22-D0DE-4AE3-9156-B4EC0AAEE7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4BAE78-FE22-4A13-906F-AFE256F9523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64360" y="-6480"/>
            <a:ext cx="92088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64360" y="-6480"/>
            <a:ext cx="920880" cy="13716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6F8F1-2F34-4A18-B5A1-81405D7159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64360" y="-6480"/>
            <a:ext cx="920880" cy="13716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167C-1F19-4232-8191-9AF4BD7110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64360" y="-6480"/>
            <a:ext cx="920880" cy="13716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FC66-9C3F-40DB-9F88-4466F06B2FE1}"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095800" y="165240"/>
            <a:ext cx="363384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64360" y="-6480"/>
            <a:ext cx="920880" cy="1371600"/>
          </a:xfrm>
          <a:prstGeom prst="rect">
            <a:avLst/>
          </a:prstGeom>
          <a:ln w="0">
            <a:noFill/>
          </a:ln>
        </p:spPr>
      </p:pic>
      <p:pic>
        <p:nvPicPr>
          <p:cNvPr id="85" name="Picture 2" descr="foto hospital"/>
          <p:cNvPicPr/>
          <p:nvPr/>
        </p:nvPicPr>
        <p:blipFill>
          <a:blip r:embed="rId3"/>
          <a:stretch/>
        </p:blipFill>
        <p:spPr>
          <a:xfrm>
            <a:off x="8064360" y="-6480"/>
            <a:ext cx="920880" cy="13716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64360" y="-6480"/>
            <a:ext cx="920880" cy="13716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1708-F7B8-4972-83AF-8F50E4A9581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64360" y="-6480"/>
            <a:ext cx="920880" cy="13716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0388-8CEF-443E-A15F-0681E7EFFC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64360" y="-6480"/>
            <a:ext cx="920880" cy="13716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A95B3-2581-4948-A403-A8DFECBF54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64360" y="-6480"/>
            <a:ext cx="920880" cy="13716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32E6-ADE7-426E-AF49-17B67F9EBA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64360" y="-6480"/>
            <a:ext cx="920880" cy="13716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CBAB-2FBC-4001-94A2-EED425726A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64360" y="-6480"/>
            <a:ext cx="920880" cy="13716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A081-78FA-478B-B04D-392B00DB86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subTitle"/>
          </p:nvPr>
        </p:nvSpPr>
        <p:spPr>
          <a:xfrm>
            <a:off x="394920" y="4220640"/>
            <a:ext cx="5891400" cy="235116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n-US" sz="1600" spc="-1" strike="noStrike">
                <a:solidFill>
                  <a:srgbClr val="003366"/>
                </a:solidFill>
                <a:latin typeface="Calibri"/>
                <a:ea typeface="Calibri"/>
              </a:rPr>
              <a:t>Dr. Carlos Ramos Emperador</a:t>
            </a:r>
            <a:endParaRPr b="1" lang="en-US" sz="16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a. Mariam Gonzáles Gorrín                   </a:t>
            </a:r>
            <a:endParaRPr b="1" lang="en-US" sz="16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 David  Jiménez Daudinot                    </a:t>
            </a:r>
            <a:endParaRPr b="1" lang="en-US" sz="1600" spc="-1" strike="noStrike">
              <a:solidFill>
                <a:srgbClr val="00336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de Cardiología.</a:t>
            </a:r>
            <a:endParaRPr b="1" lang="en-US" sz="1600" spc="-1" strike="noStrike">
              <a:solidFill>
                <a:srgbClr val="0033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1" name="Picture 34" descr=""/>
          <p:cNvPicPr/>
          <p:nvPr/>
        </p:nvPicPr>
        <p:blipFill>
          <a:blip r:embed="rId1"/>
          <a:stretch/>
        </p:blipFill>
        <p:spPr>
          <a:xfrm>
            <a:off x="0" y="0"/>
            <a:ext cx="2593800" cy="1512720"/>
          </a:xfrm>
          <a:prstGeom prst="rect">
            <a:avLst/>
          </a:prstGeom>
          <a:ln w="0">
            <a:noFill/>
          </a:ln>
        </p:spPr>
      </p:pic>
      <p:sp>
        <p:nvSpPr>
          <p:cNvPr id="522" name="PlaceHolder 2"/>
          <p:cNvSpPr>
            <a:spLocks noGrp="1"/>
          </p:cNvSpPr>
          <p:nvPr>
            <p:ph type="title"/>
          </p:nvPr>
        </p:nvSpPr>
        <p:spPr>
          <a:xfrm>
            <a:off x="0" y="2852280"/>
            <a:ext cx="91440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Agency FB"/>
              </a:rPr>
              <a:t>Caracteristicas  demografías, clínicas y evolución  de la endocarditis infecciosa  por estafilococo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TABLA #6 MORTALIDAD </a:t>
            </a:r>
            <a:endParaRPr b="1" lang="en-US" sz="3200" spc="-1" strike="noStrike">
              <a:solidFill>
                <a:srgbClr val="ffffff"/>
              </a:solidFill>
              <a:latin typeface="Verdana"/>
            </a:endParaRPr>
          </a:p>
        </p:txBody>
      </p:sp>
      <p:graphicFrame>
        <p:nvGraphicFramePr>
          <p:cNvPr id="544" name=""/>
          <p:cNvGraphicFramePr/>
          <p:nvPr/>
        </p:nvGraphicFramePr>
        <p:xfrm>
          <a:off x="838080" y="1700280"/>
          <a:ext cx="7910640" cy="4681440"/>
        </p:xfrm>
        <a:graphic>
          <a:graphicData uri="http://schemas.openxmlformats.org/drawingml/2006/table">
            <a:tbl>
              <a:tblPr/>
              <a:tblGrid>
                <a:gridCol w="5108760"/>
                <a:gridCol w="1419120"/>
                <a:gridCol w="1382760"/>
              </a:tblGrid>
              <a:tr h="1170000">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RTALIDAD </a:t>
                      </a:r>
                      <a:endParaRPr b="0" lang="en-US" sz="2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a:t>
                      </a:r>
                      <a:endParaRPr b="0" lang="en-US" sz="2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t>
                      </a:r>
                      <a:endParaRPr b="0" lang="en-US" sz="2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117000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IVOS </a:t>
                      </a:r>
                      <a:endParaRPr b="0" lang="en-US" sz="20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Verdana"/>
                        </a:rPr>
                        <a:t>49</a:t>
                      </a:r>
                      <a:endParaRPr b="0" lang="en-US" sz="2000" spc="-1" strike="noStrike">
                        <a:solidFill>
                          <a:srgbClr val="003366"/>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Verdana"/>
                        </a:rPr>
                        <a:t>86,0</a:t>
                      </a:r>
                      <a:endParaRPr b="0" lang="en-US" sz="2000" spc="-1" strike="noStrike">
                        <a:solidFill>
                          <a:srgbClr val="003366"/>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11714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ALLECIDOS </a:t>
                      </a:r>
                      <a:endParaRPr b="0" lang="en-US" sz="2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Verdana"/>
                        </a:rPr>
                        <a:t>8</a:t>
                      </a:r>
                      <a:endParaRPr b="0" lang="en-US" sz="2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Verdana"/>
                        </a:rPr>
                        <a:t>14,0</a:t>
                      </a:r>
                      <a:endParaRPr b="0" lang="en-US" sz="2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117000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TAL </a:t>
                      </a:r>
                      <a:endParaRPr b="0" lang="en-US" sz="2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Verdana"/>
                        </a:rPr>
                        <a:t>57</a:t>
                      </a:r>
                      <a:endParaRPr b="0" lang="en-US" sz="2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Verdana"/>
                        </a:rPr>
                        <a:t>100,0</a:t>
                      </a:r>
                      <a:endParaRPr b="0" lang="en-US" sz="2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RESULTADOS </a:t>
            </a:r>
            <a:endParaRPr b="1" lang="en-US" sz="3200" spc="-1" strike="noStrike">
              <a:solidFill>
                <a:srgbClr val="ffffff"/>
              </a:solidFill>
              <a:latin typeface="Verdana"/>
            </a:endParaRPr>
          </a:p>
        </p:txBody>
      </p:sp>
      <p:sp>
        <p:nvSpPr>
          <p:cNvPr id="546" name=""/>
          <p:cNvSpPr txBox="1"/>
          <p:nvPr/>
        </p:nvSpPr>
        <p:spPr>
          <a:xfrm>
            <a:off x="457200" y="1337760"/>
            <a:ext cx="8229600" cy="5092920"/>
          </a:xfrm>
          <a:prstGeom prst="rect">
            <a:avLst/>
          </a:prstGeom>
          <a:noFill/>
          <a:ln w="0">
            <a:noFill/>
          </a:ln>
        </p:spPr>
        <p:txBody>
          <a:bodyPr anchor="t">
            <a:norm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La Tabla 1 muestra la relación entre las variables demográficas respecto a la mortalidad. Se observó el 100,0 % de muertes en las edades entre 41 y 80 años de los pacientes con </a:t>
            </a:r>
            <a:r>
              <a:rPr b="1" lang="es-ES" sz="1000" spc="-1" strike="noStrike">
                <a:solidFill>
                  <a:srgbClr val="003366"/>
                </a:solidFill>
                <a:latin typeface="Verdana"/>
              </a:rPr>
              <a:t>endocarditis infecciosa</a:t>
            </a:r>
            <a:r>
              <a:rPr b="1" lang="es-ES_tradnl" sz="1000" spc="-1" strike="noStrike">
                <a:solidFill>
                  <a:srgbClr val="003366"/>
                </a:solidFill>
                <a:latin typeface="Verdana"/>
              </a:rPr>
              <a:t>. En los pacientes vivos se comportó muy similar al prevalecer las edades comprendidas entre 41 y 80 años,  estas diferencias no resultaron estadísticamente significativas (p=0,362). En el sexo se observó la prevalencia de los hombres. Al examinar la tabla se apreció que el 100,0% de los pacientes fueron masculinos, mientras que en los vivos el 83,7 % eran del sexo masculino y solo 16,3 % eran mujeres. Estas pequeñas diferencias no resultaron estadísticamente significativas (p=0,273).</a:t>
            </a:r>
            <a:endParaRPr b="1" lang="en-US" sz="1000" spc="-1" strike="noStrike">
              <a:solidFill>
                <a:srgbClr val="003366"/>
              </a:solidFill>
              <a:latin typeface="Verdana"/>
            </a:endParaRPr>
          </a:p>
          <a:p>
            <a:pPr algn="just">
              <a:spcBef>
                <a:spcPts val="24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66"/>
                </a:solidFill>
                <a:latin typeface="Verdana"/>
              </a:rPr>
              <a:t>Los pacientes que presentaron complicaciones fueron 29 para un 50,9 %. Las complicaciones más frecuentes resultaron ser la insuficiencia renal con 13 casos para un 22,8 %, le siguieron el embolismo y la insuficiencia cardíaca con 9 pacientes cada uno para un 15,8 % (Tabla 2).</a:t>
            </a: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 </a:t>
            </a: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En relación a la válvula afectada (Tabla 3) se apreció que prevaleció la afectación de la prótesis en los fallecidos (62,5 %) respecto a los vivos (28,6 %), La MP tuvo mayor porcentaje en los vivos que en los muertos (32,7% y 0,0 % respectivamente). Cuando estuvo afectada la válvula nativa el comportamiento fue similar tanto en los fallecidos (37,5 %) como en los vivos (38,8 %).  Estas diferencias no resultaron estadísticamente significativas (p=0,082).</a:t>
            </a:r>
            <a:endParaRPr b="1" lang="en-US" sz="1000" spc="-1" strike="noStrike">
              <a:solidFill>
                <a:srgbClr val="003366"/>
              </a:solidFill>
              <a:latin typeface="Verdana"/>
            </a:endParaRPr>
          </a:p>
          <a:p>
            <a:pPr algn="just">
              <a:spcBef>
                <a:spcPts val="24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En la Tabla 4 se aprecia la mortalidad respecto al germen, vemos que presentó mayor porcentaje el estafilococo áureo en los fallecidos (37,5 %) en relación a los vivos (18,4 %). Mientras que el estafilococo coagulasa negativa estuvo con mayor representación en los vivos que en los muertos (81,6 % y 62,5 % respectivamente). Estas diferencias no resultaron estadísticamente significativas (p=0,215).</a:t>
            </a: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66"/>
                </a:solidFill>
                <a:latin typeface="Verdana"/>
              </a:rPr>
              <a:t> </a:t>
            </a: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La Tabla 5 muestra la presencia del tratamiento en los pacientes con </a:t>
            </a:r>
            <a:r>
              <a:rPr b="1" lang="es-ES" sz="1000" spc="-1" strike="noStrike">
                <a:solidFill>
                  <a:srgbClr val="003366"/>
                </a:solidFill>
                <a:latin typeface="Verdana"/>
              </a:rPr>
              <a:t>endocarditis infecciosa,</a:t>
            </a:r>
            <a:r>
              <a:rPr b="1" lang="es-ES_tradnl" sz="1000" spc="-1" strike="noStrike">
                <a:solidFill>
                  <a:srgbClr val="003366"/>
                </a:solidFill>
                <a:latin typeface="Verdana"/>
              </a:rPr>
              <a:t> la cirugia resultó ligeramente mayor en los pacientes vivos respecto a los fallecidos (55,1 % y 44,9 % respectivamente). Algo parecido ocurre en los pacientes que recibieron tratamiento farmacológico, en los cuales fue ligeramente mayor en los fallecidos (50,0 %) que en los vivos (44,9 %).  Estas pequeñas diferencias no resultaron estadísticamente significativas (p=0,542).</a:t>
            </a: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3366"/>
                </a:solidFill>
                <a:latin typeface="Verdana"/>
              </a:rPr>
              <a:t>La tabla 6 se aprecia la mortalidad total de la serie con 14% de fallecidos  </a:t>
            </a:r>
            <a:endParaRPr b="1" lang="en-US" sz="1000" spc="-1" strike="noStrike">
              <a:solidFill>
                <a:srgbClr val="003366"/>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3366"/>
                </a:solidFill>
                <a:latin typeface="Verdana"/>
              </a:rPr>
              <a:t> </a:t>
            </a:r>
            <a:endParaRPr b="1" lang="en-US" sz="1000" spc="-1" strike="noStrike">
              <a:solidFill>
                <a:srgbClr val="003366"/>
              </a:solidFill>
              <a:latin typeface="Verdana"/>
            </a:endParaRPr>
          </a:p>
          <a:p>
            <a:pPr>
              <a:spcBef>
                <a:spcPts val="24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CONCLUSIONES </a:t>
            </a:r>
            <a:endParaRPr b="1" lang="en-US" sz="3200" spc="-1" strike="noStrike">
              <a:solidFill>
                <a:srgbClr val="ffffff"/>
              </a:solidFill>
              <a:latin typeface="Verdana"/>
            </a:endParaRPr>
          </a:p>
        </p:txBody>
      </p:sp>
      <p:sp>
        <p:nvSpPr>
          <p:cNvPr id="548" name=""/>
          <p:cNvSpPr txBox="1"/>
          <p:nvPr/>
        </p:nvSpPr>
        <p:spPr>
          <a:xfrm>
            <a:off x="457200" y="1337760"/>
            <a:ext cx="8229600" cy="5092920"/>
          </a:xfrm>
          <a:prstGeom prst="rect">
            <a:avLst/>
          </a:prstGeom>
          <a:noFill/>
          <a:ln w="0">
            <a:noFill/>
          </a:ln>
        </p:spPr>
        <p:txBody>
          <a:bodyPr anchor="t">
            <a:normAutofit/>
          </a:bodyPr>
          <a:p>
            <a:pPr marL="343080" indent="-343080">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3366"/>
                </a:solidFill>
                <a:latin typeface="Verdana"/>
              </a:rPr>
              <a:t>Las variables demográficas se comportaron de forma similar a lo descrito en la literatura con un mayor predominio masculino.</a:t>
            </a:r>
            <a:endParaRPr b="1" lang="en-US" sz="1600" spc="-1" strike="noStrike">
              <a:solidFill>
                <a:srgbClr val="003366"/>
              </a:solidFill>
              <a:latin typeface="Verdana"/>
            </a:endParaRPr>
          </a:p>
          <a:p>
            <a:pPr marL="343080" indent="-343080">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3366"/>
                </a:solidFill>
                <a:latin typeface="Verdana"/>
              </a:rPr>
              <a:t> </a:t>
            </a:r>
            <a:r>
              <a:rPr b="1" i="1" lang="es-ES" sz="1600" spc="-1" strike="noStrike">
                <a:solidFill>
                  <a:srgbClr val="003366"/>
                </a:solidFill>
                <a:latin typeface="Verdana"/>
              </a:rPr>
              <a:t>El estafilococo coagulasa negativo predomino como agente causal</a:t>
            </a:r>
            <a:endParaRPr b="1" lang="en-US" sz="1600" spc="-1" strike="noStrike">
              <a:solidFill>
                <a:srgbClr val="003366"/>
              </a:solidFill>
              <a:latin typeface="Verdana"/>
            </a:endParaRPr>
          </a:p>
          <a:p>
            <a:pPr marL="343080" indent="-343080">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3366"/>
                </a:solidFill>
                <a:latin typeface="Verdana"/>
              </a:rPr>
              <a:t>La mayoría de los casos correspondieron a dispositivos implantados. </a:t>
            </a:r>
            <a:endParaRPr b="1" lang="en-US" sz="1600" spc="-1" strike="noStrike">
              <a:solidFill>
                <a:srgbClr val="003366"/>
              </a:solidFill>
              <a:latin typeface="Verdana"/>
            </a:endParaRPr>
          </a:p>
          <a:p>
            <a:pPr marL="343080" indent="-343080">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3366"/>
                </a:solidFill>
                <a:latin typeface="Verdana"/>
              </a:rPr>
              <a:t>EL 50% de los pacientes presentaron complicaciones con predominio de las renales.  </a:t>
            </a:r>
            <a:endParaRPr b="1" lang="en-US" sz="1600" spc="-1" strike="noStrike">
              <a:solidFill>
                <a:srgbClr val="003366"/>
              </a:solidFill>
              <a:latin typeface="Verdana"/>
            </a:endParaRPr>
          </a:p>
          <a:p>
            <a:pPr marL="343080" indent="-343080">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3366"/>
                </a:solidFill>
                <a:latin typeface="Verdana"/>
              </a:rPr>
              <a:t>La mortalidad no mostro relación con el sexo, la edad, el sitio de infección ni el tratamiento recibido y se comportó de forma similar a lo descripto en la literatura.  </a:t>
            </a:r>
            <a:endParaRPr b="1" lang="en-US" sz="1600" spc="-1" strike="noStrike">
              <a:solidFill>
                <a:srgbClr val="003366"/>
              </a:solidFill>
              <a:latin typeface="Verdana"/>
            </a:endParaRPr>
          </a:p>
          <a:p>
            <a:pPr marL="343080" indent="-343080">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Verdana"/>
              </a:rPr>
              <a:t> </a:t>
            </a:r>
            <a:r>
              <a:rPr b="1" lang="es-ES" sz="1600" spc="-1" strike="noStrike">
                <a:solidFill>
                  <a:srgbClr val="003366"/>
                </a:solidFill>
                <a:latin typeface="Verdana"/>
              </a:rPr>
              <a:t>La Endocarditis infecciosa por estafilococo constituye un gran y difícil reto para el Cardiólogo, máxime cuando su incidencia, el envejecimiento poblacional, la resistencia antimicrobiana van en aumento, lo cual es un puro reflejo que debemos continuar dicha línea investigativa con el fin de conocer mejor tan complejo fenómeno con el objetivo primario de la disminución de su morbimortalidad. </a:t>
            </a:r>
            <a:endParaRPr b="1" lang="en-US" sz="1600" spc="-1" strike="noStrike">
              <a:solidFill>
                <a:srgbClr val="003366"/>
              </a:solidFill>
              <a:latin typeface="Verdana"/>
            </a:endParaRPr>
          </a:p>
          <a:p>
            <a:pPr marL="343080" indent="-343080">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INTRODUCCION </a:t>
            </a:r>
            <a:endParaRPr b="1" lang="en-US" sz="3200" spc="-1" strike="noStrike">
              <a:solidFill>
                <a:srgbClr val="ffffff"/>
              </a:solidFill>
              <a:latin typeface="Verdana"/>
            </a:endParaRPr>
          </a:p>
        </p:txBody>
      </p:sp>
      <p:sp>
        <p:nvSpPr>
          <p:cNvPr id="524" name=""/>
          <p:cNvSpPr txBox="1"/>
          <p:nvPr/>
        </p:nvSpPr>
        <p:spPr>
          <a:xfrm>
            <a:off x="457200" y="1337760"/>
            <a:ext cx="8229600" cy="5519880"/>
          </a:xfrm>
          <a:prstGeom prst="rect">
            <a:avLst/>
          </a:prstGeom>
          <a:noFill/>
          <a:ln w="0">
            <a:noFill/>
          </a:ln>
        </p:spPr>
        <p:txBody>
          <a:bodyPr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Verdana"/>
              </a:rPr>
              <a:t> </a:t>
            </a:r>
            <a:r>
              <a:rPr b="1" lang="es-ES" sz="1200" spc="-1" strike="noStrike">
                <a:solidFill>
                  <a:srgbClr val="003366"/>
                </a:solidFill>
                <a:latin typeface="Verdana"/>
              </a:rPr>
              <a:t>En las últimas décadas las infecciones provocadas por estafilococos han ganado protagonismo con aumento en la incidencia y elevada morbimortalidad, asociado a un incremento en la resistencia a los antibióticos, temas de suma importancia para los diferentes trabajadores del sector de la salud, a nivel internacional y nacional</a:t>
            </a:r>
            <a:r>
              <a:rPr b="1" lang="es-ES" sz="1200" spc="-1" strike="noStrike" baseline="30000">
                <a:solidFill>
                  <a:srgbClr val="003366"/>
                </a:solidFill>
                <a:latin typeface="Verdana"/>
              </a:rPr>
              <a:t>. </a:t>
            </a:r>
            <a:r>
              <a:rPr b="1" lang="es-ES" sz="1200" spc="-1" strike="noStrike">
                <a:solidFill>
                  <a:srgbClr val="003366"/>
                </a:solidFill>
                <a:latin typeface="Verdana"/>
              </a:rPr>
              <a:t>El género estafilococo contiene hasta 40 grupos taxonómicos, 16 de los cuales se encuentran en el ser humano.  Las especies más virulentas son el estafilococo áureos, el epiderminis y el lugdunensis y son los más frecuentes provocando infecciones en el ser humano. El estafilococo áureos (EA) es un patógeno frecuente en los medios hospitalario y extrahospitalario es el germen más frecuente en los pacientes hospitalizados y la segunda de mayor prevalencia en los pacientes atendidos de manera ambulatoria </a:t>
            </a:r>
            <a:r>
              <a:rPr b="1" lang="es-ES" sz="1200" spc="-1" strike="noStrike" baseline="30000">
                <a:solidFill>
                  <a:srgbClr val="003366"/>
                </a:solidFill>
                <a:latin typeface="Verdana"/>
              </a:rPr>
              <a:t> </a:t>
            </a:r>
            <a:r>
              <a:rPr b="1" lang="es-ES" sz="1200" spc="-1" strike="noStrike">
                <a:solidFill>
                  <a:srgbClr val="003366"/>
                </a:solidFill>
                <a:latin typeface="Verdana"/>
              </a:rPr>
              <a:t>y con una   mortalidad elevada.Los estafilococos coagulasa negativos (ECN) son parte de la microbiota residente de humanos y animales. Se encuentran alojados en las diferentes zonas de la piel y de las mucosas.  Los ECN son un grupo de microorganismos muy heterogéneo y complejo. Se los reconoce primariamente asociados a infecciones nosocomiales con cepas de la propia flora (infecciones endógenas) o provenientes del personal de salud (contaminación exógena) en pacientes inmunocomprometidos o debilitados y en neonatos, con la excepción de la mayoría de los episodios de endocarditis de válvula protésica que se manifiestan luego del primer año del implante. La Endocarditis Infecciosa  es una de las complicaciones más graves de la bacteriemia por EA y el ECN. Esta enfermedad tiene una alta mortalidad a pesar de los avances que se ha alcanzado en las técnicas diagnósticas y en el tratamiento médico quirúrgico. La endocarditis por estafilococos presenta una evolución aguda con múltiples émbolos sépticos periféricos, destrucción valvular, miocarditis y shock mixto, cardiogénico y séptico. El tratamiento adecuado requiere una evaluación multidisciplinaria con participación de especialistas en enfermedades infecciosas y en microbiología, cardiólogos, especialistas en cuidados intensivos, cirujanos cardíacos y en ocasiones también neurólogos.</a:t>
            </a:r>
            <a:endParaRPr b="1" lang="en-US" sz="1200" spc="-1" strike="noStrike">
              <a:solidFill>
                <a:srgbClr val="003366"/>
              </a:solidFill>
              <a:latin typeface="Verdan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Verdana"/>
              </a:rPr>
              <a:t> </a:t>
            </a:r>
            <a:endParaRPr b="1" lang="en-US" sz="2000" spc="-1" strike="noStrike">
              <a:solidFill>
                <a:srgbClr val="003366"/>
              </a:solidFill>
              <a:latin typeface="Verdana"/>
            </a:endParaRPr>
          </a:p>
          <a:p>
            <a:pPr algn="just">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DISEÑO METODOLOGICO </a:t>
            </a:r>
            <a:endParaRPr b="1" lang="en-US" sz="3200" spc="-1" strike="noStrike">
              <a:solidFill>
                <a:srgbClr val="ffffff"/>
              </a:solidFill>
              <a:latin typeface="Verdana"/>
            </a:endParaRPr>
          </a:p>
        </p:txBody>
      </p:sp>
      <p:sp>
        <p:nvSpPr>
          <p:cNvPr id="526" name=""/>
          <p:cNvSpPr txBox="1"/>
          <p:nvPr/>
        </p:nvSpPr>
        <p:spPr>
          <a:xfrm>
            <a:off x="457200" y="1337760"/>
            <a:ext cx="8229600" cy="509292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Verdana"/>
              </a:rPr>
              <a:t>Se realizó un estudio descriptivo y longitudinal en pacientes con endocarditis infecciosa por estafilococos en el Hospital Clínico Quirúrgico “Hermanos Ameijeiras” en el periodo de enero de 2005 a diciembre de 2019. El universo quedó conformado por todos los pacientes ingresados con endocarditis infecciosa según los criterios de Duke, en este período de tiempo. Se excluyeron los pacientes con datos incompletos en las historias clínicas y la muestra quedó constituida por 57 pacientes con endocarditis infecciosa por estafilococos. Los datos se obtuvieron de las historias clínicas y los mismos fueron plasmados en una planilla de recolección confeccionada por los investigadores para este fin.  </a:t>
            </a:r>
            <a:r>
              <a:rPr b="1" lang="es-MX" sz="1600" spc="-1" strike="noStrike">
                <a:solidFill>
                  <a:srgbClr val="003366"/>
                </a:solidFill>
                <a:latin typeface="Verdana"/>
              </a:rPr>
              <a:t>Para cumplimentar los objetivos propuestos, se analizaron las variables seleccionadas en la muestra. Se realizó el cálculo de números absolutos y porcentajes (%) como medidas de resumen para variables cualitativas y media, desviación estándar, mínimo y máximo para la variable cuantitativa edad. Para buscar asociación entre las variables estudiadas y la mortalidad se utilizó la prueba estadística de Chi-cuadrado (x</a:t>
            </a:r>
            <a:r>
              <a:rPr b="1" lang="es-MX" sz="1600" spc="-1" strike="noStrike" baseline="30000">
                <a:solidFill>
                  <a:srgbClr val="003366"/>
                </a:solidFill>
                <a:latin typeface="Verdana"/>
              </a:rPr>
              <a:t>2</a:t>
            </a:r>
            <a:r>
              <a:rPr b="1" lang="es-MX" sz="1600" spc="-1" strike="noStrike">
                <a:solidFill>
                  <a:srgbClr val="003366"/>
                </a:solidFill>
                <a:latin typeface="Verdana"/>
              </a:rPr>
              <a:t>)</a:t>
            </a:r>
            <a:r>
              <a:rPr b="1" lang="es-ES" sz="1600" spc="-1" strike="noStrike">
                <a:solidFill>
                  <a:srgbClr val="003366"/>
                </a:solidFill>
                <a:latin typeface="Verdana"/>
              </a:rPr>
              <a:t>. La investigación se realizó cumpliendo con lo establecido por el Código Internacional de Ética Médica.</a:t>
            </a:r>
            <a:endParaRPr b="1" lang="en-US" sz="1600" spc="-1" strike="noStrike">
              <a:solidFill>
                <a:srgbClr val="003366"/>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Verdana"/>
              </a:rPr>
              <a:t> </a:t>
            </a:r>
            <a:endParaRPr b="1" lang="en-US" sz="1600" spc="-1" strike="noStrike">
              <a:solidFill>
                <a:srgbClr val="003366"/>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Verdana"/>
              </a:rPr>
              <a:t>OBJETIVOS </a:t>
            </a:r>
            <a:endParaRPr b="1" lang="en-US" sz="3200" spc="-1" strike="noStrike">
              <a:solidFill>
                <a:srgbClr val="ffffff"/>
              </a:solidFill>
              <a:latin typeface="Verdana"/>
            </a:endParaRPr>
          </a:p>
        </p:txBody>
      </p:sp>
      <p:sp>
        <p:nvSpPr>
          <p:cNvPr id="528" name=""/>
          <p:cNvSpPr txBox="1"/>
          <p:nvPr/>
        </p:nvSpPr>
        <p:spPr>
          <a:xfrm>
            <a:off x="457200" y="1337760"/>
            <a:ext cx="8229600" cy="509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Verdana"/>
              </a:rPr>
              <a:t> </a:t>
            </a:r>
            <a:r>
              <a:rPr b="1" lang="es-ES" sz="2400" spc="-1" strike="noStrike">
                <a:solidFill>
                  <a:srgbClr val="003366"/>
                </a:solidFill>
                <a:latin typeface="Verdana"/>
              </a:rPr>
              <a:t> </a:t>
            </a:r>
            <a:endParaRPr b="1" lang="en-US" sz="2400" spc="-1" strike="noStrike">
              <a:solidFill>
                <a:srgbClr val="003366"/>
              </a:solidFill>
              <a:latin typeface="Verdana"/>
            </a:endParaRPr>
          </a:p>
          <a:p>
            <a:pPr>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Describir las variables demográficas, clínicas y microbiológicas en la muestra.</a:t>
            </a:r>
            <a:endParaRPr b="1" lang="en-US" sz="2400" spc="-1" strike="noStrike">
              <a:solidFill>
                <a:srgbClr val="003366"/>
              </a:solidFill>
              <a:latin typeface="Verdana"/>
            </a:endParaRPr>
          </a:p>
          <a:p>
            <a:pPr>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Identificar las complicaciones, el tratamiento quirúrgico o médico y la mortalidad.</a:t>
            </a:r>
            <a:endParaRPr b="1" lang="en-US" sz="2400" spc="-1" strike="noStrike">
              <a:solidFill>
                <a:srgbClr val="003366"/>
              </a:solidFill>
              <a:latin typeface="Verdana"/>
            </a:endParaRPr>
          </a:p>
          <a:p>
            <a:pPr>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a:p>
            <a:pPr>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Evaluar la posible relación entre la mortalidad respecto a las variantes demográficas, clínicas, microbiológicas y el tratamiento impuesto </a:t>
            </a:r>
            <a:endParaRPr b="1" lang="en-US" sz="2400" spc="-1" strike="noStrike">
              <a:solidFill>
                <a:srgbClr val="003366"/>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Verdana"/>
              </a:rPr>
              <a:t> </a:t>
            </a:r>
            <a:endParaRPr b="1" lang="en-US" sz="2400" spc="-1" strike="noStrike">
              <a:solidFill>
                <a:srgbClr val="003366"/>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Verdana"/>
              </a:rPr>
              <a:t> </a:t>
            </a:r>
            <a:endParaRPr b="1" lang="en-US" sz="2400" spc="-1" strike="noStrike">
              <a:solidFill>
                <a:srgbClr val="003366"/>
              </a:solidFill>
              <a:latin typeface="Verdana"/>
            </a:endParaRPr>
          </a:p>
          <a:p>
            <a:pPr>
              <a:spcBef>
                <a:spcPts val="60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9" name=""/>
          <p:cNvGraphicFramePr/>
          <p:nvPr/>
        </p:nvGraphicFramePr>
        <p:xfrm>
          <a:off x="324000" y="1628640"/>
          <a:ext cx="8502480" cy="4680000"/>
        </p:xfrm>
        <a:graphic>
          <a:graphicData uri="http://schemas.openxmlformats.org/drawingml/2006/table">
            <a:tbl>
              <a:tblPr/>
              <a:tblGrid>
                <a:gridCol w="1746000"/>
                <a:gridCol w="1468440"/>
                <a:gridCol w="881280"/>
                <a:gridCol w="882360"/>
                <a:gridCol w="1028880"/>
                <a:gridCol w="1027080"/>
                <a:gridCol w="1468440"/>
              </a:tblGrid>
              <a:tr h="698400">
                <a:tc gridSpan="2" rowSpan="3">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ariables </a:t>
                      </a:r>
                      <a:endParaRPr b="0" lang="en-US" sz="14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demográficas</a:t>
                      </a:r>
                      <a:endParaRPr b="0" lang="en-US" sz="1400" spc="-1" strike="noStrike">
                        <a:solidFill>
                          <a:srgbClr val="003366"/>
                        </a:solidFill>
                        <a:latin typeface="Arial"/>
                      </a:endParaRPr>
                    </a:p>
                  </a:txBody>
                  <a:tcPr anchor="t">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4">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Mortalidad</a:t>
                      </a:r>
                      <a:endParaRPr b="0" lang="en-US" sz="21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 </a:t>
                      </a:r>
                      <a:endParaRPr b="0" lang="en-US" sz="9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a:t>
                      </a:r>
                      <a:endParaRPr b="0" lang="en-US" sz="900" spc="-1" strike="noStrike">
                        <a:solidFill>
                          <a:srgbClr val="003366"/>
                        </a:solidFill>
                        <a:latin typeface="Arial"/>
                      </a:endParaRPr>
                    </a:p>
                  </a:txBody>
                  <a:tcPr anchor="t">
                    <a:lnL w="1872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90000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Vivo</a:t>
                      </a:r>
                      <a:endParaRPr b="0" lang="en-US" sz="9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n=49)</a:t>
                      </a:r>
                      <a:endParaRPr b="0" lang="en-US" sz="900" spc="-1" strike="noStrike">
                        <a:solidFill>
                          <a:srgbClr val="003366"/>
                        </a:solidFill>
                        <a:latin typeface="Arial"/>
                      </a:endParaRPr>
                    </a:p>
                  </a:txBody>
                  <a:tcPr anchor="t">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Muerto</a:t>
                      </a:r>
                      <a:endParaRPr b="0" lang="en-US" sz="9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n=8)</a:t>
                      </a:r>
                      <a:endParaRPr b="0" lang="en-US" sz="900" spc="-1" strike="noStrike">
                        <a:solidFill>
                          <a:srgbClr val="003366"/>
                        </a:solidFill>
                        <a:latin typeface="Arial"/>
                      </a:endParaRPr>
                    </a:p>
                  </a:txBody>
                  <a:tcPr anchor="t">
                    <a:lnL w="5760">
                      <a:solidFill>
                        <a:srgbClr val="ffffff"/>
                      </a:solidFill>
                    </a:lnL>
                    <a:lnR w="1872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97992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No</a:t>
                      </a:r>
                      <a:endParaRPr b="0" lang="en-US" sz="900" spc="-1" strike="noStrike">
                        <a:solidFill>
                          <a:srgbClr val="003366"/>
                        </a:solidFill>
                        <a:latin typeface="Arial"/>
                      </a:endParaRPr>
                    </a:p>
                  </a:txBody>
                  <a:tcPr anchor="t">
                    <a:lnL w="1872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a:t>
                      </a:r>
                      <a:endParaRPr b="0" lang="en-US" sz="9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No</a:t>
                      </a:r>
                      <a:endParaRPr b="0" lang="en-US" sz="9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a:t>
                      </a:r>
                      <a:endParaRPr b="0" lang="en-US" sz="900" spc="-1" strike="noStrike">
                        <a:solidFill>
                          <a:srgbClr val="003366"/>
                        </a:solidFill>
                        <a:latin typeface="Arial"/>
                      </a:endParaRPr>
                    </a:p>
                  </a:txBody>
                  <a:tcPr anchor="t">
                    <a:lnL w="5760">
                      <a:solidFill>
                        <a:srgbClr val="ffffff"/>
                      </a:solidFill>
                    </a:lnL>
                    <a:lnR w="1872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0640">
                <a:tc rowSpan="4">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ea typeface="Arial"/>
                        </a:rPr>
                        <a:t>Grupos de edades</a:t>
                      </a:r>
                      <a:endParaRPr b="0" lang="en-US" sz="15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19-40 años</a:t>
                      </a:r>
                      <a:endParaRPr b="0" lang="en-US" sz="900" spc="-1" strike="noStrike">
                        <a:solidFill>
                          <a:srgbClr val="003366"/>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1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20,4</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rowSpan="4">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362*</a:t>
                      </a:r>
                      <a:endParaRPr b="0" lang="en-US" sz="9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350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41-60 años</a:t>
                      </a:r>
                      <a:endParaRPr b="0" lang="en-US" sz="9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15</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30,6</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4</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50,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06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61-80 años</a:t>
                      </a:r>
                      <a:endParaRPr b="0" lang="en-US" sz="9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2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40,8</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4</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50,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02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3366"/>
                          </a:solidFill>
                          <a:latin typeface="Verdana"/>
                        </a:rPr>
                        <a:t>&gt; 80 años</a:t>
                      </a:r>
                      <a:endParaRPr b="0" lang="en-US" sz="9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4</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8,2</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350640">
                <a:tc rowSpan="2">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xo</a:t>
                      </a:r>
                      <a:endParaRPr b="0" lang="en-US" sz="18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Masculino</a:t>
                      </a:r>
                      <a:endParaRPr b="0" lang="en-US" sz="9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41</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83,7</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8</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100,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rowSpan="2">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273**</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3492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Femenino</a:t>
                      </a:r>
                      <a:endParaRPr b="0" lang="en-US" sz="9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8</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16,3</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Verdana"/>
                        </a:rPr>
                        <a:t>0,0</a:t>
                      </a:r>
                      <a:endParaRPr b="0" lang="en-US" sz="9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30" name="PlaceHolder 1"/>
          <p:cNvSpPr>
            <a:spLocks noGrp="1"/>
          </p:cNvSpPr>
          <p:nvPr>
            <p:ph type="title"/>
          </p:nvPr>
        </p:nvSpPr>
        <p:spPr>
          <a:xfrm>
            <a:off x="-360" y="536040"/>
            <a:ext cx="7667640" cy="684360"/>
          </a:xfrm>
          <a:prstGeom prst="rect">
            <a:avLst/>
          </a:prstGeom>
          <a:noFill/>
          <a:ln w="0">
            <a:noFill/>
          </a:ln>
        </p:spPr>
        <p:txBody>
          <a:bodyPr lIns="68760" rIns="68760" tIns="34200" bIns="34200" anchor="ctr">
            <a:noAutofit/>
          </a:bodyPr>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s-ES" sz="2000" spc="-1" strike="noStrike">
                <a:solidFill>
                  <a:srgbClr val="003366"/>
                </a:solidFill>
                <a:latin typeface="Arial"/>
                <a:ea typeface="Calibri"/>
              </a:rPr>
              <a:t>     </a:t>
            </a:r>
            <a:r>
              <a:rPr b="0" lang="es-ES" sz="2000" spc="-1" strike="noStrike">
                <a:solidFill>
                  <a:srgbClr val="003366"/>
                </a:solidFill>
                <a:latin typeface="Arial"/>
                <a:ea typeface="Calibri"/>
              </a:rPr>
              <a:t>TABLA #1   MORTALIDAD Y VARIABLES DEMOGRAFICAS  </a:t>
            </a:r>
            <a:br>
              <a:rPr sz="2000"/>
            </a:br>
            <a:r>
              <a:rPr b="0" lang="es-ES" sz="2000" spc="-1" strike="noStrike">
                <a:solidFill>
                  <a:srgbClr val="003366"/>
                </a:solidFill>
                <a:latin typeface="Arial"/>
                <a:ea typeface="Calibri"/>
              </a:rPr>
              <a:t>      *Ji cuadrado ** Test de Fisher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TABLA #2  TIPO de COMPLICACIONES </a:t>
            </a:r>
            <a:endParaRPr b="1" lang="en-US" sz="2800" spc="-1" strike="noStrike">
              <a:solidFill>
                <a:srgbClr val="ffffff"/>
              </a:solidFill>
              <a:latin typeface="Verdana"/>
            </a:endParaRPr>
          </a:p>
        </p:txBody>
      </p:sp>
      <p:graphicFrame>
        <p:nvGraphicFramePr>
          <p:cNvPr id="532" name=""/>
          <p:cNvGraphicFramePr/>
          <p:nvPr/>
        </p:nvGraphicFramePr>
        <p:xfrm>
          <a:off x="684360" y="1484280"/>
          <a:ext cx="8208720" cy="5184720"/>
        </p:xfrm>
        <a:graphic>
          <a:graphicData uri="http://schemas.openxmlformats.org/drawingml/2006/table">
            <a:tbl>
              <a:tblPr/>
              <a:tblGrid>
                <a:gridCol w="5302080"/>
                <a:gridCol w="1471680"/>
                <a:gridCol w="1434960"/>
              </a:tblGrid>
              <a:tr h="446040">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omplicaciones (n=57)</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No</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No</a:t>
                      </a:r>
                      <a:endParaRPr b="0" lang="en-US" sz="10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0" rIns="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28</a:t>
                      </a:r>
                      <a:endParaRPr b="0" lang="en-US" sz="1000" spc="-1" strike="noStrike">
                        <a:solidFill>
                          <a:srgbClr val="003366"/>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0" rIns="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49,1</a:t>
                      </a:r>
                      <a:endParaRPr b="0" lang="en-US" sz="1000" spc="-1" strike="noStrike">
                        <a:solidFill>
                          <a:srgbClr val="003366"/>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i</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29</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50,9</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79720">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1" lang="en-US" sz="1000" spc="-1" strike="noStrike">
                          <a:solidFill>
                            <a:srgbClr val="ffffff"/>
                          </a:solidFill>
                          <a:latin typeface="Verdana"/>
                        </a:rPr>
                        <a:t>Tipo de complicaciones </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nsuficiencia renal</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13</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22,8</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mbolismo</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9</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15,8</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Insuficiencia cardíaca</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9</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15,8</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44460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espiratoria</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6</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10,5</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Neurológica</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5</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8,8</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allo órganos</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3</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5,3</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neurisma</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2</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3,5</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4460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Sepsis</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1</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3366"/>
                          </a:solidFill>
                          <a:latin typeface="Verdana"/>
                        </a:rPr>
                        <a:t>1,8</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bl>
          </a:graphicData>
        </a:graphic>
      </p:graphicFrame>
      <p:sp>
        <p:nvSpPr>
          <p:cNvPr id="53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Calibri"/>
              </a:rPr>
              <a:t>TABLA # 3 MORTALIDAD SEGUN TIPO DE ENDOCARDITIS </a:t>
            </a:r>
            <a:br>
              <a:rPr sz="2400"/>
            </a:br>
            <a:r>
              <a:rPr b="1" i="1" lang="en-US" sz="2400" spc="-1" strike="noStrike">
                <a:solidFill>
                  <a:srgbClr val="ffffff"/>
                </a:solidFill>
                <a:latin typeface="Calibri"/>
              </a:rPr>
              <a:t>*Ji cuadrado</a:t>
            </a:r>
            <a:endParaRPr b="1" lang="en-US" sz="2400" spc="-1" strike="noStrike">
              <a:solidFill>
                <a:srgbClr val="ffffff"/>
              </a:solidFill>
              <a:latin typeface="Verdana"/>
            </a:endParaRPr>
          </a:p>
        </p:txBody>
      </p:sp>
      <p:graphicFrame>
        <p:nvGraphicFramePr>
          <p:cNvPr id="535" name=""/>
          <p:cNvGraphicFramePr/>
          <p:nvPr/>
        </p:nvGraphicFramePr>
        <p:xfrm>
          <a:off x="611280" y="1341360"/>
          <a:ext cx="8353440" cy="5397480"/>
        </p:xfrm>
        <a:graphic>
          <a:graphicData uri="http://schemas.openxmlformats.org/drawingml/2006/table">
            <a:tbl>
              <a:tblPr/>
              <a:tblGrid>
                <a:gridCol w="1584360"/>
                <a:gridCol w="1582560"/>
                <a:gridCol w="865080"/>
                <a:gridCol w="863640"/>
                <a:gridCol w="1009800"/>
                <a:gridCol w="1008000"/>
                <a:gridCol w="1440000"/>
              </a:tblGrid>
              <a:tr h="1519200">
                <a:tc gridSpan="2" row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STADO AL EGRESO</a:t>
                      </a:r>
                      <a:endParaRPr b="0" lang="en-US" sz="1200" spc="-1" strike="noStrike">
                        <a:solidFill>
                          <a:srgbClr val="003366"/>
                        </a:solidFill>
                        <a:latin typeface="Arial"/>
                      </a:endParaRPr>
                    </a:p>
                  </a:txBody>
                  <a:tcPr anchor="t">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hMerge="1" row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VIVOS</a:t>
                      </a:r>
                      <a:endParaRPr b="0" lang="en-US" sz="12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49)</a:t>
                      </a:r>
                      <a:endParaRPr b="0" lang="en-US" sz="12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ALLECIDOS</a:t>
                      </a:r>
                      <a:endParaRPr b="0" lang="en-US" sz="12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8)</a:t>
                      </a:r>
                      <a:endParaRPr b="0" lang="en-US" sz="12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endParaRPr b="0" lang="en-US" sz="1200" spc="-1" strike="noStrike">
                        <a:solidFill>
                          <a:srgbClr val="003366"/>
                        </a:solidFill>
                        <a:latin typeface="Arial"/>
                      </a:endParaRPr>
                    </a:p>
                  </a:txBody>
                  <a:tcPr anchor="t">
                    <a:lnL w="1872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588960">
                <a:tc vMerge="1" gridSpan="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No</a:t>
                      </a:r>
                      <a:endParaRPr b="0" lang="en-US" sz="1200" spc="-1" strike="noStrike">
                        <a:solidFill>
                          <a:srgbClr val="003366"/>
                        </a:solidFill>
                        <a:latin typeface="Arial"/>
                      </a:endParaRPr>
                    </a:p>
                  </a:txBody>
                  <a:tcPr anchor="t">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a:t>
                      </a:r>
                      <a:endParaRPr b="0" lang="en-US" sz="1200" spc="-1" strike="noStrike">
                        <a:solidFill>
                          <a:srgbClr val="003366"/>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No</a:t>
                      </a:r>
                      <a:endParaRPr b="0" lang="en-US" sz="1200" spc="-1" strike="noStrike">
                        <a:solidFill>
                          <a:srgbClr val="003366"/>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a:t>
                      </a:r>
                      <a:endParaRPr b="0" lang="en-US" sz="1200" spc="-1" strike="noStrike">
                        <a:solidFill>
                          <a:srgbClr val="003366"/>
                        </a:solidFill>
                        <a:latin typeface="Arial"/>
                      </a:endParaRPr>
                    </a:p>
                  </a:txBody>
                  <a:tcPr anchor="t">
                    <a:lnL w="5760">
                      <a:solidFill>
                        <a:srgbClr val="ffffff"/>
                      </a:solidFill>
                    </a:lnL>
                    <a:lnR w="18720">
                      <a:solidFill>
                        <a:srgbClr val="ffffff"/>
                      </a:solidFill>
                    </a:lnR>
                    <a:lnT w="1872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279800">
                <a:tc rowSpan="3">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TIPO DE ENDOCARDITIS </a:t>
                      </a:r>
                      <a:endParaRPr b="0" lang="en-US" sz="12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Prótesis valvular</a:t>
                      </a:r>
                      <a:endParaRPr b="0" lang="en-US" sz="12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14</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28,6</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5</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62,5</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rowSpan="3">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0,082*</a:t>
                      </a:r>
                      <a:endParaRPr b="0" lang="en-US" sz="12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7eaf1"/>
                    </a:solidFill>
                  </a:tcPr>
                </a:tc>
              </a:tr>
              <a:tr h="127764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Verdana"/>
                        </a:rPr>
                        <a:t>Dispositivo implantado</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16</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32,7</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0</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0,0</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7318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Valvula Nativa</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19</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38,8</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3</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37,5</a:t>
                      </a:r>
                      <a:endParaRPr b="0" lang="en-US" sz="12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36" name="Rectangle 4"/>
          <p:cNvSpPr/>
          <p:nvPr/>
        </p:nvSpPr>
        <p:spPr>
          <a:xfrm>
            <a:off x="-2495520" y="90360"/>
            <a:ext cx="149050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Ji cuadrado</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7" name=""/>
          <p:cNvGraphicFramePr/>
          <p:nvPr/>
        </p:nvGraphicFramePr>
        <p:xfrm>
          <a:off x="611280" y="1557360"/>
          <a:ext cx="8137440" cy="4967280"/>
        </p:xfrm>
        <a:graphic>
          <a:graphicData uri="http://schemas.openxmlformats.org/drawingml/2006/table">
            <a:tbl>
              <a:tblPr/>
              <a:tblGrid>
                <a:gridCol w="3076560"/>
                <a:gridCol w="844560"/>
                <a:gridCol w="842760"/>
                <a:gridCol w="984240"/>
                <a:gridCol w="984240"/>
                <a:gridCol w="1405080"/>
              </a:tblGrid>
              <a:tr h="768960">
                <a:tc rowSpan="3">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ermen</a:t>
                      </a:r>
                      <a:endParaRPr b="0" lang="en-US" sz="1600" spc="-1" strike="noStrike">
                        <a:solidFill>
                          <a:srgbClr val="003366"/>
                        </a:solidFill>
                        <a:latin typeface="Arial"/>
                      </a:endParaRPr>
                    </a:p>
                  </a:txBody>
                  <a:tcPr anchor="t">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gridSpan="4">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rtalidad</a:t>
                      </a:r>
                      <a:endParaRPr b="0" lang="en-US" sz="16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endParaRPr b="0" lang="en-US" sz="10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p</a:t>
                      </a:r>
                      <a:endParaRPr b="0" lang="en-US" sz="1000" spc="-1" strike="noStrike">
                        <a:solidFill>
                          <a:srgbClr val="003366"/>
                        </a:solidFill>
                        <a:latin typeface="Arial"/>
                      </a:endParaRPr>
                    </a:p>
                  </a:txBody>
                  <a:tcPr anchor="t">
                    <a:lnL w="1872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12769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erdana"/>
                        </a:rPr>
                        <a:t>VIVOS </a:t>
                      </a:r>
                      <a:endParaRPr b="0" lang="en-US" sz="12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n=49)</a:t>
                      </a:r>
                      <a:endParaRPr b="0" lang="en-US" sz="1000" spc="-1" strike="noStrike">
                        <a:solidFill>
                          <a:srgbClr val="003366"/>
                        </a:solidFill>
                        <a:latin typeface="Arial"/>
                      </a:endParaRPr>
                    </a:p>
                  </a:txBody>
                  <a:tcPr anchor="t">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FALLECIDOS</a:t>
                      </a:r>
                      <a:endParaRPr b="0" lang="en-US" sz="10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n=8)</a:t>
                      </a:r>
                      <a:endParaRPr b="0" lang="en-US" sz="1000" spc="-1" strike="noStrike">
                        <a:solidFill>
                          <a:srgbClr val="003366"/>
                        </a:solidFill>
                        <a:latin typeface="Arial"/>
                      </a:endParaRPr>
                    </a:p>
                  </a:txBody>
                  <a:tcPr anchor="t">
                    <a:lnL w="5760">
                      <a:solidFill>
                        <a:srgbClr val="ffffff"/>
                      </a:solidFill>
                    </a:lnL>
                    <a:lnR w="1872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91872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No</a:t>
                      </a:r>
                      <a:endParaRPr b="0" lang="en-US" sz="1000" spc="-1" strike="noStrike">
                        <a:solidFill>
                          <a:srgbClr val="003366"/>
                        </a:solidFill>
                        <a:latin typeface="Arial"/>
                      </a:endParaRPr>
                    </a:p>
                  </a:txBody>
                  <a:tcPr anchor="t">
                    <a:lnL w="1872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No</a:t>
                      </a:r>
                      <a:endParaRPr b="0" lang="en-US" sz="10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a:t>
                      </a:r>
                      <a:endParaRPr b="0" lang="en-US" sz="1000" spc="-1" strike="noStrike">
                        <a:solidFill>
                          <a:srgbClr val="003366"/>
                        </a:solidFill>
                        <a:latin typeface="Arial"/>
                      </a:endParaRPr>
                    </a:p>
                  </a:txBody>
                  <a:tcPr anchor="t">
                    <a:lnL w="5760">
                      <a:solidFill>
                        <a:srgbClr val="ffffff"/>
                      </a:solidFill>
                    </a:lnL>
                    <a:lnR w="1872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8024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ESTAFILOCOCO AUREUS  </a:t>
                      </a:r>
                      <a:endParaRPr b="0" lang="en-US" sz="10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9</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18,4</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3</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37,5</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rowSpan="2">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0,215*</a:t>
                      </a:r>
                      <a:endParaRPr b="0" lang="en-US" sz="10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104292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AFILOCOCO COAGULASA NEGATIVO </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40</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81,6</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5</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62,5</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7952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TOTAL</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49</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100,0</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8</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100,0</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 </a:t>
                      </a:r>
                      <a:endParaRPr b="0" lang="en-US" sz="10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bl>
          </a:graphicData>
        </a:graphic>
      </p:graphicFrame>
      <p:sp>
        <p:nvSpPr>
          <p:cNvPr id="538" name="Rectangle 4"/>
          <p:cNvSpPr/>
          <p:nvPr/>
        </p:nvSpPr>
        <p:spPr>
          <a:xfrm>
            <a:off x="-2495520" y="0"/>
            <a:ext cx="14519160" cy="4572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53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TABLA # 4 Mortalidad según germen </a:t>
            </a:r>
            <a:br>
              <a:rPr sz="2000"/>
            </a:br>
            <a:r>
              <a:rPr b="1" lang="es-MX" sz="2000" spc="-1" strike="noStrike">
                <a:solidFill>
                  <a:srgbClr val="ffffff"/>
                </a:solidFill>
                <a:latin typeface="Verdana"/>
              </a:rPr>
              <a:t>*Test de Fisher</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TABLA #5 MORTALIDAD SEGÚN TRATAMIENTO </a:t>
            </a:r>
            <a:endParaRPr b="1" lang="en-US" sz="2000" spc="-1" strike="noStrike">
              <a:solidFill>
                <a:srgbClr val="ffffff"/>
              </a:solidFill>
              <a:latin typeface="Verdana"/>
            </a:endParaRPr>
          </a:p>
        </p:txBody>
      </p:sp>
      <p:graphicFrame>
        <p:nvGraphicFramePr>
          <p:cNvPr id="541" name=""/>
          <p:cNvGraphicFramePr/>
          <p:nvPr/>
        </p:nvGraphicFramePr>
        <p:xfrm>
          <a:off x="250920" y="1268280"/>
          <a:ext cx="8424720" cy="5467320"/>
        </p:xfrm>
        <a:graphic>
          <a:graphicData uri="http://schemas.openxmlformats.org/drawingml/2006/table">
            <a:tbl>
              <a:tblPr/>
              <a:tblGrid>
                <a:gridCol w="3186000"/>
                <a:gridCol w="873000"/>
                <a:gridCol w="873360"/>
                <a:gridCol w="1019160"/>
                <a:gridCol w="1019160"/>
                <a:gridCol w="1454040"/>
              </a:tblGrid>
              <a:tr h="487080">
                <a:tc rowSpan="3">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 </a:t>
                      </a:r>
                      <a:endParaRPr b="0" lang="en-US" sz="16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TAMIENTO  </a:t>
                      </a:r>
                      <a:endParaRPr b="0" lang="en-US" sz="1600" spc="-1" strike="noStrike">
                        <a:solidFill>
                          <a:srgbClr val="003366"/>
                        </a:solidFill>
                        <a:latin typeface="Arial"/>
                      </a:endParaRPr>
                    </a:p>
                  </a:txBody>
                  <a:tcPr anchor="t">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gridSpan="4">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RTALIDAD </a:t>
                      </a:r>
                      <a:endParaRPr b="0" lang="en-US" sz="16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3">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 </a:t>
                      </a:r>
                      <a:endParaRPr b="0" lang="en-US" sz="16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a:t>
                      </a:r>
                      <a:endParaRPr b="0" lang="en-US" sz="1600" spc="-1" strike="noStrike">
                        <a:solidFill>
                          <a:srgbClr val="003366"/>
                        </a:solidFill>
                        <a:latin typeface="Arial"/>
                      </a:endParaRPr>
                    </a:p>
                  </a:txBody>
                  <a:tcPr anchor="t">
                    <a:lnL w="1872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11548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VIVOS</a:t>
                      </a:r>
                      <a:endParaRPr b="0" lang="en-US" sz="16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n=49)</a:t>
                      </a:r>
                      <a:endParaRPr b="0" lang="en-US" sz="1600" spc="-1" strike="noStrike">
                        <a:solidFill>
                          <a:srgbClr val="003366"/>
                        </a:solidFill>
                        <a:latin typeface="Arial"/>
                      </a:endParaRPr>
                    </a:p>
                  </a:txBody>
                  <a:tcPr anchor="t">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FALLECIDOS</a:t>
                      </a:r>
                      <a:endParaRPr b="0" lang="en-US" sz="1600" spc="-1" strike="noStrike">
                        <a:solidFill>
                          <a:srgbClr val="003366"/>
                        </a:solidFill>
                        <a:latin typeface="Arial"/>
                      </a:endParaRPr>
                    </a:p>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n=8)</a:t>
                      </a:r>
                      <a:endParaRPr b="0" lang="en-US" sz="1600" spc="-1" strike="noStrike">
                        <a:solidFill>
                          <a:srgbClr val="003366"/>
                        </a:solidFill>
                        <a:latin typeface="Arial"/>
                      </a:endParaRPr>
                    </a:p>
                  </a:txBody>
                  <a:tcPr anchor="t">
                    <a:lnL w="5760">
                      <a:solidFill>
                        <a:srgbClr val="ffffff"/>
                      </a:solidFill>
                    </a:lnL>
                    <a:lnR w="18720">
                      <a:solidFill>
                        <a:srgbClr val="ffffff"/>
                      </a:solidFill>
                    </a:lnR>
                    <a:lnT w="18720">
                      <a:solidFill>
                        <a:srgbClr val="ffffff"/>
                      </a:solidFill>
                    </a:lnT>
                    <a:lnB w="5760">
                      <a:solidFill>
                        <a:srgbClr val="ffffff"/>
                      </a:solidFill>
                    </a:lnB>
                    <a:solidFill>
                      <a:srgbClr val="ccd3e3"/>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10088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No</a:t>
                      </a:r>
                      <a:endParaRPr b="0" lang="en-US" sz="1600" spc="-1" strike="noStrike">
                        <a:solidFill>
                          <a:srgbClr val="003366"/>
                        </a:solidFill>
                        <a:latin typeface="Arial"/>
                      </a:endParaRPr>
                    </a:p>
                  </a:txBody>
                  <a:tcPr anchor="t">
                    <a:lnL w="1872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t>
                      </a:r>
                      <a:endParaRPr b="0" lang="en-US" sz="16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No</a:t>
                      </a:r>
                      <a:endParaRPr b="0" lang="en-US" sz="1600" spc="-1" strike="noStrike">
                        <a:solidFill>
                          <a:srgbClr val="003366"/>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t">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a:t>
                      </a:r>
                      <a:endParaRPr b="0" lang="en-US" sz="1600" spc="-1" strike="noStrike">
                        <a:solidFill>
                          <a:srgbClr val="003366"/>
                        </a:solidFill>
                        <a:latin typeface="Arial"/>
                      </a:endParaRPr>
                    </a:p>
                  </a:txBody>
                  <a:tcPr anchor="t">
                    <a:lnL w="5760">
                      <a:solidFill>
                        <a:srgbClr val="ffffff"/>
                      </a:solidFill>
                    </a:lnL>
                    <a:lnR w="1872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48708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QUIRURGICO</a:t>
                      </a:r>
                      <a:endParaRPr b="0" lang="en-US" sz="16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27</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55,1</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4</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50,0</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rowSpan="2">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0,542*</a:t>
                      </a:r>
                      <a:endParaRPr b="0" lang="en-US" sz="1600" spc="-1" strike="noStrike">
                        <a:solidFill>
                          <a:srgbClr val="003366"/>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r>
              <a:tr h="833040">
                <a:tc>
                  <a:txBody>
                    <a:bodyPr lIns="0" rIns="0" tIns="0" bIns="0" anchor="ctr">
                      <a:noAutofit/>
                    </a:bodyPr>
                    <a:p>
                      <a:pP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               </a:t>
                      </a:r>
                      <a:r>
                        <a:rPr b="1" lang="es-ES" sz="1600" spc="-1" strike="noStrike">
                          <a:solidFill>
                            <a:srgbClr val="ffffff"/>
                          </a:solidFill>
                          <a:latin typeface="Verdana"/>
                        </a:rPr>
                        <a:t>MEDICO</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22</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44,9</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4</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50,0</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831960">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Total</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49</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100,0</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8</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100,0</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0" rIns="0" tIns="0" bIns="0" anchor="ctr">
                      <a:noAutofit/>
                    </a:bodyPr>
                    <a:p>
                      <a:pPr algn="ctr">
                        <a:lnSpc>
                          <a:spcPct val="2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 </a:t>
                      </a:r>
                      <a:endParaRPr b="0" lang="en-US" sz="1600" spc="-1" strike="noStrike">
                        <a:solidFill>
                          <a:srgbClr val="00336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bl>
          </a:graphicData>
        </a:graphic>
      </p:graphicFrame>
      <p:sp>
        <p:nvSpPr>
          <p:cNvPr id="542" name="Rectangle 1"/>
          <p:cNvSpPr/>
          <p:nvPr/>
        </p:nvSpPr>
        <p:spPr>
          <a:xfrm>
            <a:off x="-3137040" y="-144360"/>
            <a:ext cx="15033600" cy="4572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sccvdoc</cp:lastModifiedBy>
  <dcterms:modified xsi:type="dcterms:W3CDTF">2020-11-19T15:09:50Z</dcterms:modified>
  <cp:revision>107</cp:revision>
  <dc:subject/>
  <dc:title>PowerPoint Template</dc:title>
</cp:coreProperties>
</file>