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dt" idx="28"/>
          </p:nvPr>
        </p:nvSpPr>
        <p:spPr>
          <a:xfrm>
            <a:off x="4022280" y="0"/>
            <a:ext cx="3078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sldImg"/>
          </p:nvPr>
        </p:nvSpPr>
        <p:spPr>
          <a:xfrm>
            <a:off x="1526760" y="1123560"/>
            <a:ext cx="4048200" cy="3035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body"/>
          </p:nvPr>
        </p:nvSpPr>
        <p:spPr>
          <a:xfrm>
            <a:off x="709200" y="4327560"/>
            <a:ext cx="5683320" cy="35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ftr" idx="29"/>
          </p:nvPr>
        </p:nvSpPr>
        <p:spPr>
          <a:xfrm>
            <a:off x="0" y="8540280"/>
            <a:ext cx="30780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 type="sldNum" idx="30"/>
          </p:nvPr>
        </p:nvSpPr>
        <p:spPr>
          <a:xfrm>
            <a:off x="4022280" y="8540280"/>
            <a:ext cx="307836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49B04-80E0-4FFD-BE95-AE6901949E5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527120" y="1123920"/>
            <a:ext cx="4048200" cy="303516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709200" y="4327560"/>
            <a:ext cx="5683320" cy="3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Marcador de número de diapositiva 3"/>
          <p:cNvSpPr/>
          <p:nvPr/>
        </p:nvSpPr>
        <p:spPr>
          <a:xfrm>
            <a:off x="4022640" y="8540640"/>
            <a:ext cx="30783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CE374-864C-43AC-AF8C-BE0E7FC60824}" type="slidenum">
              <a:rPr b="0" lang="es-E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A757BD-AA67-4F6B-8E84-BAA98D495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574FA8-9849-49B9-A46C-8999E3262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0A83B-8018-45C7-9B41-2269EBFD9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E64384-B31C-4E65-A7BE-A2489BA9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A5E885-8773-4537-B629-03F7F42F7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E5E96F-5F0C-49EE-B2C0-AB5B4B70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855C12-D952-47E1-8F83-496BE3E9E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003670-F705-405E-8416-B65405241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FDB2A4-99A0-4103-923E-42319F3EB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06A39F-0D81-4370-A847-C8E1FE271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CF7043-2210-4FAA-92AF-6C9728264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E353F3-CD85-4653-B08B-AF52FD0E7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E4CEFA-E0BB-4655-AE54-241B51415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7EEB96-F4F0-4EB3-A689-404EC1C2E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3939B6-47D4-4C69-9C82-781C60CE7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8903EA-AA36-473C-8423-32BC0BE1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979A0F-7700-47AF-BD39-706746C01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9BB653-0834-4FE8-9F34-7982DF433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3BC083-7EDC-4317-A616-57D121A00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4A6791-A0AA-44FA-9012-4715181DF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985690-AED4-4903-8E5C-48585ABD8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AC61C7-E9E6-436C-ACA0-717583B17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751285-9B74-416B-8028-C54963F5F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A263B2-C80F-4753-840B-44BCC1E7D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7DDD12-FED0-4634-9F9C-99B87D494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A2A7FD-8DEF-478E-9B8A-D3DA787D7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5AA7E8-803B-4551-81F4-2615D43CC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39A857-357A-4ADE-A7F5-1CE8517D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AC9431-DFF8-4EE7-9A0C-A9D63559D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5F50B3-0746-4075-A203-682AD256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725602-AB0B-41E5-813A-1F4DE2EBC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C8A9A6-0911-4F3B-A220-12E8B11F2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6B24F3-4924-49C2-8B7A-2CCA33664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CDD945-DF99-4DD2-A642-DC0A195A4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ABBBEE-42C3-437C-B794-88DC44CE7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3A12AA-6A0D-41FE-A934-F0A48C3EA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EAC753-6462-4CC2-B2D6-2B85B47C0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65A3AA-9A8D-41F0-9129-AC172A055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2E0480-153A-43E1-9D10-CD37F559A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BEBDF4-F812-484D-8278-3CE91042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C24F30-2097-44FD-8B0E-DD3167AB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D4A137-11F7-46DF-9DD7-8EDE285D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B72F05-AB63-49C2-B447-0742F9EF1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394F9D-F238-4962-96F7-377DA3631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D8435F-0E42-4353-9445-5C5A5EBF3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75EA-8E8E-497E-BB20-0ADCBF53D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8359-138A-479B-A66C-BDC9F1FD7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5637-1E26-45F2-911A-B59D51176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B070-6382-4833-AFAA-A2582F9D4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75E1-BE01-4418-BB17-B6134C93B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BEF1-9A93-49E1-9EC7-308E9FE6E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563B-4B31-49FE-9352-F45B7D50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4BB1-1E5C-4E61-842F-03022F2CD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2BE3-2884-444A-89B6-3343E2B80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7A06-FADC-496B-AFAB-DBD3DEF17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D78B-75D2-4FC8-8E63-01168D357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0232-2D85-4844-B2C7-5540A8EC1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6EA37-C909-4944-9EC2-DDB1F6C30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8F076-D6E1-4A83-82E8-1F141209B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CC1B7-90AF-4FC9-9DB9-B2B92B383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77406-B389-4263-8582-C1420B3D5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C5890-B87A-4DCA-BC6D-D2F15F3AC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614A9-4B15-4CFE-954C-BCA44237F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062C4-6212-48FF-88F5-C6902F6D9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CFE84-DDA1-4F07-AD96-D21FF5F2A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5A881-04AB-40CE-8EDC-DC6B5C9D6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7CFD3-DB9E-415F-B3CF-74F2693CF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CF95B-4457-4842-A57F-387F32829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FA5FC-8E4B-44C2-9A5C-8DE22F12F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AD44A-E951-4B30-B694-925AFE059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A0813-99B8-4C7E-9BD4-6F2614A12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F4D3E-A86B-4AD7-870D-588B5277A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B9A9E-0159-496B-8AED-D964C7AF4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8415F-DE28-427C-BD86-E4DDA49EE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85D3B-31D8-4DF2-9742-B5C2841A2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56159-8139-4206-946E-0546CCE1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88F38-8929-4704-BB03-7A967910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2461B-F1BF-4AC5-BA8E-1255FC75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45C45-3E40-4607-9AFE-9E56AC9A6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0DA49-7720-4440-B9B8-2ADD6F750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5697E-B787-4738-BBEC-948C5C4F4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69804-60C9-4E74-BF49-71472A967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E0BF7-8091-43EF-8F8E-F8EE3CA28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56112-22A3-4243-8B6B-9B2860FB8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8F838-5A83-42E5-A47F-F79E2A57A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14823-361D-41C6-85D2-B2A15887E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B72D2-8137-423C-ABF2-ACD9CBF63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E1357-14C8-47A8-BBA1-4AAB5E930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122AB-5352-4AF8-8EE8-D929A0B93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8617C-D846-421C-BA3B-E3CAF840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8834E-90FC-40DA-8AD9-36E9BE001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3A52A-3D58-49E6-BDE1-528E0DF37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A0298-9FF8-4AA2-B7D3-B11E12D71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4F0E29-689F-4D80-B688-48922E185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12C190-E7C1-4958-BD91-8F83D152C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5CD85E-E86A-4DE2-8DEA-3FC178DC8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297FC-9F99-4E83-94EC-6B1EC5DA2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20948C-F9DD-4C30-BEF8-924CAB483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72EB7D-6C70-4189-927B-0F699F9A2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49D78C-6671-4C92-8BB3-A341FD7E1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29B94-600D-4072-A9D5-ADA29AC4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8B4E4-EB77-471C-A826-D6B7A815F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F4812-7E71-425E-BCD2-D5A56B3BA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0F88D1-44BF-4B49-9DF6-677887D97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716271-E00B-40F1-B742-6E7FD50BA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42EA42-05B7-4959-8391-6A2C5CD75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84D401-E3F8-4DCE-9F3D-44FD5E20F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6B9D4-9FA4-4D2D-9EA4-11B992B79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9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90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19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0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21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4A8F8-D216-43A7-8B2D-6809375A0DE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3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34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2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3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24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D40DB-4AC9-400A-B674-874E3558F80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7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78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25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26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27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B7231-CCD9-449A-9118-CCEF15B8C381}" type="slidenum"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a9dc"/>
            </a:gs>
            <a:gs pos="100000">
              <a:srgbClr val="dfe5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foto hospital"/>
          <p:cNvPicPr/>
          <p:nvPr/>
        </p:nvPicPr>
        <p:blipFill>
          <a:blip r:embed="rId2"/>
          <a:stretch/>
        </p:blipFill>
        <p:spPr>
          <a:xfrm>
            <a:off x="5102280" y="165240"/>
            <a:ext cx="3627360" cy="61992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17"/>
          <p:cNvSpPr/>
          <p:nvPr/>
        </p:nvSpPr>
        <p:spPr>
          <a:xfrm>
            <a:off x="0" y="2971800"/>
            <a:ext cx="9144000" cy="9144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Rectangle 18"/>
          <p:cNvSpPr/>
          <p:nvPr/>
        </p:nvSpPr>
        <p:spPr>
          <a:xfrm>
            <a:off x="0" y="2895480"/>
            <a:ext cx="8229600" cy="9144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84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foto hospital"/>
          <p:cNvPicPr/>
          <p:nvPr/>
        </p:nvPicPr>
        <p:blipFill>
          <a:blip r:embed="rId3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2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3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9D125-4DA9-4E1D-B9FB-8F55F11BE64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0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EABFE-8666-453A-BA79-795CE8693B1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4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7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8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9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C70C9-F8E0-4F78-8F27-11A4B0BE938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8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0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1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2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7AA19-7870-4E82-B1E5-B30D8883BBE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1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02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5028E-9A5F-4631-BD69-65B12C1F88F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5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46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16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17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18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3EAA1-D263-4539-BB80-493707F6156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dd6ff"/>
            </a:gs>
            <a:gs pos="100000">
              <a:srgbClr val="becae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179280" y="4292280"/>
            <a:ext cx="82821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Calibri"/>
                <a:ea typeface="Calibri"/>
              </a:rPr>
              <a:t>Autores:</a:t>
            </a:r>
            <a:r>
              <a:rPr b="1" i="1" lang="it-IT" sz="2000" spc="-1" strike="noStrike">
                <a:solidFill>
                  <a:srgbClr val="003366"/>
                </a:solidFill>
                <a:latin typeface="Calibri"/>
                <a:ea typeface="Calibri"/>
              </a:rPr>
              <a:t>  Dra. Marleny Cruz Cardentey 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3366"/>
                </a:solidFill>
                <a:latin typeface="Calibri"/>
                <a:ea typeface="Calibri"/>
              </a:rPr>
              <a:t>                 </a:t>
            </a:r>
            <a:r>
              <a:rPr b="1" i="1" lang="it-IT" sz="2000" spc="-1" strike="noStrike">
                <a:solidFill>
                  <a:srgbClr val="003366"/>
                </a:solidFill>
                <a:latin typeface="Calibri"/>
                <a:ea typeface="Calibri"/>
              </a:rPr>
              <a:t>Dr. Daniel P Gordón Falconi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3366"/>
                </a:solidFill>
                <a:latin typeface="Calibri"/>
                <a:ea typeface="Calibri"/>
              </a:rPr>
              <a:t>                 </a:t>
            </a:r>
            <a:r>
              <a:rPr b="1" i="1" lang="it-IT" sz="2000" spc="-1" strike="noStrike">
                <a:solidFill>
                  <a:srgbClr val="003366"/>
                </a:solidFill>
                <a:latin typeface="Calibri"/>
                <a:ea typeface="Calibri"/>
              </a:rPr>
              <a:t>Dr Alain Gutiérrez López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3366"/>
                </a:solidFill>
                <a:latin typeface="Calibri"/>
                <a:ea typeface="Calibri"/>
              </a:rPr>
              <a:t>                </a:t>
            </a:r>
            <a:r>
              <a:rPr b="1" i="1" lang="it-IT" sz="2000" spc="-1" strike="noStrike">
                <a:solidFill>
                  <a:srgbClr val="003366"/>
                </a:solidFill>
                <a:latin typeface="Calibri"/>
                <a:ea typeface="Calibri"/>
              </a:rPr>
              <a:t>Dra Ana Mengana Betancourt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66"/>
                </a:solidFill>
                <a:latin typeface="Calibri"/>
                <a:ea typeface="Calibri"/>
              </a:rPr>
              <a:t>  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66"/>
                </a:solidFill>
                <a:latin typeface="Calibri"/>
                <a:ea typeface="Calibri"/>
              </a:rPr>
              <a:t> </a:t>
            </a:r>
            <a:r>
              <a:rPr b="1" i="1" lang="en-US" sz="1600" spc="-1" strike="noStrike">
                <a:solidFill>
                  <a:srgbClr val="003366"/>
                </a:solidFill>
                <a:latin typeface="Calibri"/>
                <a:ea typeface="Calibri"/>
              </a:rPr>
              <a:t>Servicio de Cardiología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66"/>
                </a:solidFill>
                <a:latin typeface="Calibri"/>
                <a:ea typeface="Calibri"/>
              </a:rPr>
              <a:t>      </a:t>
            </a:r>
            <a:r>
              <a:rPr b="1" i="1" lang="en-US" sz="1600" spc="-1" strike="noStrike">
                <a:solidFill>
                  <a:srgbClr val="003366"/>
                </a:solidFill>
                <a:latin typeface="Calibri"/>
                <a:ea typeface="Calibri"/>
              </a:rPr>
              <a:t>La Habana, 2020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528" name="Picture 34" descr=""/>
          <p:cNvPicPr/>
          <p:nvPr/>
        </p:nvPicPr>
        <p:blipFill>
          <a:blip r:embed="rId1"/>
          <a:stretch/>
        </p:blipFill>
        <p:spPr>
          <a:xfrm>
            <a:off x="0" y="0"/>
            <a:ext cx="2593800" cy="1512720"/>
          </a:xfrm>
          <a:prstGeom prst="rect">
            <a:avLst/>
          </a:prstGeom>
          <a:ln w="0">
            <a:noFill/>
          </a:ln>
        </p:spPr>
      </p:pic>
      <p:sp>
        <p:nvSpPr>
          <p:cNvPr id="529" name="Rectángulo 1"/>
          <p:cNvSpPr/>
          <p:nvPr/>
        </p:nvSpPr>
        <p:spPr>
          <a:xfrm>
            <a:off x="395280" y="2924280"/>
            <a:ext cx="878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ffffff"/>
                </a:solidFill>
                <a:latin typeface="Gill Sans MT"/>
              </a:rPr>
              <a:t>Predictores electrocardiográficos de  terapias apropiadas del cardiodesfibrilador automático implantab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ángulo 1"/>
          <p:cNvSpPr/>
          <p:nvPr/>
        </p:nvSpPr>
        <p:spPr>
          <a:xfrm>
            <a:off x="179280" y="54936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Predictores independientes de terapias apropiadas del CDAI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nálisis multivariado. Modelo de regresión de Cox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611" name="Imagen 4" descr=""/>
          <p:cNvPicPr/>
          <p:nvPr/>
        </p:nvPicPr>
        <p:blipFill>
          <a:blip r:embed="rId1"/>
          <a:srcRect l="2087" t="36774" r="1906" b="7111"/>
          <a:stretch/>
        </p:blipFill>
        <p:spPr>
          <a:xfrm>
            <a:off x="214200" y="2637000"/>
            <a:ext cx="8568000" cy="1800000"/>
          </a:xfrm>
          <a:prstGeom prst="rect">
            <a:avLst/>
          </a:prstGeom>
          <a:ln w="0">
            <a:noFill/>
          </a:ln>
        </p:spPr>
      </p:pic>
      <p:sp>
        <p:nvSpPr>
          <p:cNvPr id="612" name="Elipse 5"/>
          <p:cNvSpPr/>
          <p:nvPr/>
        </p:nvSpPr>
        <p:spPr>
          <a:xfrm>
            <a:off x="2700360" y="3336840"/>
            <a:ext cx="792000" cy="39996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3" name="Elipse 6"/>
          <p:cNvSpPr/>
          <p:nvPr/>
        </p:nvSpPr>
        <p:spPr>
          <a:xfrm>
            <a:off x="2730600" y="4152960"/>
            <a:ext cx="792000" cy="39852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ángulo 3"/>
          <p:cNvSpPr/>
          <p:nvPr/>
        </p:nvSpPr>
        <p:spPr>
          <a:xfrm>
            <a:off x="108000" y="47628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urvas ROC del Tp-f y de la dTp-f para discriminar terapias apropiadas del CDAI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615" name="Imagen 5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616" name="Rectángulo 6"/>
          <p:cNvSpPr/>
          <p:nvPr/>
        </p:nvSpPr>
        <p:spPr>
          <a:xfrm>
            <a:off x="8388360" y="5229360"/>
            <a:ext cx="576360" cy="57600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ángulo 1"/>
          <p:cNvSpPr/>
          <p:nvPr/>
        </p:nvSpPr>
        <p:spPr>
          <a:xfrm>
            <a:off x="250920" y="54936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Calibri"/>
              </a:rPr>
              <a:t>Puntos de corte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el Tp-f y la dTp-f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Calibri"/>
              </a:rPr>
              <a:t> para discriminar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erapias apropiadas del CDAI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618" name="Imagen 2" descr=""/>
          <p:cNvPicPr/>
          <p:nvPr/>
        </p:nvPicPr>
        <p:blipFill>
          <a:blip r:embed="rId1"/>
          <a:srcRect l="1855" t="28197" r="2901" b="8387"/>
          <a:stretch/>
        </p:blipFill>
        <p:spPr>
          <a:xfrm>
            <a:off x="254160" y="1916280"/>
            <a:ext cx="8856360" cy="1944360"/>
          </a:xfrm>
          <a:prstGeom prst="rect">
            <a:avLst/>
          </a:prstGeom>
          <a:ln w="0">
            <a:noFill/>
          </a:ln>
        </p:spPr>
      </p:pic>
      <p:sp>
        <p:nvSpPr>
          <p:cNvPr id="619" name="Rectángulo 10"/>
          <p:cNvSpPr/>
          <p:nvPr/>
        </p:nvSpPr>
        <p:spPr>
          <a:xfrm>
            <a:off x="250920" y="2637000"/>
            <a:ext cx="3600360" cy="431640"/>
          </a:xfrm>
          <a:prstGeom prst="rect">
            <a:avLst/>
          </a:prstGeom>
          <a:noFill/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0" name="Rectángulo 11"/>
          <p:cNvSpPr/>
          <p:nvPr/>
        </p:nvSpPr>
        <p:spPr>
          <a:xfrm>
            <a:off x="250920" y="3360600"/>
            <a:ext cx="3600360" cy="43344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Imagen 1" descr=""/>
          <p:cNvPicPr/>
          <p:nvPr/>
        </p:nvPicPr>
        <p:blipFill>
          <a:blip r:embed="rId1"/>
          <a:srcRect l="5220" t="20337" r="7827" b="4818"/>
          <a:stretch/>
        </p:blipFill>
        <p:spPr>
          <a:xfrm>
            <a:off x="539640" y="1528920"/>
            <a:ext cx="8185320" cy="5329080"/>
          </a:xfrm>
          <a:prstGeom prst="rect">
            <a:avLst/>
          </a:prstGeom>
          <a:ln w="0">
            <a:noFill/>
          </a:ln>
        </p:spPr>
      </p:pic>
      <p:sp>
        <p:nvSpPr>
          <p:cNvPr id="622" name="Rectángulo 3"/>
          <p:cNvSpPr/>
          <p:nvPr/>
        </p:nvSpPr>
        <p:spPr>
          <a:xfrm>
            <a:off x="19080" y="54936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urvas de Kaplan-Meier de supervivencia acumulada libre de terapias apropiadas del CDAI según Tp-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ángulo 1"/>
          <p:cNvSpPr/>
          <p:nvPr/>
        </p:nvSpPr>
        <p:spPr>
          <a:xfrm>
            <a:off x="179280" y="54936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urvas de Kaplan-Meier de supervivencia acumulada libre de terapias apropiadas del CDAI según  dTp-f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624" name="Imagen 3" descr=""/>
          <p:cNvPicPr/>
          <p:nvPr/>
        </p:nvPicPr>
        <p:blipFill>
          <a:blip r:embed="rId1"/>
          <a:srcRect l="3766" t="17978" r="118" b="2635"/>
          <a:stretch/>
        </p:blipFill>
        <p:spPr>
          <a:xfrm>
            <a:off x="1476360" y="1484280"/>
            <a:ext cx="7128000" cy="52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ángulo 3"/>
          <p:cNvSpPr/>
          <p:nvPr/>
        </p:nvSpPr>
        <p:spPr>
          <a:xfrm>
            <a:off x="0" y="54936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urvas de Kaplan-Meier de supervivencia acumulada libre de terapias apropiadas del CDAI según  fQR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626" name="Marcador de contenido 4" descr=""/>
          <p:cNvPicPr/>
          <p:nvPr/>
        </p:nvPicPr>
        <p:blipFill>
          <a:blip r:embed="rId1"/>
          <a:srcRect l="2709" t="20835" r="3851" b="0"/>
          <a:stretch/>
        </p:blipFill>
        <p:spPr>
          <a:xfrm>
            <a:off x="1104840" y="1413000"/>
            <a:ext cx="6840720" cy="52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ángulo 1"/>
          <p:cNvSpPr/>
          <p:nvPr/>
        </p:nvSpPr>
        <p:spPr>
          <a:xfrm>
            <a:off x="127800" y="476280"/>
            <a:ext cx="303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ONCLUSIO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8" name="Rectángulo 2"/>
          <p:cNvSpPr/>
          <p:nvPr/>
        </p:nvSpPr>
        <p:spPr>
          <a:xfrm>
            <a:off x="235080" y="1225440"/>
            <a:ext cx="8820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5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La presencia de</a:t>
            </a:r>
            <a:r>
              <a:rPr b="0" lang="es-ES" sz="2400" spc="-1" strike="noStrike">
                <a:solidFill>
                  <a:srgbClr val="1e7213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fQRS</a:t>
            </a:r>
            <a:r>
              <a:rPr b="0" lang="es-ES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y la </a:t>
            </a: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dTp-f 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son predictores independientes de terapias apropiadas del CDAI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Los intervalos </a:t>
            </a: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Tp-f</a:t>
            </a:r>
            <a:r>
              <a:rPr b="1" lang="es-ES" sz="2400" spc="-1" strike="noStrike">
                <a:solidFill>
                  <a:srgbClr val="1e7213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y </a:t>
            </a: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dTp-f 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son eficaces para discriminar con alta sensibilidad y especificidad a pacientes con mayor riesgo de recibir terapias apropiadas del CDAI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La supervivencia libre de terapias apropiadas del CDAI, es menor en los pacientes con presencia de </a:t>
            </a: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fQRS 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y con </a:t>
            </a:r>
            <a:r>
              <a:rPr b="0" lang="es-ES" sz="2400" spc="-1" strike="noStrike">
                <a:solidFill>
                  <a:srgbClr val="c00000"/>
                </a:solidFill>
                <a:latin typeface="Arial"/>
              </a:rPr>
              <a:t>mayor </a:t>
            </a: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Tp-f y dTp-f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ángulo 3"/>
          <p:cNvSpPr/>
          <p:nvPr/>
        </p:nvSpPr>
        <p:spPr>
          <a:xfrm>
            <a:off x="195480" y="565200"/>
            <a:ext cx="29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INTRODUC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31" name="Grupo 4"/>
          <p:cNvGrpSpPr/>
          <p:nvPr/>
        </p:nvGrpSpPr>
        <p:grpSpPr>
          <a:xfrm>
            <a:off x="11520" y="1484280"/>
            <a:ext cx="2363040" cy="2638440"/>
            <a:chOff x="11520" y="1484280"/>
            <a:chExt cx="2363040" cy="2638440"/>
          </a:xfrm>
        </p:grpSpPr>
        <p:pic>
          <p:nvPicPr>
            <p:cNvPr id="532" name="Imagen 5" descr=""/>
            <p:cNvPicPr/>
            <p:nvPr/>
          </p:nvPicPr>
          <p:blipFill>
            <a:blip r:embed="rId1"/>
            <a:stretch/>
          </p:blipFill>
          <p:spPr>
            <a:xfrm>
              <a:off x="371880" y="2115720"/>
              <a:ext cx="1591200" cy="200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3" name="CuadroTexto 6"/>
            <p:cNvSpPr/>
            <p:nvPr/>
          </p:nvSpPr>
          <p:spPr>
            <a:xfrm>
              <a:off x="11520" y="1484280"/>
              <a:ext cx="2363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8e5902"/>
                  </a:solidFill>
                  <a:latin typeface="Arial"/>
                </a:rPr>
                <a:t>MUERTE SÚBITA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8e5902"/>
                  </a:solidFill>
                  <a:latin typeface="Arial"/>
                </a:rPr>
                <a:t> </a:t>
              </a:r>
              <a:r>
                <a:rPr b="0" lang="es-ES_tradnl" sz="1800" spc="-1" strike="noStrike">
                  <a:solidFill>
                    <a:srgbClr val="8e5902"/>
                  </a:solidFill>
                  <a:latin typeface="Arial"/>
                </a:rPr>
                <a:t>CARDIOVASCULA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534" name="Marcador de contenido 5" descr=""/>
          <p:cNvPicPr/>
          <p:nvPr/>
        </p:nvPicPr>
        <p:blipFill>
          <a:blip r:embed="rId2"/>
          <a:stretch/>
        </p:blipFill>
        <p:spPr>
          <a:xfrm>
            <a:off x="2700360" y="2157480"/>
            <a:ext cx="2657520" cy="2097000"/>
          </a:xfrm>
          <a:prstGeom prst="rect">
            <a:avLst/>
          </a:prstGeom>
          <a:ln w="0">
            <a:noFill/>
          </a:ln>
        </p:spPr>
      </p:pic>
      <p:pic>
        <p:nvPicPr>
          <p:cNvPr id="535" name="Imagen 8" descr=""/>
          <p:cNvPicPr/>
          <p:nvPr/>
        </p:nvPicPr>
        <p:blipFill>
          <a:blip r:embed="rId3"/>
          <a:srcRect l="106" t="224" r="31876" b="-201"/>
          <a:stretch/>
        </p:blipFill>
        <p:spPr>
          <a:xfrm>
            <a:off x="5697360" y="2211480"/>
            <a:ext cx="3106800" cy="2230200"/>
          </a:xfrm>
          <a:prstGeom prst="rect">
            <a:avLst/>
          </a:prstGeom>
          <a:ln w="28440">
            <a:solidFill>
              <a:srgbClr val="003366"/>
            </a:solidFill>
            <a:miter/>
          </a:ln>
        </p:spPr>
      </p:pic>
      <p:sp>
        <p:nvSpPr>
          <p:cNvPr id="536" name="CuadroTexto 9"/>
          <p:cNvSpPr/>
          <p:nvPr/>
        </p:nvSpPr>
        <p:spPr>
          <a:xfrm>
            <a:off x="5357880" y="1450800"/>
            <a:ext cx="3716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1f63ad"/>
                </a:solidFill>
                <a:latin typeface="Arial"/>
                <a:ea typeface="Arial"/>
              </a:rPr>
              <a:t>DISMINUYEN SUPERVIVENCIA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1f63ad"/>
                </a:solidFill>
                <a:latin typeface="Arial"/>
                <a:ea typeface="Arial"/>
              </a:rPr>
              <a:t>CALIDAD DE VIDA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37" name="Imagen 13" descr=""/>
          <p:cNvPicPr/>
          <p:nvPr/>
        </p:nvPicPr>
        <p:blipFill>
          <a:blip r:embed="rId4"/>
          <a:stretch/>
        </p:blipFill>
        <p:spPr>
          <a:xfrm>
            <a:off x="3279600" y="2611440"/>
            <a:ext cx="1498680" cy="1017720"/>
          </a:xfrm>
          <a:prstGeom prst="rect">
            <a:avLst/>
          </a:prstGeom>
          <a:ln w="0">
            <a:noFill/>
          </a:ln>
        </p:spPr>
      </p:pic>
      <p:sp>
        <p:nvSpPr>
          <p:cNvPr id="538" name="CuadroTexto 14"/>
          <p:cNvSpPr/>
          <p:nvPr/>
        </p:nvSpPr>
        <p:spPr>
          <a:xfrm>
            <a:off x="112680" y="4751280"/>
            <a:ext cx="477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3366"/>
                </a:solidFill>
                <a:latin typeface="Arial"/>
              </a:rPr>
              <a:t>VARIABLES ELECTROCARDIOGRAFIC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9" name="CuadroTexto 15"/>
          <p:cNvSpPr/>
          <p:nvPr/>
        </p:nvSpPr>
        <p:spPr>
          <a:xfrm>
            <a:off x="6234480" y="4699080"/>
            <a:ext cx="2402640" cy="368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800" spc="-1" strike="noStrike">
                <a:solidFill>
                  <a:srgbClr val="ffffff"/>
                </a:solidFill>
                <a:latin typeface="Arial"/>
              </a:rPr>
              <a:t>HETEROGENEIDAD</a:t>
            </a:r>
            <a:r>
              <a:rPr b="1" lang="es-EC" sz="1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0" name="Flecha abajo 17"/>
          <p:cNvSpPr/>
          <p:nvPr/>
        </p:nvSpPr>
        <p:spPr>
          <a:xfrm rot="16200000">
            <a:off x="5114880" y="4466880"/>
            <a:ext cx="485640" cy="863640"/>
          </a:xfrm>
          <a:prstGeom prst="downArrow">
            <a:avLst>
              <a:gd name="adj1" fmla="val 38861"/>
              <a:gd name="adj2" fmla="val 50016"/>
            </a:avLst>
          </a:prstGeom>
          <a:solidFill>
            <a:srgbClr val="003f80"/>
          </a:solidFill>
          <a:ln w="25560">
            <a:solidFill>
              <a:srgbClr val="1447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41" name="Imagen 18" descr=""/>
          <p:cNvPicPr/>
          <p:nvPr/>
        </p:nvPicPr>
        <p:blipFill>
          <a:blip r:embed="rId5"/>
          <a:srcRect l="0" t="0" r="0" b="8726"/>
          <a:stretch/>
        </p:blipFill>
        <p:spPr>
          <a:xfrm>
            <a:off x="1665360" y="5389560"/>
            <a:ext cx="5559480" cy="1306440"/>
          </a:xfrm>
          <a:prstGeom prst="rect">
            <a:avLst/>
          </a:prstGeom>
          <a:ln w="0">
            <a:noFill/>
          </a:ln>
        </p:spPr>
      </p:pic>
      <p:sp>
        <p:nvSpPr>
          <p:cNvPr id="542" name="CuadroTexto 19"/>
          <p:cNvSpPr/>
          <p:nvPr/>
        </p:nvSpPr>
        <p:spPr>
          <a:xfrm>
            <a:off x="1579680" y="5827680"/>
            <a:ext cx="5616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800" spc="-1" strike="noStrike">
                <a:solidFill>
                  <a:srgbClr val="c00000"/>
                </a:solidFill>
                <a:latin typeface="Arial"/>
              </a:rPr>
              <a:t>PREDICTORES DE ARRTMIAS VENTRICULAR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ángulo 3"/>
          <p:cNvSpPr/>
          <p:nvPr/>
        </p:nvSpPr>
        <p:spPr>
          <a:xfrm>
            <a:off x="379800" y="560520"/>
            <a:ext cx="29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INTRODUC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4" name="Rectángulo 4"/>
          <p:cNvSpPr/>
          <p:nvPr/>
        </p:nvSpPr>
        <p:spPr>
          <a:xfrm>
            <a:off x="252360" y="2111400"/>
            <a:ext cx="8425080" cy="2228400"/>
          </a:xfrm>
          <a:prstGeom prst="rect">
            <a:avLst/>
          </a:prstGeom>
          <a:noFill/>
          <a:ln w="64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Aportaría elementos en la estratificación de riesgo MSC  poblaciones vulnerables: prevención primari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Estratificación más certera del riesgo individual: definir estrategia terapéutica para evitar complicaciones en pacientes con alto riesgo de recurrencia del evento arrítmico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5" name="Rectángulo 7"/>
          <p:cNvSpPr/>
          <p:nvPr/>
        </p:nvSpPr>
        <p:spPr>
          <a:xfrm>
            <a:off x="539640" y="1413000"/>
            <a:ext cx="783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IDENTIFICAR PREDICORES DE TERAPIAS APROPIADAS DEL CDA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6" name="CuadroTexto 8"/>
          <p:cNvSpPr/>
          <p:nvPr/>
        </p:nvSpPr>
        <p:spPr>
          <a:xfrm>
            <a:off x="755640" y="3645000"/>
            <a:ext cx="59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7" name="CuadroTexto 9"/>
          <p:cNvSpPr/>
          <p:nvPr/>
        </p:nvSpPr>
        <p:spPr>
          <a:xfrm>
            <a:off x="252360" y="4417920"/>
            <a:ext cx="367200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8" name="CuadroTexto 10"/>
          <p:cNvSpPr/>
          <p:nvPr/>
        </p:nvSpPr>
        <p:spPr>
          <a:xfrm>
            <a:off x="3276720" y="450864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9" name="Título 1"/>
          <p:cNvSpPr/>
          <p:nvPr/>
        </p:nvSpPr>
        <p:spPr>
          <a:xfrm>
            <a:off x="2398680" y="4543560"/>
            <a:ext cx="397368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400" spc="-1" strike="noStrike">
                <a:solidFill>
                  <a:srgbClr val="003366"/>
                </a:solidFill>
                <a:latin typeface="Arial"/>
                <a:ea typeface="Arial"/>
              </a:rPr>
              <a:t>PROBLEMA CIENTIFIC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0" name="Rectángulo 12"/>
          <p:cNvSpPr/>
          <p:nvPr/>
        </p:nvSpPr>
        <p:spPr>
          <a:xfrm>
            <a:off x="425520" y="5187960"/>
            <a:ext cx="838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190b"/>
                </a:solidFill>
                <a:latin typeface="Arial"/>
              </a:rPr>
              <a:t>¿Cuáles variables electrocardiográficas son predictores de terapias apropiadas del CDAI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ángulo 3"/>
          <p:cNvSpPr/>
          <p:nvPr/>
        </p:nvSpPr>
        <p:spPr>
          <a:xfrm>
            <a:off x="337680" y="506520"/>
            <a:ext cx="22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OBJETIV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2" name="Rectángulo 4"/>
          <p:cNvSpPr/>
          <p:nvPr/>
        </p:nvSpPr>
        <p:spPr>
          <a:xfrm>
            <a:off x="179280" y="1197000"/>
            <a:ext cx="8785440" cy="15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Gener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Determinar las variables electrocardiográficas predictores de terapias apropiadas del cardiodesfibrilador automático implantable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3" name="Rectángulo 6"/>
          <p:cNvSpPr/>
          <p:nvPr/>
        </p:nvSpPr>
        <p:spPr>
          <a:xfrm>
            <a:off x="331920" y="2754360"/>
            <a:ext cx="151416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Específicos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4" name="Rectángulo 7"/>
          <p:cNvSpPr/>
          <p:nvPr/>
        </p:nvSpPr>
        <p:spPr>
          <a:xfrm>
            <a:off x="179280" y="3586320"/>
            <a:ext cx="8640720" cy="24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7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Determinar la posible asociación de las variables electrocardiográficas (intervalo QT corregido, dispersión del intervalo QT, fragmentación del complejo QRS, intervalo pico-final de la onda T, dispersión del intervalo pico-final de la onda T, anchura del complejo QRS y dispersión del complejo QRS) con las terapias apropiadas del cardiodesfibrilador automático implantable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ángulo 3"/>
          <p:cNvSpPr/>
          <p:nvPr/>
        </p:nvSpPr>
        <p:spPr>
          <a:xfrm>
            <a:off x="324000" y="2060640"/>
            <a:ext cx="8351640" cy="38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7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Identificar un valor de corte, en las variables electrocardiográficas con significación estadística, que discrimine a los pacientes con riesgo de terapias apropiadas del cardiodesfibrilador automático implantable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285840" indent="-285840" algn="just">
              <a:lnSpc>
                <a:spcPct val="17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285840" indent="-285840" algn="just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285840" indent="-285840" algn="just">
              <a:lnSpc>
                <a:spcPct val="17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Determinar la supervivencia libre de terapias apropiadas del cardiodesfibrilador automático implantable, según las variables electrocardiográficas con significación estadísticas</a:t>
            </a:r>
            <a:r>
              <a:rPr b="0" lang="es-ES" sz="1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6" name="Rectángulo 4"/>
          <p:cNvSpPr/>
          <p:nvPr/>
        </p:nvSpPr>
        <p:spPr>
          <a:xfrm>
            <a:off x="331920" y="1341360"/>
            <a:ext cx="151416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Específicos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ángulo 3"/>
          <p:cNvSpPr/>
          <p:nvPr/>
        </p:nvSpPr>
        <p:spPr>
          <a:xfrm>
            <a:off x="204480" y="507960"/>
            <a:ext cx="459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DISEÑO METODOLÓGIC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8" name="Marcador de contenido 2"/>
          <p:cNvSpPr/>
          <p:nvPr/>
        </p:nvSpPr>
        <p:spPr>
          <a:xfrm>
            <a:off x="179280" y="1273320"/>
            <a:ext cx="4681800" cy="2997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ill Sans MT"/>
              </a:rPr>
              <a:t>Longitudinal prospectivo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228600" indent="-228600" algn="just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ill Sans MT"/>
              </a:rPr>
              <a:t>Dpto. EFF y MP HHA y ICCV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228600" indent="-228600" algn="just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ill Sans MT"/>
              </a:rPr>
              <a:t>Enero 2017-marzo 2020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ill Sans MT"/>
              </a:rPr>
              <a:t>Inclusión: Primo-implante CDAI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ill Sans MT"/>
              </a:rPr>
              <a:t>Exclusión:  Arritmia auricular  </a:t>
            </a:r>
            <a:r>
              <a:rPr b="0" lang="es-ES_tradnl" sz="2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Gill Sans MT"/>
              </a:rPr>
              <a:t>       crónica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ill Sans MT"/>
              </a:rPr>
              <a:t>Salida:  Fallecimiento antes de recibir </a:t>
            </a:r>
            <a:r>
              <a:rPr b="0" lang="es-ES_tradnl" sz="2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Gill Sans MT"/>
              </a:rPr>
              <a:t>  terapias del CDAI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59" name="Imagen 6" descr=""/>
          <p:cNvPicPr/>
          <p:nvPr/>
        </p:nvPicPr>
        <p:blipFill>
          <a:blip r:embed="rId1"/>
          <a:stretch/>
        </p:blipFill>
        <p:spPr>
          <a:xfrm>
            <a:off x="22320" y="4626000"/>
            <a:ext cx="4541760" cy="981000"/>
          </a:xfrm>
          <a:prstGeom prst="rect">
            <a:avLst/>
          </a:prstGeom>
          <a:ln w="0">
            <a:noFill/>
          </a:ln>
        </p:spPr>
      </p:pic>
      <p:pic>
        <p:nvPicPr>
          <p:cNvPr id="560" name="Imagen 7" descr=""/>
          <p:cNvPicPr/>
          <p:nvPr/>
        </p:nvPicPr>
        <p:blipFill>
          <a:blip r:embed="rId2"/>
          <a:stretch/>
        </p:blipFill>
        <p:spPr>
          <a:xfrm>
            <a:off x="317520" y="5607000"/>
            <a:ext cx="4616280" cy="1017720"/>
          </a:xfrm>
          <a:prstGeom prst="rect">
            <a:avLst/>
          </a:prstGeom>
          <a:ln w="0">
            <a:noFill/>
          </a:ln>
        </p:spPr>
      </p:pic>
      <p:sp>
        <p:nvSpPr>
          <p:cNvPr id="561" name="Rectángulo 8"/>
          <p:cNvSpPr/>
          <p:nvPr/>
        </p:nvSpPr>
        <p:spPr>
          <a:xfrm>
            <a:off x="179280" y="4554360"/>
            <a:ext cx="4754520" cy="2070360"/>
          </a:xfrm>
          <a:prstGeom prst="rect">
            <a:avLst/>
          </a:prstGeom>
          <a:noFill/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62" name="Grupo 13"/>
          <p:cNvGrpSpPr/>
          <p:nvPr/>
        </p:nvGrpSpPr>
        <p:grpSpPr>
          <a:xfrm>
            <a:off x="5972040" y="1255680"/>
            <a:ext cx="1295640" cy="928800"/>
            <a:chOff x="5972040" y="1255680"/>
            <a:chExt cx="1295640" cy="928800"/>
          </a:xfrm>
        </p:grpSpPr>
        <p:pic>
          <p:nvPicPr>
            <p:cNvPr id="563" name="Imagen 14" descr=""/>
            <p:cNvPicPr/>
            <p:nvPr/>
          </p:nvPicPr>
          <p:blipFill>
            <a:blip r:embed="rId3"/>
            <a:stretch/>
          </p:blipFill>
          <p:spPr>
            <a:xfrm>
              <a:off x="6548760" y="1255680"/>
              <a:ext cx="718920" cy="9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" name="Flecha curva 40"/>
            <p:cNvSpPr/>
            <p:nvPr/>
          </p:nvSpPr>
          <p:spPr>
            <a:xfrm flipV="1">
              <a:off x="5972040" y="1303200"/>
              <a:ext cx="507960" cy="681120"/>
            </a:xfrm>
            <a:custGeom>
              <a:avLst/>
              <a:gdLst/>
              <a:ahLst/>
              <a:rect l="l" t="t" r="r" b="b"/>
              <a:pathLst>
                <a:path w="507971" h="680155">
                  <a:moveTo>
                    <a:pt x="0" y="680155"/>
                  </a:moveTo>
                  <a:lnTo>
                    <a:pt x="0" y="285734"/>
                  </a:lnTo>
                  <a:cubicBezTo>
                    <a:pt x="0" y="162996"/>
                    <a:pt x="99499" y="63497"/>
                    <a:pt x="222237" y="63497"/>
                  </a:cubicBezTo>
                  <a:lnTo>
                    <a:pt x="380978" y="63496"/>
                  </a:lnTo>
                  <a:lnTo>
                    <a:pt x="380978" y="0"/>
                  </a:lnTo>
                  <a:lnTo>
                    <a:pt x="507971" y="126993"/>
                  </a:lnTo>
                  <a:lnTo>
                    <a:pt x="380978" y="253986"/>
                  </a:lnTo>
                  <a:lnTo>
                    <a:pt x="380978" y="190489"/>
                  </a:lnTo>
                  <a:lnTo>
                    <a:pt x="222237" y="190489"/>
                  </a:lnTo>
                  <a:cubicBezTo>
                    <a:pt x="169635" y="190489"/>
                    <a:pt x="126992" y="233132"/>
                    <a:pt x="126992" y="285734"/>
                  </a:cubicBezTo>
                  <a:cubicBezTo>
                    <a:pt x="126992" y="417208"/>
                    <a:pt x="126993" y="548681"/>
                    <a:pt x="126993" y="680155"/>
                  </a:cubicBezTo>
                  <a:lnTo>
                    <a:pt x="0" y="680155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be760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65" name="Rectángulo 16"/>
          <p:cNvSpPr/>
          <p:nvPr/>
        </p:nvSpPr>
        <p:spPr>
          <a:xfrm>
            <a:off x="5076720" y="2178000"/>
            <a:ext cx="388800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Edad, sexo, cardiopatía subyacente, FEVI, CF,   APP de ASV, realización EEF, empleo de FAA,  tipo de CDA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66" name="Imagen 17" descr=""/>
          <p:cNvPicPr/>
          <p:nvPr/>
        </p:nvPicPr>
        <p:blipFill>
          <a:blip r:embed="rId4"/>
          <a:stretch/>
        </p:blipFill>
        <p:spPr>
          <a:xfrm>
            <a:off x="5229360" y="3441600"/>
            <a:ext cx="3582720" cy="1656000"/>
          </a:xfrm>
          <a:prstGeom prst="rect">
            <a:avLst/>
          </a:prstGeom>
          <a:ln w="0">
            <a:noFill/>
          </a:ln>
        </p:spPr>
      </p:pic>
      <p:sp>
        <p:nvSpPr>
          <p:cNvPr id="567" name="Rectángulo 18"/>
          <p:cNvSpPr/>
          <p:nvPr/>
        </p:nvSpPr>
        <p:spPr>
          <a:xfrm>
            <a:off x="5454720" y="5415120"/>
            <a:ext cx="3257640" cy="1191240"/>
          </a:xfrm>
          <a:prstGeom prst="rect">
            <a:avLst/>
          </a:prstGeom>
          <a:noFill/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Anchura QRS, fQRS, dQR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IQTc (Bazzet), dIQ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Tp-f , dTp-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ángulo 3"/>
          <p:cNvSpPr/>
          <p:nvPr/>
        </p:nvSpPr>
        <p:spPr>
          <a:xfrm>
            <a:off x="132480" y="514440"/>
            <a:ext cx="459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DISEÑO METODOLÓGIC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9" name="CuadroTexto 4"/>
          <p:cNvSpPr/>
          <p:nvPr/>
        </p:nvSpPr>
        <p:spPr>
          <a:xfrm>
            <a:off x="125280" y="1270080"/>
            <a:ext cx="53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Seguimiento 1</a:t>
            </a:r>
            <a:r>
              <a:rPr b="0" lang="es-ES_tradnl" sz="2000" spc="-1" strike="noStrike" baseline="30000">
                <a:solidFill>
                  <a:srgbClr val="003366"/>
                </a:solidFill>
                <a:latin typeface="Arial"/>
              </a:rPr>
              <a:t>er</a:t>
            </a: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 mes y cada 3 - 6 mes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70" name="Grupo 5"/>
          <p:cNvGrpSpPr/>
          <p:nvPr/>
        </p:nvGrpSpPr>
        <p:grpSpPr>
          <a:xfrm>
            <a:off x="4770360" y="1041480"/>
            <a:ext cx="4105440" cy="2465280"/>
            <a:chOff x="4770360" y="1041480"/>
            <a:chExt cx="4105440" cy="2465280"/>
          </a:xfrm>
        </p:grpSpPr>
        <p:pic>
          <p:nvPicPr>
            <p:cNvPr id="571" name="Imagen 6" descr=""/>
            <p:cNvPicPr/>
            <p:nvPr/>
          </p:nvPicPr>
          <p:blipFill>
            <a:blip r:embed="rId1"/>
            <a:stretch/>
          </p:blipFill>
          <p:spPr>
            <a:xfrm>
              <a:off x="4803120" y="1662480"/>
              <a:ext cx="4072680" cy="1844280"/>
            </a:xfrm>
            <a:prstGeom prst="rect">
              <a:avLst/>
            </a:prstGeom>
            <a:ln w="6480">
              <a:solidFill>
                <a:srgbClr val="003366"/>
              </a:solidFill>
              <a:miter/>
            </a:ln>
          </p:spPr>
        </p:pic>
        <p:sp>
          <p:nvSpPr>
            <p:cNvPr id="572" name="CuadroTexto 8"/>
            <p:cNvSpPr/>
            <p:nvPr/>
          </p:nvSpPr>
          <p:spPr>
            <a:xfrm>
              <a:off x="4770360" y="1041480"/>
              <a:ext cx="385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3366"/>
                  </a:solidFill>
                  <a:latin typeface="Arial"/>
                </a:rPr>
                <a:t>            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73" name="CuadroTexto 9"/>
          <p:cNvSpPr/>
          <p:nvPr/>
        </p:nvSpPr>
        <p:spPr>
          <a:xfrm>
            <a:off x="457200" y="4365720"/>
            <a:ext cx="8147160" cy="2300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Análisis estadístic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  <a:ea typeface="Arial"/>
              </a:rPr>
              <a:t>Análisis univariado: Prueba de Mann-Whitne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  <a:ea typeface="Arial"/>
              </a:rPr>
              <a:t>                                     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  <a:ea typeface="Arial"/>
              </a:rPr>
              <a:t>Prueba X</a:t>
            </a:r>
            <a:r>
              <a:rPr b="0" lang="es-ES" sz="2000" spc="-1" strike="noStrike" baseline="-25000">
                <a:solidFill>
                  <a:srgbClr val="003366"/>
                </a:solidFill>
                <a:latin typeface="Arial"/>
                <a:ea typeface="Arial"/>
              </a:rPr>
              <a:t>2, 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  <a:ea typeface="Arial"/>
              </a:rPr>
              <a:t>exacta de Fish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  <a:ea typeface="Arial"/>
              </a:rPr>
              <a:t>Análisis multivariado: Modelo de regresión logística de Cox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  <a:ea typeface="Arial"/>
              </a:rPr>
              <a:t>Curvas ROC: Capacidad de discriminar terapias del Tp-f y dTp-f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  <a:ea typeface="Arial"/>
              </a:rPr>
              <a:t>Supervivencia libre de terapias : Curvas de Kaplan- Mei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Verdana"/>
              </a:rPr>
              <a:t>Compararon las curvas con la prueba de Log Ran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4" name="Flecha curvada hacia la derecha 10"/>
          <p:cNvSpPr/>
          <p:nvPr/>
        </p:nvSpPr>
        <p:spPr>
          <a:xfrm>
            <a:off x="2789280" y="1940040"/>
            <a:ext cx="1009440" cy="1231920"/>
          </a:xfrm>
          <a:custGeom>
            <a:avLst/>
            <a:gdLst>
              <a:gd name="textAreaLeft" fmla="*/ 135000 w 1009440"/>
              <a:gd name="textAreaRight" fmla="*/ 874440 w 1009440"/>
              <a:gd name="textAreaTop" fmla="*/ 213120 h 1231920"/>
              <a:gd name="textAreaBottom" fmla="*/ 892440 h 1231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481" stAng="-5400000" swAng="-5400000"/>
                <a:lnTo>
                  <a:pt x="0" y="11907"/>
                </a:lnTo>
                <a:arcTo wR="21600" hR="7481" stAng="10800000" swAng="-3197615"/>
                <a:lnTo>
                  <a:pt x="16200" y="21362"/>
                </a:lnTo>
                <a:lnTo>
                  <a:pt x="21600" y="17174"/>
                </a:lnTo>
                <a:lnTo>
                  <a:pt x="16200" y="12510"/>
                </a:lnTo>
                <a:lnTo>
                  <a:pt x="16200" y="14723"/>
                </a:lnTo>
                <a:arcTo wR="21600" hR="7481" stAng="7602385" swAng="2830305"/>
                <a:lnTo>
                  <a:pt x="967" y="9694"/>
                </a:lnTo>
                <a:arcTo wR="21600" hR="7481" stAng="-10432690" swAng="5032690"/>
                <a:close/>
              </a:path>
              <a:path fill="darkenLess" w="21600" h="21600">
                <a:moveTo>
                  <a:pt x="21600" y="0"/>
                </a:moveTo>
                <a:arcTo wR="21600" hR="7481" stAng="-5400000" swAng="-5400000"/>
                <a:lnTo>
                  <a:pt x="0" y="7481"/>
                </a:lnTo>
                <a:arcTo wR="21600" hR="7481" stAng="10800000" swAng="-367310"/>
                <a:lnTo>
                  <a:pt x="967" y="9694"/>
                </a:lnTo>
                <a:arcTo wR="21600" hR="7481" stAng="-10432690" swAng="5032690"/>
                <a:close/>
              </a:path>
            </a:pathLst>
          </a:custGeom>
          <a:solidFill>
            <a:srgbClr val="003366"/>
          </a:solidFill>
          <a:ln w="25560">
            <a:solidFill>
              <a:srgbClr val="1447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5" name="CuadroTexto 11"/>
          <p:cNvSpPr/>
          <p:nvPr/>
        </p:nvSpPr>
        <p:spPr>
          <a:xfrm>
            <a:off x="5519880" y="3586320"/>
            <a:ext cx="2639880" cy="703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Terapias apropiada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ángulo 3"/>
          <p:cNvSpPr/>
          <p:nvPr/>
        </p:nvSpPr>
        <p:spPr>
          <a:xfrm>
            <a:off x="99360" y="549360"/>
            <a:ext cx="262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RESULTAD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7" name="Rectángulo 5"/>
          <p:cNvSpPr/>
          <p:nvPr/>
        </p:nvSpPr>
        <p:spPr>
          <a:xfrm>
            <a:off x="3224880" y="549360"/>
            <a:ext cx="36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aracterísticas genera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8" name="CuadroTexto 6"/>
          <p:cNvSpPr/>
          <p:nvPr/>
        </p:nvSpPr>
        <p:spPr>
          <a:xfrm>
            <a:off x="647640" y="1441440"/>
            <a:ext cx="1297080" cy="459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n = 38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9" name="CuadroTexto 7"/>
          <p:cNvSpPr/>
          <p:nvPr/>
        </p:nvSpPr>
        <p:spPr>
          <a:xfrm>
            <a:off x="318960" y="2212920"/>
            <a:ext cx="21812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Verdana"/>
              </a:rPr>
              <a:t>58,0</a:t>
            </a:r>
            <a:r>
              <a:rPr b="0" lang="es-ES" sz="1800" spc="-1" strike="noStrike">
                <a:solidFill>
                  <a:srgbClr val="003366"/>
                </a:solidFill>
                <a:latin typeface="Verdana"/>
              </a:rPr>
              <a:t>±12,6 añ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80" name="Grupo 8"/>
          <p:cNvGrpSpPr/>
          <p:nvPr/>
        </p:nvGrpSpPr>
        <p:grpSpPr>
          <a:xfrm>
            <a:off x="500040" y="2897280"/>
            <a:ext cx="1402200" cy="2209680"/>
            <a:chOff x="500040" y="2897280"/>
            <a:chExt cx="1402200" cy="2209680"/>
          </a:xfrm>
        </p:grpSpPr>
        <p:pic>
          <p:nvPicPr>
            <p:cNvPr id="581" name="Imagen 9" descr=""/>
            <p:cNvPicPr/>
            <p:nvPr/>
          </p:nvPicPr>
          <p:blipFill>
            <a:blip r:embed="rId1"/>
            <a:stretch/>
          </p:blipFill>
          <p:spPr>
            <a:xfrm>
              <a:off x="500040" y="2897280"/>
              <a:ext cx="140220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CuadroTexto 10"/>
            <p:cNvSpPr/>
            <p:nvPr/>
          </p:nvSpPr>
          <p:spPr>
            <a:xfrm>
              <a:off x="869400" y="3866400"/>
              <a:ext cx="95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3366"/>
                  </a:solidFill>
                  <a:latin typeface="Arial"/>
                </a:rPr>
                <a:t>68, 4 %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83" name="Grupo 11"/>
          <p:cNvGrpSpPr/>
          <p:nvPr/>
        </p:nvGrpSpPr>
        <p:grpSpPr>
          <a:xfrm>
            <a:off x="2712960" y="1427040"/>
            <a:ext cx="3651480" cy="2397240"/>
            <a:chOff x="2712960" y="1427040"/>
            <a:chExt cx="3651480" cy="2397240"/>
          </a:xfrm>
        </p:grpSpPr>
        <p:grpSp>
          <p:nvGrpSpPr>
            <p:cNvPr id="584" name="Grupo 12"/>
            <p:cNvGrpSpPr/>
            <p:nvPr/>
          </p:nvGrpSpPr>
          <p:grpSpPr>
            <a:xfrm>
              <a:off x="2712960" y="1427040"/>
              <a:ext cx="3651480" cy="2397240"/>
              <a:chOff x="2712960" y="1427040"/>
              <a:chExt cx="3651480" cy="2397240"/>
            </a:xfrm>
          </p:grpSpPr>
          <p:sp>
            <p:nvSpPr>
              <p:cNvPr id="585" name="CuadroTexto 14"/>
              <p:cNvSpPr/>
              <p:nvPr/>
            </p:nvSpPr>
            <p:spPr>
              <a:xfrm>
                <a:off x="3337920" y="1427040"/>
                <a:ext cx="3026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3366"/>
                    </a:solidFill>
                    <a:latin typeface="Arial"/>
                  </a:rPr>
                  <a:t>Cardiopatía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pic>
            <p:nvPicPr>
              <p:cNvPr id="586" name="Imagen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2712960" y="2003040"/>
                <a:ext cx="2974680" cy="18212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87" name="CuadroTexto 13"/>
            <p:cNvSpPr/>
            <p:nvPr/>
          </p:nvSpPr>
          <p:spPr>
            <a:xfrm>
              <a:off x="4354560" y="2621880"/>
              <a:ext cx="118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c00000"/>
                  </a:solidFill>
                  <a:latin typeface="Arial"/>
                </a:rPr>
                <a:t>CI 34,2% 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88" name="Rectángulo 20"/>
          <p:cNvSpPr/>
          <p:nvPr/>
        </p:nvSpPr>
        <p:spPr>
          <a:xfrm>
            <a:off x="2733840" y="4334040"/>
            <a:ext cx="33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00000"/>
                </a:solidFill>
                <a:latin typeface="Arial"/>
              </a:rPr>
              <a:t>Prevención secundaria 63,15 %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89" name="Imagen 21" descr=""/>
          <p:cNvPicPr/>
          <p:nvPr/>
        </p:nvPicPr>
        <p:blipFill>
          <a:blip r:embed="rId3"/>
          <a:stretch/>
        </p:blipFill>
        <p:spPr>
          <a:xfrm>
            <a:off x="6602400" y="1925640"/>
            <a:ext cx="2224080" cy="1592280"/>
          </a:xfrm>
          <a:prstGeom prst="rect">
            <a:avLst/>
          </a:prstGeom>
          <a:ln w="0">
            <a:noFill/>
          </a:ln>
        </p:spPr>
      </p:pic>
      <p:sp>
        <p:nvSpPr>
          <p:cNvPr id="590" name="CuadroTexto 22"/>
          <p:cNvSpPr/>
          <p:nvPr/>
        </p:nvSpPr>
        <p:spPr>
          <a:xfrm>
            <a:off x="7035840" y="3678120"/>
            <a:ext cx="19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00000"/>
                </a:solidFill>
                <a:latin typeface="Arial"/>
              </a:rPr>
              <a:t>42,9 ± 14,7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1" name="CuadroTexto 23"/>
          <p:cNvSpPr/>
          <p:nvPr/>
        </p:nvSpPr>
        <p:spPr>
          <a:xfrm>
            <a:off x="7367400" y="146520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FEV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92" name="Imagen 24" descr=""/>
          <p:cNvPicPr/>
          <p:nvPr/>
        </p:nvPicPr>
        <p:blipFill>
          <a:blip r:embed="rId4"/>
          <a:stretch/>
        </p:blipFill>
        <p:spPr>
          <a:xfrm>
            <a:off x="133200" y="5138640"/>
            <a:ext cx="2171880" cy="1292400"/>
          </a:xfrm>
          <a:prstGeom prst="rect">
            <a:avLst/>
          </a:prstGeom>
          <a:ln w="0">
            <a:noFill/>
          </a:ln>
        </p:spPr>
      </p:pic>
      <p:sp>
        <p:nvSpPr>
          <p:cNvPr id="593" name="CuadroTexto 25"/>
          <p:cNvSpPr/>
          <p:nvPr/>
        </p:nvSpPr>
        <p:spPr>
          <a:xfrm>
            <a:off x="-95400" y="6421320"/>
            <a:ext cx="28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00000"/>
                </a:solidFill>
                <a:latin typeface="Arial"/>
              </a:rPr>
              <a:t>Bicamerales 65.8%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94" name="Grupo 26"/>
          <p:cNvGrpSpPr/>
          <p:nvPr/>
        </p:nvGrpSpPr>
        <p:grpSpPr>
          <a:xfrm>
            <a:off x="7143840" y="4400640"/>
            <a:ext cx="1385280" cy="2197080"/>
            <a:chOff x="7143840" y="4400640"/>
            <a:chExt cx="1385280" cy="2197080"/>
          </a:xfrm>
        </p:grpSpPr>
        <p:pic>
          <p:nvPicPr>
            <p:cNvPr id="595" name="Imagen 27" descr=""/>
            <p:cNvPicPr/>
            <p:nvPr/>
          </p:nvPicPr>
          <p:blipFill>
            <a:blip r:embed="rId5"/>
            <a:stretch/>
          </p:blipFill>
          <p:spPr>
            <a:xfrm>
              <a:off x="7143840" y="4962240"/>
              <a:ext cx="1360440" cy="1255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96" name="Grupo 28"/>
            <p:cNvGrpSpPr/>
            <p:nvPr/>
          </p:nvGrpSpPr>
          <p:grpSpPr>
            <a:xfrm>
              <a:off x="7196400" y="4400640"/>
              <a:ext cx="1332720" cy="2197080"/>
              <a:chOff x="7196400" y="4400640"/>
              <a:chExt cx="1332720" cy="2197080"/>
            </a:xfrm>
          </p:grpSpPr>
          <p:sp>
            <p:nvSpPr>
              <p:cNvPr id="597" name="CuadroTexto 29"/>
              <p:cNvSpPr/>
              <p:nvPr/>
            </p:nvSpPr>
            <p:spPr>
              <a:xfrm>
                <a:off x="7196400" y="4400640"/>
                <a:ext cx="1332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3366"/>
                    </a:solidFill>
                    <a:latin typeface="Arial"/>
                  </a:rPr>
                  <a:t>Terapias 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3366"/>
                    </a:solidFill>
                    <a:latin typeface="Arial"/>
                  </a:rPr>
                  <a:t>Apropiadas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98" name="CuadroTexto 30"/>
              <p:cNvSpPr/>
              <p:nvPr/>
            </p:nvSpPr>
            <p:spPr>
              <a:xfrm>
                <a:off x="7520400" y="6033600"/>
                <a:ext cx="891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c00000"/>
                    </a:solidFill>
                    <a:latin typeface="Arial"/>
                  </a:rPr>
                  <a:t>31,6 %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99" name="CuadroTexto 31"/>
              <p:cNvSpPr/>
              <p:nvPr/>
            </p:nvSpPr>
            <p:spPr>
              <a:xfrm>
                <a:off x="7551360" y="6242400"/>
                <a:ext cx="184680" cy="35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600" name="Forma 32"/>
          <p:cNvSpPr/>
          <p:nvPr/>
        </p:nvSpPr>
        <p:spPr>
          <a:xfrm>
            <a:off x="3543480" y="5052960"/>
            <a:ext cx="2970000" cy="1857600"/>
          </a:xfrm>
          <a:custGeom>
            <a:avLst/>
            <a:gdLst/>
            <a:ahLst/>
            <a:rect l="l" t="t" r="r" b="b"/>
            <a:pathLst>
              <a:path w="2970213" h="1857375">
                <a:moveTo>
                  <a:pt x="0" y="1857375"/>
                </a:moveTo>
                <a:cubicBezTo>
                  <a:pt x="330024" y="1031875"/>
                  <a:pt x="1165314" y="490141"/>
                  <a:pt x="2505869" y="232172"/>
                </a:cubicBezTo>
                <a:lnTo>
                  <a:pt x="2479710" y="0"/>
                </a:lnTo>
                <a:lnTo>
                  <a:pt x="2970213" y="371475"/>
                </a:lnTo>
                <a:lnTo>
                  <a:pt x="2584348" y="928688"/>
                </a:lnTo>
                <a:lnTo>
                  <a:pt x="2558188" y="696516"/>
                </a:lnTo>
                <a:cubicBezTo>
                  <a:pt x="1347765" y="799703"/>
                  <a:pt x="495035" y="1186656"/>
                  <a:pt x="0" y="1857375"/>
                </a:cubicBezTo>
                <a:close/>
              </a:path>
            </a:pathLst>
          </a:custGeom>
          <a:solidFill>
            <a:srgbClr val="fee8c4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601" name="Grupo 33"/>
          <p:cNvGrpSpPr/>
          <p:nvPr/>
        </p:nvGrpSpPr>
        <p:grpSpPr>
          <a:xfrm>
            <a:off x="4021920" y="5758920"/>
            <a:ext cx="2522880" cy="1878840"/>
            <a:chOff x="4021920" y="5758920"/>
            <a:chExt cx="2522880" cy="1878840"/>
          </a:xfrm>
        </p:grpSpPr>
        <p:sp>
          <p:nvSpPr>
            <p:cNvPr id="602" name="Rectángulo 34"/>
            <p:cNvSpPr/>
            <p:nvPr/>
          </p:nvSpPr>
          <p:spPr>
            <a:xfrm rot="20682000">
              <a:off x="4157640" y="6032160"/>
              <a:ext cx="2251080" cy="13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3" name="CuadroTexto 35"/>
            <p:cNvSpPr/>
            <p:nvPr/>
          </p:nvSpPr>
          <p:spPr>
            <a:xfrm rot="20682000">
              <a:off x="4157640" y="6032160"/>
              <a:ext cx="2251080" cy="13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4320" rIns="0" tIns="0" bIns="0" anchor="t">
              <a:noAutofit/>
            </a:bodyPr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es-ES_tradnl" sz="1600" spc="-1" strike="noStrike">
                  <a:solidFill>
                    <a:srgbClr val="003366"/>
                  </a:solidFill>
                  <a:latin typeface="Verdana"/>
                </a:rPr>
                <a:t>35,4</a:t>
              </a:r>
              <a:r>
                <a:rPr b="0" lang="es-ES" sz="1600" spc="-1" strike="noStrike">
                  <a:solidFill>
                    <a:srgbClr val="003366"/>
                  </a:solidFill>
                  <a:latin typeface="Verdana"/>
                </a:rPr>
                <a:t> ±15,5 meses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Imagen 2" descr=""/>
          <p:cNvPicPr/>
          <p:nvPr/>
        </p:nvPicPr>
        <p:blipFill>
          <a:blip r:embed="rId1"/>
          <a:srcRect l="0" t="11725" r="0" b="981"/>
          <a:stretch/>
        </p:blipFill>
        <p:spPr>
          <a:xfrm>
            <a:off x="971640" y="1341360"/>
            <a:ext cx="7245360" cy="5151600"/>
          </a:xfrm>
          <a:prstGeom prst="rect">
            <a:avLst/>
          </a:prstGeom>
          <a:ln w="0">
            <a:noFill/>
          </a:ln>
        </p:spPr>
      </p:pic>
      <p:sp>
        <p:nvSpPr>
          <p:cNvPr id="605" name="Rectángulo 1"/>
          <p:cNvSpPr/>
          <p:nvPr/>
        </p:nvSpPr>
        <p:spPr>
          <a:xfrm>
            <a:off x="179280" y="549360"/>
            <a:ext cx="80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elación entre las terapias apropiadas del CDAI y las variables electrocardiográficas. Análisis univariado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6" name="Rectángulo 8"/>
          <p:cNvSpPr/>
          <p:nvPr/>
        </p:nvSpPr>
        <p:spPr>
          <a:xfrm>
            <a:off x="971640" y="2565360"/>
            <a:ext cx="6913440" cy="576360"/>
          </a:xfrm>
          <a:prstGeom prst="rect">
            <a:avLst/>
          </a:pr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7" name="Rectángulo 9"/>
          <p:cNvSpPr/>
          <p:nvPr/>
        </p:nvSpPr>
        <p:spPr>
          <a:xfrm>
            <a:off x="971640" y="3648240"/>
            <a:ext cx="6913440" cy="285480"/>
          </a:xfrm>
          <a:prstGeom prst="rect">
            <a:avLst/>
          </a:pr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8" name="Rectángulo 10"/>
          <p:cNvSpPr/>
          <p:nvPr/>
        </p:nvSpPr>
        <p:spPr>
          <a:xfrm>
            <a:off x="992160" y="5084640"/>
            <a:ext cx="6912000" cy="576360"/>
          </a:xfrm>
          <a:prstGeom prst="rect">
            <a:avLst/>
          </a:pr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9" name="Rectángulo 11"/>
          <p:cNvSpPr/>
          <p:nvPr/>
        </p:nvSpPr>
        <p:spPr>
          <a:xfrm>
            <a:off x="992160" y="6167520"/>
            <a:ext cx="6912000" cy="360360"/>
          </a:xfrm>
          <a:prstGeom prst="rect">
            <a:avLst/>
          </a:pr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31T16:23:37Z</dcterms:created>
  <dc:creator>invbio3</dc:creator>
  <dc:description/>
  <dc:language>en-US</dc:language>
  <cp:lastModifiedBy>Alain Gutierrez Lopez</cp:lastModifiedBy>
  <dcterms:modified xsi:type="dcterms:W3CDTF">2020-11-20T04:22:12Z</dcterms:modified>
  <cp:revision>104</cp:revision>
  <dc:subject/>
  <dc:title>PowerPoint Template</dc:title>
</cp:coreProperties>
</file>