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D1D-EEB5-437F-AE7B-A30212E376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Marcador de número de diapositiva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F4E-CD4D-4D6E-9738-84E35B8571FB}" type="slidenum">
              <a:rPr b="0" lang="es-MX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6E16-3EF5-49BE-B495-7B7ED634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EDC83-EC7F-4EF1-A108-641147B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499C-10CD-46F6-B0CC-397DC16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F7ED-6908-4745-9E6B-BD51C18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4AD2-C28C-4E88-A558-EA29F74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1F33-61EF-49C3-B97B-95469D6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5149-7512-4C7E-8904-935A97DA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D725-F371-4F22-BE61-B8250005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8A6B-37D5-431D-A566-D7A34268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5B12-8E17-4B12-9406-8F3A3C4F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F825-E283-4D05-B76C-4E0A47A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AC15-D179-445C-9708-26FB809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E4F6-F3C5-4E2F-996F-0586525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2FAE-8C84-47E8-B7DB-3FB52984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8AFD-922D-439A-8B6C-5142671D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0044-28E8-4A22-A5A8-FD6A4A2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987A-5853-4915-9140-A7A4ECF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AC3AE-5994-4D6A-A523-6A68D89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FDA9-F22B-4EEE-A4C7-AEAA873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C7C0-240D-40BE-BBF8-6B0B608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4502-0B71-4852-9377-010ABD41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CFC4-4FF3-4F89-AAE5-4C899131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C08D-DF7D-4FC1-80BB-633BB38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D5DB-4F4B-43EB-A86A-888811A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7DD2-089E-4375-832C-C27C3281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3692-6B06-480D-A49A-1699D538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76B9-C2B9-46AD-8812-6F9CE8AD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2812-651E-40AE-8523-733272E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9FBD1-F438-4247-9226-247A5E4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6CAB-A34F-40BA-9D50-54AEA92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C688-2859-4007-9A47-E2BF52B9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B4D2-AF00-474A-8038-6B7AF0D5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720F-5AA3-4030-AD04-30EF0572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AAB7E-8CD8-4CF7-A688-8E68978A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697AC-76DE-4C76-8C08-2C8666D2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0F3D0-0E9B-4913-97CB-E8898E35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6C22F-BA2A-4D33-A925-7083664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6F1CE-FCA0-4AFA-8CA6-D0A28BD5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200AC-9756-484F-BD27-B70479E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6988-F939-4D84-B3E5-96D8C66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A2E72-E7A6-4E9E-87EB-C6CA466E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EB93B-10DB-46A3-BCEC-AF71154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C340D-5C6F-49E1-93B7-2A1EB5B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9138-F8E8-4D10-BFD2-E1ABFAC6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93DE-84DF-47B4-8ED0-975748C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DA2-1E5E-4383-9BA1-C9AD93D5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E8F-8D48-439F-A4F4-B4D1F4C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C8F-2A74-4781-A1F5-F8E5BB1F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7FB-A513-4EF8-AD3E-139A6A2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9FF-9CDC-4D71-89B1-D1D3E9CB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E93-62EA-48C4-93CB-56BFF62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EB1-33C3-4F20-986B-A3F0A10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425-3981-4217-9209-18A4307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079-9BB7-4BB0-8AEE-6664EF8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673-F34A-4198-8DF1-FFE435C5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167-B15D-4545-BF96-08DB43E1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D48-6050-4584-9264-77850087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E8CD-0602-4E19-A222-280D81BF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F047-2921-41D8-87C2-5DF1E73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B00-9990-476A-832E-AB40A66D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EA3-81F9-40FF-AB66-5A47B7F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8A85-81FC-4D69-857C-0EFEA8C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773-B056-42CE-A304-51096CA6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8FB0-3C02-4DFF-BA53-BFD4367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9EFE-0412-4F99-9B5A-6376E7C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9DE8-235C-4E47-AF4E-C4F6B57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646A-0C0D-4DAA-832A-B77CE05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C2CC-CE5A-497C-8531-A8F8323C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3DA-474B-49BE-A9C0-ADC75963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D2BF-D90E-4723-91BC-CADD8A27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D398-7015-402A-894F-FBB16B0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88FE-D9EB-4D93-B48D-C0A18B80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2873-DD16-499E-8E85-9AF0E9F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1F97-E5A4-46E6-8772-E6FBDC6A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972F-5C08-4FD1-8424-6DCD29E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2AB4-83D5-4D2C-8682-0FE54CE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ECB5-A013-4788-ACA5-E170980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A13A-A3A1-4C07-A7DF-C22F39D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ACEB-D9E3-4EFA-8A29-65A02BA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B49F-8710-40F4-B85C-F1BA2695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24D8-8317-4728-8363-F7ABE4A4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CD5B-5690-4541-8E4B-20D25E04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317A-5DBB-4876-9892-6414AB0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E187-4E52-4143-A13E-7766C3B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503B-C0EF-4C84-B527-F1E20AEC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CD537-C50A-4059-9B69-82598FA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12BE-63AC-4E01-82D4-2537B36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9C5D-E393-49B0-AEB6-B07EB80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4ECE-4423-442E-B77E-116A736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CCDA-1948-4470-B80F-14E59ED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6AD3-BC3E-47BC-8686-4482FC2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91AA-6FCA-470A-B8E4-BE03E412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1413-1D94-4322-AA97-34E47392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B535-D8EE-4B3C-AF0B-8F6BAE61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8AA6-36F2-4DA0-A355-BD8574D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3DDE-B625-426F-8AF2-56F0008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E9EC-F421-4B46-8091-FA8C353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E7BD-F58F-4B89-8849-FB896D69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E325-14C1-4F54-89F9-DC221475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9B4F-4065-42F3-946F-89AF983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41A8-0083-4ACF-82B4-965C001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3E7C1-079C-4734-BA6A-8D58A16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39A5-AF00-4268-A4F5-24AB4E0A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179D-4293-4342-A0E6-BD608069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80DF-B799-4500-8209-000E9D48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2188-C138-451D-BCF9-F20BE2B3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BBA8-512D-489A-AC28-9B5B647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AB3C-04B9-4B3C-83C9-49264652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B5C-46C0-40D8-B7EA-859913732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724-E4F7-487E-9C53-8ED97E850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BAE2-C16F-41D7-A649-CB939EF84063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565-0FE3-4E53-A4F7-A86B0F14B7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389-77B2-463E-ABCF-191CDEBBA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4A51-2962-40E2-AF8E-B5E172590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066E-884A-4CDD-A031-1A8BDC56C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E6A-58D7-464F-A7E8-C363D54EA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5940-1A20-4ECA-B05A-66A078775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8920" y="3357720"/>
            <a:ext cx="8425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3200" spc="-1" strike="noStrike">
                <a:solidFill>
                  <a:srgbClr val="000000"/>
                </a:solidFill>
                <a:latin typeface="Arial"/>
                <a:ea typeface="Arial"/>
              </a:rPr>
              <a:t>Aterosclerosis subclínica carotídea en la espondilitis anquilopoyética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Autores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Dra. Mcs. Nelsa Casas Figueredo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DraC. Araceli Chico Capote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003366"/>
                </a:solidFill>
                <a:latin typeface="Arial"/>
                <a:ea typeface="Calibri"/>
              </a:rPr>
              <a:t>Dra. Mayra Janneth Avila Ayal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	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Servicio de Reumatologia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La Habana, 202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42560" y="1341000"/>
            <a:ext cx="718668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Características demográficas y clínicas del grupo estudiado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CuadroTexto 4"/>
          <p:cNvSpPr/>
          <p:nvPr/>
        </p:nvSpPr>
        <p:spPr>
          <a:xfrm>
            <a:off x="684360" y="1844640"/>
            <a:ext cx="384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3366"/>
                </a:solidFill>
                <a:latin typeface="Arial"/>
                <a:ea typeface="Arial"/>
              </a:rPr>
              <a:t>Distribución de los pacientes según características demográfica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6" name="Imagen 5" descr=""/>
          <p:cNvPicPr/>
          <p:nvPr/>
        </p:nvPicPr>
        <p:blipFill>
          <a:blip r:embed="rId1"/>
          <a:stretch/>
        </p:blipFill>
        <p:spPr>
          <a:xfrm>
            <a:off x="309600" y="2789280"/>
            <a:ext cx="4224240" cy="3674880"/>
          </a:xfrm>
          <a:prstGeom prst="rect">
            <a:avLst/>
          </a:prstGeom>
          <a:ln w="0">
            <a:noFill/>
          </a:ln>
        </p:spPr>
      </p:pic>
      <p:pic>
        <p:nvPicPr>
          <p:cNvPr id="567" name="Marcador de contenido 8" descr=""/>
          <p:cNvPicPr/>
          <p:nvPr/>
        </p:nvPicPr>
        <p:blipFill>
          <a:blip r:embed="rId2"/>
          <a:stretch/>
        </p:blipFill>
        <p:spPr>
          <a:xfrm>
            <a:off x="4716360" y="2789280"/>
            <a:ext cx="4319640" cy="3744720"/>
          </a:xfrm>
          <a:prstGeom prst="rect">
            <a:avLst/>
          </a:prstGeom>
          <a:ln w="0">
            <a:noFill/>
          </a:ln>
        </p:spPr>
      </p:pic>
      <p:sp>
        <p:nvSpPr>
          <p:cNvPr id="568" name="CuadroTexto 3"/>
          <p:cNvSpPr/>
          <p:nvPr/>
        </p:nvSpPr>
        <p:spPr>
          <a:xfrm>
            <a:off x="5076720" y="184464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  <a:ea typeface="Arial"/>
              </a:rPr>
              <a:t>Distribución de los pacientes según características clínicas de la enfermedad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66"/>
                </a:solidFill>
                <a:latin typeface="Arial"/>
                <a:ea typeface="Arial"/>
              </a:rPr>
              <a:t>Frecuencia de la aterosclerosis subclínica carotídea y su asociación con los FRCV</a:t>
            </a:r>
            <a:r>
              <a:rPr b="1" i="1" lang="es-ES_tradnl" sz="2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71" name="Imagen 4" descr=""/>
          <p:cNvPicPr/>
          <p:nvPr/>
        </p:nvPicPr>
        <p:blipFill>
          <a:blip r:embed="rId1"/>
          <a:stretch/>
        </p:blipFill>
        <p:spPr>
          <a:xfrm>
            <a:off x="808200" y="2570040"/>
            <a:ext cx="74516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0" y="1267920"/>
            <a:ext cx="453384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Arial"/>
                <a:ea typeface="Arial"/>
              </a:rPr>
              <a:t>Estimación del riesgo consumo del tabaco (tabaquismo) en la presentación de arterosclerosis subclínica carotídea. </a:t>
            </a: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74" name="Imagen 4" descr=""/>
          <p:cNvPicPr/>
          <p:nvPr/>
        </p:nvPicPr>
        <p:blipFill>
          <a:blip r:embed="rId1"/>
          <a:stretch/>
        </p:blipFill>
        <p:spPr>
          <a:xfrm>
            <a:off x="155520" y="2332080"/>
            <a:ext cx="4200480" cy="368928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4859280" y="1268280"/>
            <a:ext cx="405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Arial"/>
                <a:ea typeface="Arial"/>
              </a:rPr>
              <a:t>Distribución de los pacientes según aterosclerosis subclínica carotídea, tiempo de evolución y la actividad inflamatoria de la enfermedad</a:t>
            </a:r>
            <a:r>
              <a:rPr b="0" lang="es-MX" sz="14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6" name="Imagen 6" descr=""/>
          <p:cNvPicPr/>
          <p:nvPr/>
        </p:nvPicPr>
        <p:blipFill>
          <a:blip r:embed="rId2"/>
          <a:stretch/>
        </p:blipFill>
        <p:spPr>
          <a:xfrm>
            <a:off x="4753080" y="2332080"/>
            <a:ext cx="41608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Arial"/>
              </a:rPr>
              <a:t>Estimación del riesgo de los reactantes de fase aguda en la presentación de arterosclerosis subclínica carotíde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79" name="Imagen 4" descr=""/>
          <p:cNvPicPr/>
          <p:nvPr/>
        </p:nvPicPr>
        <p:blipFill>
          <a:blip r:embed="rId1"/>
          <a:stretch/>
        </p:blipFill>
        <p:spPr>
          <a:xfrm>
            <a:off x="684360" y="2212920"/>
            <a:ext cx="75247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96640" y="1268280"/>
            <a:ext cx="456228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  <a:ea typeface="Arial"/>
              </a:rPr>
              <a:t>Valores promedios y error estándar de las pruebas BASDAI, VSG y PCR en los tipos de aterosclerosis subclínica carotídea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82" name="Imagen 4" descr=""/>
          <p:cNvPicPr/>
          <p:nvPr/>
        </p:nvPicPr>
        <p:blipFill>
          <a:blip r:embed="rId1"/>
          <a:stretch/>
        </p:blipFill>
        <p:spPr>
          <a:xfrm>
            <a:off x="216000" y="2492280"/>
            <a:ext cx="4464000" cy="3587760"/>
          </a:xfrm>
          <a:prstGeom prst="rect">
            <a:avLst/>
          </a:prstGeom>
          <a:ln w="0">
            <a:noFill/>
          </a:ln>
        </p:spPr>
      </p:pic>
      <p:sp>
        <p:nvSpPr>
          <p:cNvPr id="583" name="CuadroTexto 5"/>
          <p:cNvSpPr/>
          <p:nvPr/>
        </p:nvSpPr>
        <p:spPr>
          <a:xfrm>
            <a:off x="5076720" y="126828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  <a:ea typeface="Arial"/>
              </a:rPr>
              <a:t>Distribución de los pacientes según aterosclerosis subclínica carotídea y el tratamiento utilizad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4" name="Imagen 1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1767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6" name="Marcador de contenido 3" descr=""/>
          <p:cNvPicPr/>
          <p:nvPr/>
        </p:nvPicPr>
        <p:blipFill>
          <a:blip r:embed="rId1"/>
          <a:stretch/>
        </p:blipFill>
        <p:spPr>
          <a:xfrm>
            <a:off x="66600" y="1596960"/>
            <a:ext cx="8663040" cy="5029200"/>
          </a:xfrm>
          <a:prstGeom prst="rect">
            <a:avLst/>
          </a:prstGeom>
          <a:ln w="0">
            <a:noFill/>
          </a:ln>
        </p:spPr>
      </p:pic>
      <p:sp>
        <p:nvSpPr>
          <p:cNvPr id="587" name="Rectángulo 1"/>
          <p:cNvSpPr/>
          <p:nvPr/>
        </p:nvSpPr>
        <p:spPr>
          <a:xfrm>
            <a:off x="250920" y="1268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  <a:ea typeface="Arial"/>
              </a:rPr>
              <a:t>Conclu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Imagen 2" descr=""/>
          <p:cNvPicPr/>
          <p:nvPr/>
        </p:nvPicPr>
        <p:blipFill>
          <a:blip r:embed="rId1"/>
          <a:srcRect l="3140" t="998" r="0" b="0"/>
          <a:stretch/>
        </p:blipFill>
        <p:spPr>
          <a:xfrm>
            <a:off x="7389720" y="1305000"/>
            <a:ext cx="1754280" cy="2282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09680" y="1144440"/>
            <a:ext cx="6718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Elipse 3"/>
          <p:cNvSpPr/>
          <p:nvPr/>
        </p:nvSpPr>
        <p:spPr>
          <a:xfrm>
            <a:off x="250920" y="2505240"/>
            <a:ext cx="2808360" cy="3587760"/>
          </a:xfrm>
          <a:prstGeom prst="ellipse">
            <a:avLst/>
          </a:prstGeom>
          <a:gradFill rotWithShape="0">
            <a:gsLst>
              <a:gs pos="0">
                <a:srgbClr val="9eb9f9"/>
              </a:gs>
              <a:gs pos="100000">
                <a:srgbClr val="e4ecfe"/>
              </a:gs>
            </a:gsLst>
            <a:lin ang="16200000"/>
          </a:gradFill>
          <a:ln w="19080">
            <a:solidFill>
              <a:srgbClr val="1b60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CuadroTexto 4"/>
          <p:cNvSpPr/>
          <p:nvPr/>
        </p:nvSpPr>
        <p:spPr>
          <a:xfrm>
            <a:off x="762120" y="3197160"/>
            <a:ext cx="197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Engloba un conjunto de enfermedad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34" name="Conector recto de flecha 11"/>
          <p:cNvCxnSpPr/>
          <p:nvPr/>
        </p:nvCxnSpPr>
        <p:spPr>
          <a:xfrm flipV="1">
            <a:off x="2935080" y="3263040"/>
            <a:ext cx="29124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35" name="CuadroTexto 13"/>
          <p:cNvSpPr/>
          <p:nvPr/>
        </p:nvSpPr>
        <p:spPr>
          <a:xfrm>
            <a:off x="395280" y="4125960"/>
            <a:ext cx="26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racterísticas clínicas comunes y comparten su etiopatogenia  a pesar de ser fenotípicamente difere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Abrir llave 15"/>
          <p:cNvSpPr/>
          <p:nvPr/>
        </p:nvSpPr>
        <p:spPr>
          <a:xfrm>
            <a:off x="3097080" y="2557440"/>
            <a:ext cx="571680" cy="279720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2797200"/>
              <a:gd name="textAreaBottom" fmla="*/ 2782440 h 27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4"/>
                  <a:pt x="10800" y="368"/>
                </a:cubicBezTo>
                <a:lnTo>
                  <a:pt x="10800" y="10432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4"/>
                  <a:pt x="10800" y="11168"/>
                </a:cubicBezTo>
                <a:lnTo>
                  <a:pt x="10800" y="21232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b6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CuadroTexto 17"/>
          <p:cNvSpPr/>
          <p:nvPr/>
        </p:nvSpPr>
        <p:spPr>
          <a:xfrm>
            <a:off x="0" y="141300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término espondiloartritis (Sp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CuadroTexto 19"/>
          <p:cNvSpPr/>
          <p:nvPr/>
        </p:nvSpPr>
        <p:spPr>
          <a:xfrm>
            <a:off x="3668760" y="2505240"/>
            <a:ext cx="444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 algn="just">
              <a:buClr>
                <a:srgbClr val="174a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pondilitis Anquilosante (E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buClr>
                <a:srgbClr val="174a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rtritis Psoriásica (A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buClr>
                <a:srgbClr val="174a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rtritis Reactiva (AR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buClr>
                <a:srgbClr val="174a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fermedad inflamatoria intestinal (EI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 algn="just">
              <a:buClr>
                <a:srgbClr val="174a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pondiloartritis Indiferenciadas (Esp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CuadroTexto 20"/>
          <p:cNvSpPr/>
          <p:nvPr/>
        </p:nvSpPr>
        <p:spPr>
          <a:xfrm>
            <a:off x="4343400" y="3587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Flecha abajo 24"/>
          <p:cNvSpPr/>
          <p:nvPr/>
        </p:nvSpPr>
        <p:spPr>
          <a:xfrm>
            <a:off x="1538280" y="2103480"/>
            <a:ext cx="235080" cy="3096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1f63ad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108000" y="538200"/>
            <a:ext cx="6840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8360" y="1844280"/>
            <a:ext cx="56260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  <a:ea typeface="Arial"/>
              </a:rPr>
              <a:t>La aterosclerosis es una enfermedad multifactorial en la que intervienen estilos de vida, factores genéticos y factores de riesgo específico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  <a:ea typeface="Arial"/>
              </a:rPr>
              <a:t>El proceso aterosclerótico sigue una serie de pasos complejos, en los últimos años la etiopatogenia de la aterosclerosis ha cambiad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  <a:ea typeface="Arial"/>
              </a:rPr>
              <a:t>La inflamación sistémica crónica está implicada como la fuerza impulsora detrás de la aterosclerosis acelerada en las enfermedade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4" name="Imagen 4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Marcador de contenido 3" descr=""/>
          <p:cNvPicPr/>
          <p:nvPr/>
        </p:nvPicPr>
        <p:blipFill>
          <a:blip r:embed="rId1"/>
          <a:stretch/>
        </p:blipFill>
        <p:spPr>
          <a:xfrm>
            <a:off x="378000" y="1189080"/>
            <a:ext cx="8669160" cy="5192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magen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6651720" cy="992160"/>
          </a:xfrm>
          <a:prstGeom prst="rect">
            <a:avLst/>
          </a:prstGeom>
          <a:ln w="0">
            <a:noFill/>
          </a:ln>
        </p:spPr>
      </p:pic>
      <p:pic>
        <p:nvPicPr>
          <p:cNvPr id="548" name="Imagen 4" descr=""/>
          <p:cNvPicPr/>
          <p:nvPr/>
        </p:nvPicPr>
        <p:blipFill>
          <a:blip r:embed="rId2"/>
          <a:stretch/>
        </p:blipFill>
        <p:spPr>
          <a:xfrm>
            <a:off x="179280" y="1733400"/>
            <a:ext cx="8785440" cy="928800"/>
          </a:xfrm>
          <a:prstGeom prst="rect">
            <a:avLst/>
          </a:prstGeom>
          <a:ln w="0">
            <a:noFill/>
          </a:ln>
        </p:spPr>
      </p:pic>
      <p:pic>
        <p:nvPicPr>
          <p:cNvPr id="549" name="Imagen 5" descr=""/>
          <p:cNvPicPr/>
          <p:nvPr/>
        </p:nvPicPr>
        <p:blipFill>
          <a:blip r:embed="rId3"/>
          <a:stretch/>
        </p:blipFill>
        <p:spPr>
          <a:xfrm>
            <a:off x="1908000" y="3014640"/>
            <a:ext cx="2303640" cy="800280"/>
          </a:xfrm>
          <a:prstGeom prst="rect">
            <a:avLst/>
          </a:prstGeom>
          <a:ln w="0">
            <a:noFill/>
          </a:ln>
        </p:spPr>
      </p:pic>
      <p:pic>
        <p:nvPicPr>
          <p:cNvPr id="550" name="Imagen 7" descr=""/>
          <p:cNvPicPr/>
          <p:nvPr/>
        </p:nvPicPr>
        <p:blipFill>
          <a:blip r:embed="rId4"/>
          <a:stretch/>
        </p:blipFill>
        <p:spPr>
          <a:xfrm>
            <a:off x="179280" y="3933720"/>
            <a:ext cx="85694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1120" y="1284120"/>
            <a:ext cx="6683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85600" y="3005280"/>
            <a:ext cx="7862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Específicos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Describir las características demográficas y clínicas del grupo estudiado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 la frecuencia de la aterosclerosis subclínica carotídea y su asociación con los FRCV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Relacionar la ateroesclerosis subclínica carotídea con el tiempo de evolución de la enfermedad y la actividad inflamatoria (AI)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Evaluar si existe relación de la aterosclerosis subclínica carotídea con los reactantes de fase aguda y el índice BASDAI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 la relación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entre e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miento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 utilizado y la presencia de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ateroesclerosis subclínica carotide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3" name="Marcador de contenido 2"/>
          <p:cNvSpPr/>
          <p:nvPr/>
        </p:nvSpPr>
        <p:spPr>
          <a:xfrm>
            <a:off x="1187280" y="1628640"/>
            <a:ext cx="756144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marL="257040" indent="-257040" algn="just">
              <a:lnSpc>
                <a:spcPct val="80000"/>
              </a:lnSpc>
              <a:spcBef>
                <a:spcPts val="751"/>
              </a:spcBef>
              <a:buClr>
                <a:srgbClr val="1f63ad"/>
              </a:buClr>
              <a:buFont typeface="Wingdings" charset="2"/>
              <a:buChar char="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 algn="just">
              <a:lnSpc>
                <a:spcPct val="80000"/>
              </a:lnSpc>
              <a:spcBef>
                <a:spcPts val="751"/>
              </a:spcBef>
              <a:buClr>
                <a:srgbClr val="1f63ad"/>
              </a:buClr>
              <a:buFont typeface="Wingdings" charset="2"/>
              <a:buChar char="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s-EC" sz="1900" spc="-1" strike="noStrike">
                <a:solidFill>
                  <a:srgbClr val="000000"/>
                </a:solidFill>
                <a:latin typeface="Arial"/>
                <a:ea typeface="Arial"/>
              </a:rPr>
              <a:t>Gener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 algn="just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s-EC" sz="1900" spc="-1" strike="noStrike">
                <a:solidFill>
                  <a:srgbClr val="000000"/>
                </a:solidFill>
                <a:latin typeface="Arial"/>
                <a:ea typeface="Arial"/>
              </a:rPr>
              <a:t>Determinar la frecuencia de la aterosclerosis subclínica carotídea en pacientes con diagnóstico de espondilitis anquilopoyética (EA) y describir su relación con variables de la enfermedad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51"/>
              </a:spcBef>
              <a:buClr>
                <a:srgbClr val="1f63ad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Título 1"/>
          <p:cNvSpPr/>
          <p:nvPr/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Rectángulo 1"/>
          <p:cNvSpPr/>
          <p:nvPr/>
        </p:nvSpPr>
        <p:spPr>
          <a:xfrm>
            <a:off x="395280" y="155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ángulo 2"/>
          <p:cNvSpPr/>
          <p:nvPr/>
        </p:nvSpPr>
        <p:spPr>
          <a:xfrm>
            <a:off x="838080" y="2463840"/>
            <a:ext cx="726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 realizó un estudio descriptivo de corte transvers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el periodo comprendido desde enero del 2019 hasta enero del 202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El universo o población estuvo constituido por pacientes que acudieron a la consulta de protocolización de espondiloartritis, con diagnóstico confirmado de E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, para la selección de la muestra se establecieron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criterios inclusión y exclusió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La muestra quedó conformada por </a:t>
            </a:r>
            <a:r>
              <a:rPr b="1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215 pacientes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 que cumplieron con los criterios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1110960"/>
            <a:ext cx="84358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  <a:ea typeface="Arial"/>
              </a:rPr>
              <a:t>Operacionalización de las variable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0" name="Marcador de contenido 2" descr=""/>
          <p:cNvPicPr/>
          <p:nvPr/>
        </p:nvPicPr>
        <p:blipFill>
          <a:blip r:embed="rId1"/>
          <a:stretch/>
        </p:blipFill>
        <p:spPr>
          <a:xfrm>
            <a:off x="122400" y="1670040"/>
            <a:ext cx="87166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arcadores de inflamación en la enfermedad: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Eritrosedimentación (VSG)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Proteína C Reactiva (PCR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s utilizados en la enfermedad: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Antinflamatorios no esteroideos (AINES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AINES más modificadores de la enfermedad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Terapia biológica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esencia de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aterosclerosis subclínica carotídea determinada por ultrasonido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doppler carotídeo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Grosor intima media normal (GIMN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Grosor íntima media aumentado (GIMA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laca de ateroma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NELSA</cp:lastModifiedBy>
  <dcterms:modified xsi:type="dcterms:W3CDTF">2020-11-20T02:23:28Z</dcterms:modified>
  <cp:revision>106</cp:revision>
  <dc:subject/>
  <dc:title>PowerPoint Template</dc:title>
</cp:coreProperties>
</file>