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C8965-C626-42AB-A0C5-11A54847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21C8-159B-49BE-88C5-A3FA4DFE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C6688-D464-4C80-A0A3-AC95CA4A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30740-E582-422B-9DA6-0101DBE1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A10C7-FBC7-4906-BBAB-E220C32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FE9F-851C-4583-B14E-9AB1377D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BB739-525E-453F-A7C3-5B62724B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73714-1AE3-4D3D-9B7D-3828CF6E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6B9E7-CBF8-4BA7-A2A6-7CC3CE94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379E9-4B5B-4960-92B1-6399BAAD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76901-E4E9-4A22-B256-61BA5EB0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4B9C4-3507-43D7-BDFC-B2569378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37B1C-3985-40A3-8221-4F766A2A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A00D8-CDB5-4744-9DAD-F39C789C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F6E47-9056-4B60-AA29-30D1086A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B0600-27A6-4A42-9C28-CEB2F1C3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C5311-F7B9-4DC4-AE44-2D6F8E6B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8A36A-0E8F-4AD3-92BD-D1A464A9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2C6EA-E66F-47A1-B096-AB27C02A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C9878-BFF2-4C82-8E7F-0AF6A3B1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DC524-69C3-4B69-B5E0-BB779056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078B0-40A0-4FA3-ABF2-470EE4AD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AAE44-1EF1-4857-95B7-1A198098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02CEA-4F93-4809-8CDA-CE8603A7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3DF29-FBF6-492F-BCBD-5719CAD6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99B04-4841-49A0-B879-A3D062DC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580A1-3996-482D-ABDD-3AEE8EBF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21BF6-3CCC-4C3A-839E-0BB9716F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FCAC1-0E0D-45D1-989F-78FF9B19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24C87-FA55-4853-8A54-17185CDC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226A3-1A18-4811-968A-DAF639FD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37CB6-6991-4F23-9505-C332C975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3A5F5-AF29-4AF4-A4A2-EAE4C066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81D91-01A9-4593-A514-318FBF08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BB355-5983-423A-9404-395EC23E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99F61-FF94-4309-A3E7-78AE7556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88185-D182-457B-BCE2-3363F052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02A0A-3C84-4EFB-B707-D016516E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5948A-1009-42D9-91DB-CD363F49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8832E-11CE-4767-A44F-E288F2C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8FEE9-B115-4917-87E4-B60C8CA6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4E72C-4BF6-4094-A42E-B231040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D576F-237C-4364-B942-2DA0A94D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97E1F-E074-47C3-8B40-3B58791F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3213F-5C9A-4AAB-BFCE-9C630AFD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3BB-1109-457C-8B55-8C47E395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FF9-3F6D-4AF8-8004-73B5279C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0A6-B70B-413C-9106-77F480CE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C41-A874-487B-8031-A627DEDC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FC9-C09B-4329-912A-A7067FF5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4CD-7A87-49BF-AA1B-1A8A17D9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B17-389E-4D19-8771-8E9BF21E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5C8-0C3F-4227-9312-6BACB7B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D4B-F4D5-4C08-86ED-77EB7BC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DD2-419B-466D-AEAF-145BC461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988-E2A2-49FF-AFF3-C43826C7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841-4E9A-4AC1-9439-66E9430A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3EBA-76F5-4FC7-B899-7F5924F4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3AD3-68C5-4034-A4CF-1C162DB8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70C6-B7F0-4F80-B82B-5E66C6E5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2B7E-2A60-4864-86D8-355F1479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4A05-B18D-4705-92D1-AB3B9FFB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41DF-7D8C-49D9-88DE-B7E90036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626D-AF9C-47D7-994E-4EE0E3B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9AED-6E0D-4636-9E8D-D48CE308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953C-51B0-458C-9268-8DB4E449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BBD8-7954-441B-89EB-DE04DA7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FFC1-6EAB-4A02-9BF7-ABA99A87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8605-CFB0-4F11-AA17-AD48942E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40B93-4433-4C3F-A07F-4F470877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4EA05-6FFC-4E39-BBC4-039D7354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4854-3CFF-444C-B1B8-C992AFC0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7D45-6A7E-4581-BBB4-BB994698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F3ED-4BE6-493F-88F4-9CFD0F6C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4CBB-674B-4991-BC17-76582054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E290-3B9D-4D6A-81CD-A79894C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DB14-3BF8-4973-9F28-DA23884F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6AB9-F200-415F-880C-1C9FAD6E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178A-1922-44EA-A8BF-B2E94627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ED79-27D7-42BE-919F-AD3CB0AA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960F-2CBF-484C-86E8-B11E5766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42785-4571-4FD4-8A97-3A6B60CC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ABC7C-44C6-4E61-8446-A2514E27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BCC9-23A0-46A3-85E1-F52CD081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91924-2AED-4956-815F-FCDB9C3B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C4E5C-A29F-48A4-855B-4ED5D849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99E6-2BA6-4828-9791-BB17DC9E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FA97C-DE8A-4465-A796-EB8DC71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2178-5504-443C-BB1A-04555B69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330F-C225-4AD3-A550-30D2664E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5C2D-DBB3-4A9D-8424-C60A9E0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523D-B446-42E0-A051-A3E49796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6C86D-CEBF-45F7-ACA5-8BC74AD6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0A61E-2C4B-4584-86F1-D04DC5A6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1FE84-5533-4518-98C8-4201E5B2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03974-5F32-4706-A280-897FCCBE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21A5-0A33-41F0-B89B-903DD95C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F8C52-A0E5-488A-A276-7A5E7CD3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C76D7-43DA-4789-B7D5-BECB60E8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807AC-D200-4D1B-9753-6033EEB8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7218-F9B4-4306-9DC9-49D8FE6E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85B6-3D5A-4F28-9953-94A24BB3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C89FD-BE6B-4BD3-85DD-C3400259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5BCF5-A55A-41B3-8054-F2A44CBD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9536-DCF5-4128-ADF1-57292702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9E1CA-91F4-42F3-9F4C-89065B75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8B3E6-C122-4E5F-81AB-42BA2981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32619-5A21-40CF-8C62-8EFE1F2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479D-1967-4154-B482-C4E0AED9F9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DF40-4D62-4AF8-89B5-219D41240E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F7F6-8E5B-47A4-98C2-8D82333210FE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095800" y="165240"/>
            <a:ext cx="363384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FC7A-DEF2-4E8F-95B0-6702339E93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6F9E-91D3-40BE-A886-CB108E7AB5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F470-E8D2-456A-81A1-411229E488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1D95-01C3-49A2-9A33-5E6F073D81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E06A-DCDE-432C-AC82-28D650EDB4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5F28-885F-4031-AE5E-F5BF54DE99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8920" y="3573000"/>
            <a:ext cx="84250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94920" y="4220640"/>
            <a:ext cx="5891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Autores: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Dra. Mcs. Nelsa Casas Figueredo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DraC. Araceli Chico Capote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Arial"/>
                <a:ea typeface="Calibri"/>
              </a:rPr>
              <a:t>Dra. </a:t>
            </a:r>
            <a:r>
              <a:rPr b="0" i="1" lang="pt-BR" sz="1800" spc="-1" strike="noStrike">
                <a:solidFill>
                  <a:srgbClr val="003366"/>
                </a:solidFill>
                <a:latin typeface="Arial"/>
                <a:ea typeface="Calibri"/>
              </a:rPr>
              <a:t>Evelyn Tatiana Naranjo Untuña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	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Servicio de Reumatología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Calibri"/>
              </a:rPr>
              <a:t>La Habana, 2020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23" name="Rectángulo 1"/>
          <p:cNvSpPr/>
          <p:nvPr/>
        </p:nvSpPr>
        <p:spPr>
          <a:xfrm>
            <a:off x="179280" y="292428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Sobrepeso y obesidad en pacientes con artritis psoriá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337760"/>
            <a:ext cx="8229600" cy="70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Verdana"/>
              </a:rPr>
              <a:t>Distribución de los pacientes según índice de masa corporal y tiempo de evolución de la APs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971640" y="2276640"/>
          <a:ext cx="7257960" cy="3363840"/>
        </p:xfrm>
        <a:graphic>
          <a:graphicData uri="http://schemas.openxmlformats.org/drawingml/2006/table">
            <a:tbl>
              <a:tblPr/>
              <a:tblGrid>
                <a:gridCol w="1965240"/>
                <a:gridCol w="1403280"/>
                <a:gridCol w="1401840"/>
                <a:gridCol w="1289160"/>
                <a:gridCol w="1198440"/>
              </a:tblGrid>
              <a:tr h="4204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empo de evolución (Años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MC (Kg/m</a:t>
                      </a:r>
                      <a:r>
                        <a:rPr b="1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rmo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bre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nos de 5 añ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 (36,4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 (43,8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 (18,8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46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gual o mayor a 5 añ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 (65,6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 (56,2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9 (81,2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9640" y="1341000"/>
            <a:ext cx="8229600" cy="70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Verdana"/>
              </a:rPr>
              <a:t>Distribución de los pacientes según índice de masa corporal y comorbilidades en la APs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838080" y="2147760"/>
          <a:ext cx="7621560" cy="3714840"/>
        </p:xfrm>
        <a:graphic>
          <a:graphicData uri="http://schemas.openxmlformats.org/drawingml/2006/table">
            <a:tbl>
              <a:tblPr/>
              <a:tblGrid>
                <a:gridCol w="1941480"/>
                <a:gridCol w="1725840"/>
                <a:gridCol w="1365120"/>
                <a:gridCol w="1366920"/>
                <a:gridCol w="1222200"/>
              </a:tblGrid>
              <a:tr h="41184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orbilidad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MC (Kg/m</a:t>
                      </a:r>
                      <a:r>
                        <a:rPr b="1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rmo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bre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lipidem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(31,8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 (34,3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 (64,6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0,006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(9,4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(31,3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0,007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(13,6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 (21,9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 (85,4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&lt;0,0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G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(9,4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 (43,8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0,0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337760"/>
            <a:ext cx="8229600" cy="107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Verdana"/>
              </a:rPr>
              <a:t>Distribución de los pacientes según capacidad funcional y el índice de masa corporal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CO" sz="2000" spc="-1" strike="noStrike">
                <a:solidFill>
                  <a:srgbClr val="003366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596880" y="2205000"/>
          <a:ext cx="7632720" cy="2227320"/>
        </p:xfrm>
        <a:graphic>
          <a:graphicData uri="http://schemas.openxmlformats.org/drawingml/2006/table">
            <a:tbl>
              <a:tblPr/>
              <a:tblGrid>
                <a:gridCol w="2067120"/>
                <a:gridCol w="1474560"/>
                <a:gridCol w="1474920"/>
                <a:gridCol w="1355760"/>
                <a:gridCol w="1260360"/>
              </a:tblGrid>
              <a:tr h="41184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pacidad funcional según BASF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MC (Kg/m</a:t>
                      </a:r>
                      <a:r>
                        <a:rPr b="1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rmo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bre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itiv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 (68,8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 (97,9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egativ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 (95,5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 (31,2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(2,1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1280" y="1341000"/>
            <a:ext cx="8229600" cy="100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t">
            <a:normAutofit fontScale="99000"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Calibri"/>
              </a:rPr>
              <a:t>Distribución de los pacientes según índice de masa corporal  actividad inflamatoria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116000" y="2924280"/>
          <a:ext cx="7343640" cy="2469960"/>
        </p:xfrm>
        <a:graphic>
          <a:graphicData uri="http://schemas.openxmlformats.org/drawingml/2006/table">
            <a:tbl>
              <a:tblPr/>
              <a:tblGrid>
                <a:gridCol w="1989000"/>
                <a:gridCol w="1419480"/>
                <a:gridCol w="1417680"/>
                <a:gridCol w="1304640"/>
                <a:gridCol w="1212840"/>
              </a:tblGrid>
              <a:tr h="41184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MC (Kg/m</a:t>
                      </a:r>
                      <a:r>
                        <a:rPr b="1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rmo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bre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(13,6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9 (90,6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 (100,0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 activ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 (86,4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(9,4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 (0,0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337760"/>
            <a:ext cx="8229600" cy="70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Verdana"/>
              </a:rPr>
              <a:t>Distribución de los pacientes según  marcador de inflamación  y el índice de masa corporal 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755640" y="2565360"/>
          <a:ext cx="7777080" cy="2222640"/>
        </p:xfrm>
        <a:graphic>
          <a:graphicData uri="http://schemas.openxmlformats.org/drawingml/2006/table">
            <a:tbl>
              <a:tblPr/>
              <a:tblGrid>
                <a:gridCol w="2106720"/>
                <a:gridCol w="1501560"/>
                <a:gridCol w="1503360"/>
                <a:gridCol w="1381320"/>
                <a:gridCol w="1284120"/>
              </a:tblGrid>
              <a:tr h="4118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C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MC (Kg/m</a:t>
                      </a:r>
                      <a:r>
                        <a:rPr b="1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rmo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bre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itiv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 (65,6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 (85,4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egativ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 (95,5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 (34,4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 (14,6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Conclusion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En nuestro estudio predominó el sexo femenino, el grupo de edad mayor de 50  años y el color de la piel blanca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La obesidad se expresó con mayor frecuencia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La obesidad se relacionó con comorbilidades de riesgo cardiometabólico y con el tiempo de evolución de la enfermedad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Se evidenció mayor afectación de la capacidad funcional y mayor actividad inflamatoria en pacientes obesos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La obesidad se relacionó con el aumento del marcador inflamatorio PCR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8000" y="1341360"/>
            <a:ext cx="90360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Artritis psoriásica :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es una artropatía inflamatoria, que presenta compromiso articular tanto periférico como axial, se asocia con psoriasis cutánea y/o ungueales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     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Es una enfermedad progresiva, limitante, deformante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La prevalencia de obesidad es considerablemente alta en pacientes con artritis psoriásica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La obesidad  es un problema de interés global debido al notable incremento de su prevalencia a nivel mundial, aumentando la morbimortalidad y afectando la calidad de vida de quien la padece y constituye en sí misma un proceso de inﬂamación crónica debajo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     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grado, donde uno de los principales protagonistas desde el punto de vista  celular es el           macrófago del tejido adiposo.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La inﬂamación inherente a la obesidad participa de forma activa en el desarrollo de los fenómenos ﬁsiopatológicos responsables del síndrome metabólico, la morbilidad cardiovascular y la psoriasis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79280" y="1110960"/>
            <a:ext cx="8856720" cy="560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abb7d3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Pregunta científica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¿Cuál </a:t>
            </a:r>
            <a:r>
              <a:rPr b="0" lang="es-MX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erá la frecuencia del sobrepeso y la obesidad en pacientes con artritis psoriásica (APs), atendidos en consulta de Reumatología y su relación con variables relacionadas con la enfermedad.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Justificación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Calibri"/>
              </a:rPr>
              <a:t>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Calibri"/>
              </a:rPr>
              <a:t>Existe poca información disponible a cerca del tema,en nuestra población, sería importante poder reconocer de forma temprana a los pacientes con sobrepeso y obesidad asociada a la APs, para trazar estrategias terapéuticas, lograr mejor control de la actividad inflamatoria y brindarle una valoración integral al enfermo, constituyendo estas razones, la motivación de nuestra investigación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  <a:ea typeface="Calibri"/>
              </a:rPr>
              <a:t>.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6000" y="1110960"/>
            <a:ext cx="8929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72314"/>
                </a:solidFill>
                <a:latin typeface="Arial"/>
                <a:ea typeface="Arial"/>
              </a:rPr>
              <a:t>Objetivo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0" name="1 Rectángulo"/>
          <p:cNvSpPr/>
          <p:nvPr/>
        </p:nvSpPr>
        <p:spPr>
          <a:xfrm>
            <a:off x="250920" y="1773360"/>
            <a:ext cx="871380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er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Determinar la frecuencia del sobrepeso y la obesidad en pacientes con artropatía psoriásica (APs) y su relación con variables de interé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pecífic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38 Rectángulo"/>
          <p:cNvSpPr/>
          <p:nvPr/>
        </p:nvSpPr>
        <p:spPr>
          <a:xfrm>
            <a:off x="684360" y="32846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CO" sz="1800" spc="-1" strike="noStrike">
                <a:solidFill>
                  <a:srgbClr val="003366"/>
                </a:solidFill>
                <a:latin typeface="Arial"/>
                <a:ea typeface="Arial"/>
              </a:rPr>
              <a:t>Describir la población de estudio según variables demográfica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2 Rectángulo"/>
          <p:cNvSpPr/>
          <p:nvPr/>
        </p:nvSpPr>
        <p:spPr>
          <a:xfrm>
            <a:off x="684360" y="368136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C" sz="1800" spc="-1" strike="noStrike">
                <a:solidFill>
                  <a:srgbClr val="003366"/>
                </a:solidFill>
                <a:latin typeface="Arial"/>
                <a:ea typeface="Arial"/>
              </a:rPr>
              <a:t>Estimar la frecuencia del sobrepeso y obesidad en pacientes con AP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40 Rectángulo"/>
          <p:cNvSpPr/>
          <p:nvPr/>
        </p:nvSpPr>
        <p:spPr>
          <a:xfrm>
            <a:off x="684360" y="4341960"/>
            <a:ext cx="754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C" sz="1800" spc="-1" strike="noStrike">
                <a:solidFill>
                  <a:srgbClr val="003366"/>
                </a:solidFill>
                <a:latin typeface="Arial"/>
                <a:ea typeface="Arial"/>
              </a:rPr>
              <a:t>Determinar  la  relación  entre  el  sobrepeso  y  la  obesidad  con  el  sexo, tiempo de evolución y comorbilidades en el grupo estudi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41 Rectángulo"/>
          <p:cNvSpPr/>
          <p:nvPr/>
        </p:nvSpPr>
        <p:spPr>
          <a:xfrm flipH="1">
            <a:off x="613800" y="5025960"/>
            <a:ext cx="8529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C" sz="1800" spc="-1" strike="noStrike">
                <a:solidFill>
                  <a:srgbClr val="003366"/>
                </a:solidFill>
                <a:latin typeface="Arial"/>
                <a:ea typeface="Arial"/>
              </a:rPr>
              <a:t>Determinar  si  existe  relación  del  sobrepeso  y  la  obesidad  con  la  capacidad funcional y la actividad inflamatoria de la enfermeda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C" sz="1800" spc="-1" strike="noStrike">
                <a:solidFill>
                  <a:srgbClr val="003366"/>
                </a:solidFill>
                <a:latin typeface="Arial"/>
                <a:ea typeface="Arial"/>
              </a:rPr>
              <a:t>Identificar  la  relación  del  sobrepeso  y  la obesidad  con  niveles  de Proteína  C  Reactiva  (PCR)  como  marcador  de  inflamación  en  los pacientes con AP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30200" y="169992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3366"/>
                </a:solidFill>
                <a:latin typeface="Arial"/>
                <a:ea typeface="Arial"/>
              </a:rPr>
              <a:t>Método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000" spc="-1" strike="noStrike">
                <a:solidFill>
                  <a:srgbClr val="003366"/>
                </a:solidFill>
                <a:latin typeface="Arial"/>
                <a:ea typeface="Arial"/>
              </a:rPr>
              <a:t>Diseño: </a:t>
            </a:r>
            <a:r>
              <a:rPr b="0" lang="es-CO" sz="1800" spc="-1" strike="noStrike">
                <a:solidFill>
                  <a:srgbClr val="003366"/>
                </a:solidFill>
                <a:latin typeface="Arial"/>
                <a:ea typeface="Arial"/>
              </a:rPr>
              <a:t>se realizó un estudio descriptivo de corte transversal, que incluyó 102 pacientes atendidos en la consulta de protocolización de artropatía psoriásica del Servicio de Reumatología en el Hospital Clínico-Quirúrgico “Hermanos Ameijeiras”, durante el periodo comprendido desde enero del 2019 hasta enero del 2020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Universo: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constituido por todos los pacientes atendidos en la consulta de protocolización de artropatía psoriásica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Muestr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: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se determinó mediante un método no probabilístico por conveniencia y quedó constituida por 102 pacientes que cumplieron con los criterios de inclusión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338120"/>
            <a:ext cx="191304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Variabl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Demográficas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Edad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sexo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Arial"/>
              </a:rPr>
              <a:t>color de la piel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9" name="CuadroTexto 11"/>
          <p:cNvSpPr/>
          <p:nvPr/>
        </p:nvSpPr>
        <p:spPr>
          <a:xfrm>
            <a:off x="479520" y="3162240"/>
            <a:ext cx="22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Clín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Rectángulo 7"/>
          <p:cNvSpPr/>
          <p:nvPr/>
        </p:nvSpPr>
        <p:spPr>
          <a:xfrm>
            <a:off x="457200" y="3500280"/>
            <a:ext cx="64008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3366"/>
                </a:solidFill>
                <a:latin typeface="Arial"/>
              </a:rPr>
              <a:t>Índice de masa corpor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Comorbilidad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iempo de evolución de la enfermed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3366"/>
                </a:solidFill>
                <a:latin typeface="Arial"/>
              </a:rPr>
              <a:t>Capacidad funcional evaluada mediante el índice BASF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Arial"/>
              </a:rPr>
              <a:t>Actividad Inflamatoria de la Aps mediante el índice ASDAS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CuadroTexto 12"/>
          <p:cNvSpPr/>
          <p:nvPr/>
        </p:nvSpPr>
        <p:spPr>
          <a:xfrm flipH="1">
            <a:off x="640800" y="515304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Laborato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CuadroTexto 1"/>
          <p:cNvSpPr/>
          <p:nvPr/>
        </p:nvSpPr>
        <p:spPr>
          <a:xfrm>
            <a:off x="457200" y="567216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3366"/>
                </a:solidFill>
                <a:latin typeface="Arial"/>
                <a:ea typeface="Arial"/>
              </a:rPr>
              <a:t>Proteína C Reacti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00040" y="1285560"/>
            <a:ext cx="8220240" cy="70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Verdana"/>
              </a:rPr>
              <a:t>Distribución de los pacientes con artropatía psoriásica según características socio-demográficas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000080" y="2286000"/>
          <a:ext cx="7188120" cy="4525920"/>
        </p:xfrm>
        <a:graphic>
          <a:graphicData uri="http://schemas.openxmlformats.org/drawingml/2006/table">
            <a:tbl>
              <a:tblPr/>
              <a:tblGrid>
                <a:gridCol w="2166840"/>
                <a:gridCol w="2165400"/>
                <a:gridCol w="1327320"/>
                <a:gridCol w="1528560"/>
              </a:tblGrid>
              <a:tr h="1234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Características de la muestr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MS ??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118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Edad en añ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 – 2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12,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0 – 4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15,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&gt;50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7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72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Sex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Femeni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6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64,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Masculi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35,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  <a:ea typeface="MS ??"/>
                        </a:rPr>
                        <a:t>Color de la pie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Blan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5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Mestiz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33,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Negra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MS ??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337760"/>
            <a:ext cx="8229600" cy="70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Verdana"/>
              </a:rPr>
              <a:t>Distribución de los pacientes con artropatía psoriásica según índice de masa corporal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619280" y="2068560"/>
          <a:ext cx="6337440" cy="3703680"/>
        </p:xfrm>
        <a:graphic>
          <a:graphicData uri="http://schemas.openxmlformats.org/drawingml/2006/table">
            <a:tbl>
              <a:tblPr/>
              <a:tblGrid>
                <a:gridCol w="2716200"/>
                <a:gridCol w="1749240"/>
                <a:gridCol w="187200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Índice de masa corpor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rmo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,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bre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,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Ob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ado 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ado I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ado II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337760"/>
            <a:ext cx="8229600" cy="107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Verdana"/>
              </a:rPr>
              <a:t>Distribución de los pacientes según índice de masa corporal y sexo en pacientes con APs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971640" y="2924280"/>
          <a:ext cx="7056360" cy="3292200"/>
        </p:xfrm>
        <a:graphic>
          <a:graphicData uri="http://schemas.openxmlformats.org/drawingml/2006/table">
            <a:tbl>
              <a:tblPr/>
              <a:tblGrid>
                <a:gridCol w="1911240"/>
                <a:gridCol w="1363680"/>
                <a:gridCol w="1362240"/>
                <a:gridCol w="1253880"/>
                <a:gridCol w="1165320"/>
              </a:tblGrid>
              <a:tr h="4118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x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MC (Kg/m</a:t>
                      </a:r>
                      <a:r>
                        <a:rPr b="1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rmo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bre p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bes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=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sculi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 (31,8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 (40,6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 (35,4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8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meni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 (68,2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 (59,4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 (64,6%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Raúl Calderín</cp:lastModifiedBy>
  <dcterms:modified xsi:type="dcterms:W3CDTF">2020-11-20T03:06:39Z</dcterms:modified>
  <cp:revision>126</cp:revision>
  <dc:subject/>
  <dc:title>PowerPoint Template</dc:title>
</cp:coreProperties>
</file>