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EF33F-38D9-48BB-A60F-6C45C5DE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94C88-7DFF-4E25-B8D5-53F8917E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9387-1DD3-4EAF-8BFD-14A29181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966E0-DDD2-46EA-96FA-C3C4CCDC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EC436-9D53-40C3-8A69-902025A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4749-E7C2-4E38-B42E-F45CDEA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8547-B716-4D70-9B5E-EBED387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1CBC4-2DA3-4304-9669-236B48DF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609F-3382-43E7-B855-024FAAB6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3898-3986-445A-9B49-A5C638ED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9202-2558-4F99-9698-75332382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597E-0FDC-456B-8371-74B09D36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DE6B-2FF9-4C85-8321-4C1C3544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4375-5B28-4E21-A469-305714C1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4AE75-0E7E-4F43-A356-7997585A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51997-DB0D-4F16-BF69-AAC7545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A6AE8-730E-4E5C-B02A-FB432E8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4CBC7-EE54-4019-85A2-2A2FFFAF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B51FE-EA80-4655-A5ED-ED2069C6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A7E46-421A-44F4-825F-86EFCAFB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1D8D-1072-47B3-9EFC-D5516915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666F9-3EE2-4020-A8D7-97CFC991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848FC-00C7-420F-AA56-E23F4563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88C5-D8E4-480A-AB7A-6B95C759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FF58-D698-4B83-93FE-E53E5F22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B849D-DC6E-433B-8004-D9484C9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2799-B5CF-468E-960C-7F518C7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7D780-C86C-4C43-B949-6F337E79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14B03-D8C4-4B03-91D3-F0ECB88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B2198-54E2-4655-885C-0CBE4E0E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DEB1C-542B-4917-BC91-36F2C46B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43234-9E49-44FC-A6DB-478086B4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F1E6-A6A6-4CAC-A6E3-031BD8B8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16EB9-CA89-4FF0-A915-1312F60C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6E0B5-D667-4D57-ACBD-497EB150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621F2-450E-45D4-8A1C-1BD7C18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9BD3C-3936-4F2E-88D1-401D60D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0B358-8FC0-47BA-852F-F580706E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EE148-3C64-43C1-8E92-0163ED1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579BB-FD69-4034-B8C6-25C464A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E25C2-B951-4659-9D5A-C402394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C9378-045F-451D-A0EA-55E1DFB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EB854-9828-4424-BABE-D2EC3F1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672E6-80F4-479E-9F4F-D6B7A43B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DA074-F4ED-4831-A11C-4285C00F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107-2F79-4F28-8B22-ECF0AF32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9D3-53D3-4668-BF45-809AE06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CA9-593D-4067-A302-29927975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294-9B4A-47E7-91C5-EC775783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95E-B444-43B1-A8A7-E0EFF5D4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E24-E52E-4ABF-8CFB-201497E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5BC-0352-4C9A-ADBA-CE88E97A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CCC-EA10-4A76-B35C-9EF3AEF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D2C-0028-4E29-93A3-EF75F10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813-517D-4405-B2B0-80A6BE9C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9AA-D255-4AD3-8A99-88E9DEEA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431-A03C-41B1-907E-E58604CE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C14C-295E-4FB2-B6E0-B5B95FB9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D142-F174-4FA4-8CA9-845A3DB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B4E-22EE-40A5-9F11-CE543371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30A7-967E-461A-8B1C-AFAC23C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D335-1B37-4CAA-8A05-ED91FC7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F9A5-C65D-4B7C-8BDA-7131E35C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8975-0B7B-48E5-A54F-3BBD6F8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DA32-8BBC-4E62-8E70-4D48C9E1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592B-D8D9-4804-AB05-2BC1A32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274D-F461-4E23-A2C8-6F22E778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654A-9E3D-476B-A742-B3DE1853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5F9E-67EA-4CEF-9D4F-C06B3A35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9C8C-3E3E-4678-A499-11071900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BC1E-FB6D-4432-97BE-F850C281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1F55-262B-4573-869B-7CBB8F27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13EB-D5FB-4FEF-A4E9-58C8C4A7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682E-DC73-48AD-BB9D-F2A231C2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B945-EADD-456A-B662-F574FE2B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3AAA-42CB-4249-A34E-595B9C9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A413-0872-40CB-9B2E-C66350B5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0E76-9CFF-41B6-97AB-673C2DBD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52D8-3355-42B4-9973-FE7D1AA9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AF24-7C11-40BB-9A1D-54889BAD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5B6A-39E8-4E63-A0F8-D0FAA4E4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9146-FDFC-4B29-A43F-162B5514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62A01-24DD-4EA6-B4A2-8636F16F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5669-1A6E-4864-834A-4D0AFF6C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E433-6B2F-4272-9EC8-4A7E3E1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6C4D-891B-4A41-80B8-9C46300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D5061-00F2-46E0-8CB1-BB4DEE2C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25C1-B399-4BF2-BAAE-A7A0E0B2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2366D-C3F7-4E07-BC97-D0F2AA5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8DA5-DADA-490E-BC7C-474067DF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C9EC-411E-4D0C-AD89-6BEEDA8E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48E0-5AC1-4EA6-9DD6-3405C200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EF05-4D4C-433C-8894-E9AA0755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E8F1-00D6-405D-A2B7-4B416F3B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CF30-5012-4434-A239-4CDFAC0B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0433-13A5-4DC5-AAD4-07572AB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5A8CE-43C7-46A8-A6C2-87A182CF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DA11A-0116-42B6-908F-48AA3F80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F35F-EB20-46FE-A4A7-E98330FD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31EC-0C88-4EAB-94CE-FF6A48BF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BBBFC-CC1B-4D20-927B-B12EC5D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C032-4A7C-4CDD-8304-9E0FC898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6597-6D42-4772-83BA-E549C4D3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3752-5F7D-4C36-A181-B58522B4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196B4-2CFA-4496-9F88-CBC314AD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3041D-12CD-4F2D-9EE9-8E504130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7337-0618-4BF0-8609-EF421C31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54521-521E-4D25-805F-28A44E09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CFF9-ED62-44C9-ACB9-40632BB96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2B18-EF9F-4EDF-9EFF-105476289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2C49-3869-4AB5-9792-2E00E8200EDF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83C4-D555-4DCE-AE22-B98A5AA01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8432-6CFC-4B94-B5E3-60C5C68DC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1884-0F23-48DB-9DA5-D7F839707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7219-EBF1-411D-B549-BBF020F28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09F0-C7A2-4AAF-BDB3-09C02A6515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DD9-C5C5-4476-8691-EED1077E9D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95280" y="4220640"/>
            <a:ext cx="619272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</a:t>
            </a:r>
            <a:r>
              <a:rPr b="1" i="1" lang="es-ES_tradnl" sz="1600" spc="-1" strike="noStrike">
                <a:solidFill>
                  <a:srgbClr val="1f63ad"/>
                </a:solidFill>
                <a:latin typeface="Agency FB"/>
              </a:rPr>
              <a:t>Dra. Sonia Eduarda Collazo Caballero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1f63ad"/>
                </a:solidFill>
                <a:latin typeface="Agency FB"/>
              </a:rPr>
              <a:t>                     </a:t>
            </a:r>
            <a:r>
              <a:rPr b="1" i="1" lang="es-ES_tradnl" sz="1600" spc="-1" strike="noStrike">
                <a:solidFill>
                  <a:srgbClr val="1f63ad"/>
                </a:solidFill>
                <a:latin typeface="Agency FB"/>
              </a:rPr>
              <a:t>Dra. Claudia Paola Botero Hernández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Servicio dermatología.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3" name="Título 3"/>
          <p:cNvSpPr/>
          <p:nvPr/>
        </p:nvSpPr>
        <p:spPr>
          <a:xfrm>
            <a:off x="-324000" y="1268280"/>
            <a:ext cx="974412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3366"/>
                </a:solidFill>
                <a:latin typeface="Agency FB"/>
              </a:rPr>
              <a:t>EFECTIVIDAD Y SEGURIDAD DE HEBERFERON® EN PACIENTES CON DIAGNÓSTICO DE CARCINOMA BASOCELULAR EN LA PRÁCTICA MÉDICA HABITUAL. ESTUDIO NACION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CuadroTexto 1"/>
          <p:cNvSpPr/>
          <p:nvPr/>
        </p:nvSpPr>
        <p:spPr>
          <a:xfrm>
            <a:off x="395280" y="12682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bla 3. </a:t>
            </a:r>
            <a:r>
              <a:rPr b="0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spuesta terapeutica del </a:t>
            </a:r>
            <a:r>
              <a:rPr b="0" lang="es-ES_tradnl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berFERON® </a:t>
            </a:r>
            <a:r>
              <a:rPr b="0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yectado perilesional en pacientes con carcinoma basocelul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26920" y="1989000"/>
          <a:ext cx="7118640" cy="4017960"/>
        </p:xfrm>
        <a:graphic>
          <a:graphicData uri="http://schemas.openxmlformats.org/drawingml/2006/table">
            <a:tbl>
              <a:tblPr/>
              <a:tblGrid>
                <a:gridCol w="1933920"/>
                <a:gridCol w="3097080"/>
                <a:gridCol w="1368360"/>
                <a:gridCol w="719280"/>
              </a:tblGrid>
              <a:tr h="274680">
                <a:tc gridSpan="2"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uesta terapéut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4320">
                      <a:solidFill>
                        <a:srgbClr val="1b60ad"/>
                      </a:solidFill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cuenci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</a:tr>
              <a:tr h="273960">
                <a:tc gridSpan="2"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452520">
                <a:tc rowSpan="6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lín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spuesta completa (RC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spuesta parcial (RP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nfermedad estable (E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gresión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spuesta objetiva (RC + RP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ontrol de la enfermedad (RC + RP + EE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74680"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rmatoscóp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usencia de tum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sencia de tum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73960"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stológ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usencia de tum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sencia de tum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CuadroTexto 6"/>
          <p:cNvSpPr/>
          <p:nvPr/>
        </p:nvSpPr>
        <p:spPr>
          <a:xfrm>
            <a:off x="395280" y="6264360"/>
            <a:ext cx="654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uente:</a:t>
            </a:r>
            <a:r>
              <a:rPr b="0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adernos de recolección de datos CRD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9" name="Imagen 5" descr=""/>
          <p:cNvPicPr/>
          <p:nvPr/>
        </p:nvPicPr>
        <p:blipFill>
          <a:blip r:embed="rId1"/>
          <a:srcRect l="0" t="0" r="17730" b="0"/>
          <a:stretch/>
        </p:blipFill>
        <p:spPr>
          <a:xfrm>
            <a:off x="1692360" y="2205000"/>
            <a:ext cx="5904000" cy="3672000"/>
          </a:xfrm>
          <a:prstGeom prst="rect">
            <a:avLst/>
          </a:prstGeom>
          <a:ln w="0">
            <a:noFill/>
          </a:ln>
        </p:spPr>
      </p:pic>
      <p:sp>
        <p:nvSpPr>
          <p:cNvPr id="560" name="CuadroTexto 1"/>
          <p:cNvSpPr/>
          <p:nvPr/>
        </p:nvSpPr>
        <p:spPr>
          <a:xfrm>
            <a:off x="179280" y="1363680"/>
            <a:ext cx="9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áfico 2.  </a:t>
            </a:r>
            <a:r>
              <a:rPr b="0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spuesta Clínica según subtipo clínic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CuadroTexto 6"/>
          <p:cNvSpPr/>
          <p:nvPr/>
        </p:nvSpPr>
        <p:spPr>
          <a:xfrm>
            <a:off x="395280" y="6264360"/>
            <a:ext cx="654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uente:</a:t>
            </a:r>
            <a:r>
              <a:rPr b="0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adernos de recolección de datos CRD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3" name="Imagen 3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052880"/>
          </a:xfrm>
          <a:prstGeom prst="rect">
            <a:avLst/>
          </a:prstGeom>
          <a:ln w="0">
            <a:noFill/>
          </a:ln>
        </p:spPr>
      </p:pic>
      <p:sp>
        <p:nvSpPr>
          <p:cNvPr id="564" name="CuadroTexto 1"/>
          <p:cNvSpPr/>
          <p:nvPr/>
        </p:nvSpPr>
        <p:spPr>
          <a:xfrm>
            <a:off x="455760" y="1339920"/>
            <a:ext cx="9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áfico 5.  Frecuencia de Eventos Adversos por pac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CuadroTexto 6"/>
          <p:cNvSpPr/>
          <p:nvPr/>
        </p:nvSpPr>
        <p:spPr>
          <a:xfrm>
            <a:off x="395280" y="6264360"/>
            <a:ext cx="654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uente:</a:t>
            </a:r>
            <a:r>
              <a:rPr b="0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adernos de recolección de datos CRD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CuadroTexto 1"/>
          <p:cNvSpPr/>
          <p:nvPr/>
        </p:nvSpPr>
        <p:spPr>
          <a:xfrm>
            <a:off x="179280" y="15606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bla 4.</a:t>
            </a:r>
            <a:r>
              <a:rPr b="0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Pacientes con carcinoma basocelular tratados con </a:t>
            </a:r>
            <a:r>
              <a:rPr b="0" lang="es-ES_tradnl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berFERON® según</a:t>
            </a:r>
            <a:r>
              <a:rPr b="0" lang="es-PA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riterios de cicrat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011240" y="2349360"/>
          <a:ext cx="7050240" cy="1462320"/>
        </p:xfrm>
        <a:graphic>
          <a:graphicData uri="http://schemas.openxmlformats.org/drawingml/2006/table">
            <a:tbl>
              <a:tblPr/>
              <a:tblGrid>
                <a:gridCol w="3422520"/>
                <a:gridCol w="1893960"/>
                <a:gridCol w="173376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catrizació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1b60ad"/>
                      </a:solidFill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cuenci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uena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gular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9" name="CustomShape 5"/>
          <p:cNvGrpSpPr/>
          <p:nvPr/>
        </p:nvGrpSpPr>
        <p:grpSpPr>
          <a:xfrm>
            <a:off x="957240" y="4065480"/>
            <a:ext cx="7156440" cy="1822680"/>
            <a:chOff x="957240" y="4065480"/>
            <a:chExt cx="7156440" cy="1822680"/>
          </a:xfrm>
        </p:grpSpPr>
        <p:pic>
          <p:nvPicPr>
            <p:cNvPr id="570" name="CustomShape 5" descr=""/>
            <p:cNvPicPr/>
            <p:nvPr/>
          </p:nvPicPr>
          <p:blipFill>
            <a:blip r:embed="rId1"/>
            <a:stretch/>
          </p:blipFill>
          <p:spPr>
            <a:xfrm>
              <a:off x="957240" y="4065480"/>
              <a:ext cx="7156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971640" y="4076640"/>
              <a:ext cx="7129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Ningún paciente presentó recidivas a los 3 y 6 meses de finalizado el tratamiento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Imagen 1" descr=""/>
          <p:cNvPicPr/>
          <p:nvPr/>
        </p:nvPicPr>
        <p:blipFill>
          <a:blip r:embed="rId1"/>
          <a:stretch/>
        </p:blipFill>
        <p:spPr>
          <a:xfrm>
            <a:off x="14400" y="1341360"/>
            <a:ext cx="4486320" cy="5516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4" name="Imagen 2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486320" cy="5516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6" name="Marcador de contenido 2"/>
          <p:cNvGrpSpPr/>
          <p:nvPr/>
        </p:nvGrpSpPr>
        <p:grpSpPr>
          <a:xfrm>
            <a:off x="281160" y="1835280"/>
            <a:ext cx="8515080" cy="4127400"/>
            <a:chOff x="281160" y="1835280"/>
            <a:chExt cx="8515080" cy="4127400"/>
          </a:xfrm>
        </p:grpSpPr>
        <p:pic>
          <p:nvPicPr>
            <p:cNvPr id="577" name="Marcador de contenido 2" descr=""/>
            <p:cNvPicPr/>
            <p:nvPr/>
          </p:nvPicPr>
          <p:blipFill>
            <a:blip r:embed="rId1"/>
            <a:stretch/>
          </p:blipFill>
          <p:spPr>
            <a:xfrm>
              <a:off x="281160" y="1835280"/>
              <a:ext cx="8515080" cy="41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89080" y="1844640"/>
              <a:ext cx="8497800" cy="41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nclusione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La respuesta clínica, dermatoscópica e histológica de los pacientes en su mayoría corresponde a la respuesta completa y con un buen resultado estético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Los eventos adversos fueron los esperados, todos de intensidad leve y sin complicaciones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Ningún paciente presento recidivas de la lesión a los tres y seis meses de seguimiento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 HeberFERON® demostró excelentes niveles de eficacia y seguridad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5" name="Marcador de contenido 2"/>
          <p:cNvGrpSpPr/>
          <p:nvPr/>
        </p:nvGrpSpPr>
        <p:grpSpPr>
          <a:xfrm>
            <a:off x="384120" y="1255680"/>
            <a:ext cx="8150400" cy="5278320"/>
            <a:chOff x="384120" y="1255680"/>
            <a:chExt cx="8150400" cy="5278320"/>
          </a:xfrm>
        </p:grpSpPr>
        <p:pic>
          <p:nvPicPr>
            <p:cNvPr id="526" name="Marcador de contenido 2" descr=""/>
            <p:cNvPicPr/>
            <p:nvPr/>
          </p:nvPicPr>
          <p:blipFill>
            <a:blip r:embed="rId1"/>
            <a:stretch/>
          </p:blipFill>
          <p:spPr>
            <a:xfrm>
              <a:off x="384120" y="1255680"/>
              <a:ext cx="8150400" cy="52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95280" y="1268280"/>
              <a:ext cx="812628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rcinoma Basocelular: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Neoplasia cutánea de malignidad limitada.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 mas frecuente de los cánceres de piel.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Rara vez metastiza.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Su alta incidencia hace que constituya un importante problema de salud en el mundo.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Se hace necesario la búsqueda de nuevas alternativas de tratamiento efectivas y seguras, que de ser necesario puedan sustituir el tratamiento quirúrgico, que es el de elección en la actualidad.</a:t>
              </a:r>
              <a:r>
                <a:rPr b="1" lang="es-ES_tradnl" sz="1800" spc="-1" strike="noStrike">
                  <a:solidFill>
                    <a:srgbClr val="003366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eberFERON® (mezcla sinérgica de interferones) compuesta por: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nterferón gamma, humano recombinante: 0,5 x 106 UI.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nterferón alfa 2b, humano recombinante: 3,0 x 106 UI.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9" name="Marcador de contenido 2"/>
          <p:cNvGrpSpPr/>
          <p:nvPr/>
        </p:nvGrpSpPr>
        <p:grpSpPr>
          <a:xfrm>
            <a:off x="669960" y="1401840"/>
            <a:ext cx="8040600" cy="5102280"/>
            <a:chOff x="669960" y="1401840"/>
            <a:chExt cx="8040600" cy="5102280"/>
          </a:xfrm>
        </p:grpSpPr>
        <p:pic>
          <p:nvPicPr>
            <p:cNvPr id="530" name="Marcador de contenido 2" descr=""/>
            <p:cNvPicPr/>
            <p:nvPr/>
          </p:nvPicPr>
          <p:blipFill>
            <a:blip r:embed="rId1"/>
            <a:stretch/>
          </p:blipFill>
          <p:spPr>
            <a:xfrm>
              <a:off x="669960" y="1401840"/>
              <a:ext cx="80406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684360" y="1413000"/>
              <a:ext cx="8013600" cy="50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roblema científic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¿Es efectivo y seguro el tratamiento con HeberFERON® en pacientes con diagnóstico de carcinoma basocelular en la práctica médica habitual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bjetivo general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valuar la efectividad y la seguridad del HeberFERON® en pacientes con carcinoma basocelular tratados en Cuba en la práctica médica habitual.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bjetivos específico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dentificar la respuesta en los pacientes con carcinoma basocelular tratados con HeberFERON® según variables clínicas dermatoscopicas e histológicas, durante la etapa de tratamiento.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racterizar los eventos adversos ocurridos durante el tratamiento con HeberFERON® y a largo plazo.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dentificar la presencia de recidivas a los 3 y 6 meses de los carcinomas basocelulares de los pacientes tratados con HeberFERON®.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3" name="Marcador de contenido 2"/>
          <p:cNvGrpSpPr/>
          <p:nvPr/>
        </p:nvGrpSpPr>
        <p:grpSpPr>
          <a:xfrm>
            <a:off x="281160" y="1689120"/>
            <a:ext cx="8581680" cy="4351320"/>
            <a:chOff x="281160" y="1689120"/>
            <a:chExt cx="8581680" cy="4351320"/>
          </a:xfrm>
        </p:grpSpPr>
        <p:pic>
          <p:nvPicPr>
            <p:cNvPr id="534" name="Marcador de contenido 2" descr=""/>
            <p:cNvPicPr/>
            <p:nvPr/>
          </p:nvPicPr>
          <p:blipFill>
            <a:blip r:embed="rId1"/>
            <a:stretch/>
          </p:blipFill>
          <p:spPr>
            <a:xfrm>
              <a:off x="281160" y="1689120"/>
              <a:ext cx="8581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93760" y="1700280"/>
              <a:ext cx="8558280" cy="43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Tipo de estudi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Se realizó un estudio de post-comercialización, prospectivo, multicéntrico, abierto, no aleatorizado. En este estudio se reportan los resultados de los pacientes atendidos en la consulta externa de Dermatología del Hospital Clínico Quirúrgico “Hermanos Ameijeiras” en el periodo comprendido entre mayo de 2018 a diciembre de 2019.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Universo de estudio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 universo esta conformado por todos los pacientes con diagnóstico </a:t>
              </a: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línico e histopatológico de carcinoma basocelular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1f63ad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uestr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Quedó conformada por 50 pacientes del universo que cumplieron con los criterios de inclusión y exclusión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7" name="Marcador de contenido 2"/>
          <p:cNvGrpSpPr/>
          <p:nvPr/>
        </p:nvGrpSpPr>
        <p:grpSpPr>
          <a:xfrm>
            <a:off x="384120" y="1401840"/>
            <a:ext cx="8180280" cy="5132160"/>
            <a:chOff x="384120" y="1401840"/>
            <a:chExt cx="8180280" cy="5132160"/>
          </a:xfrm>
        </p:grpSpPr>
        <p:pic>
          <p:nvPicPr>
            <p:cNvPr id="538" name="Marcador de contenido 2" descr=""/>
            <p:cNvPicPr/>
            <p:nvPr/>
          </p:nvPicPr>
          <p:blipFill>
            <a:blip r:embed="rId1"/>
            <a:stretch/>
          </p:blipFill>
          <p:spPr>
            <a:xfrm>
              <a:off x="384120" y="1401840"/>
              <a:ext cx="818028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395280" y="1413000"/>
              <a:ext cx="815652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riterios de inclusió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1f63a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acientes mayores de 18 años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1f63a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Diagnóstico clínico, dermatoscopico e histológico de CB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1f63a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acientes con lesión de cualquier tamaño, localización y subtipo clínico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1f63a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nsentimiento informado. (Anexo1)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Si el paciente tiene más de una lesión se tratará la de mayor tamaño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riterios de exclusió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1f63a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mbarazo, puerperio o mujeres lactando  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1f63a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ipersensibilidad a interferón o excipientes de la preparación u otras preparaciones utilizadas en el  estudio  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1f63a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nfermedades autoinmunes  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riterios de salid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Abandono voluntario del individuo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Aparición de complicaciones y/o eventos adversos graves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rogresión de la lesión en el curso del tratamiento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Aparición de cualquiera de los eventos considerados como criterios de exclusión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3ca05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Fallecimiento durante el tratamiento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1" name="Diagrama 1" descr=""/>
          <p:cNvPicPr/>
          <p:nvPr/>
        </p:nvPicPr>
        <p:blipFill>
          <a:blip r:embed="rId1"/>
          <a:stretch/>
        </p:blipFill>
        <p:spPr>
          <a:xfrm>
            <a:off x="1066680" y="1414440"/>
            <a:ext cx="70963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CuadroTexto 2"/>
          <p:cNvSpPr/>
          <p:nvPr/>
        </p:nvSpPr>
        <p:spPr>
          <a:xfrm>
            <a:off x="214200" y="126828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bla 1. </a:t>
            </a:r>
            <a:r>
              <a:rPr b="0" lang="es-PA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acientes con carcinoma basocelular tratados con HeberFERON® según edad, sexo, fototipo cutaneo y lugar de residenc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900000" y="1987560"/>
          <a:ext cx="7155000" cy="4470480"/>
        </p:xfrm>
        <a:graphic>
          <a:graphicData uri="http://schemas.openxmlformats.org/drawingml/2006/table">
            <a:tbl>
              <a:tblPr/>
              <a:tblGrid>
                <a:gridCol w="1656000"/>
                <a:gridCol w="2736720"/>
                <a:gridCol w="1569960"/>
                <a:gridCol w="1192320"/>
              </a:tblGrid>
              <a:tr h="342720">
                <a:tc gridSpan="2">
                  <a:txBody>
                    <a:bodyPr lIns="65520" rIns="65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1f63ad"/>
                          </a:solidFill>
                          <a:latin typeface="Times New Roman"/>
                          <a:ea typeface="Times New Roman"/>
                        </a:rPr>
                        <a:t>Datos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mográfico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4320">
                      <a:solidFill>
                        <a:srgbClr val="1b60ad"/>
                      </a:solidFill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cuenc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>
                      <a:noFill/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</a:tr>
              <a:tr h="343080">
                <a:tc gridSpan="2">
                  <a:txBody>
                    <a:bodyPr lIns="65520" rIns="65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42720">
                <a:tc rowSpan="2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exo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emenino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sculino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42720">
                <a:tc rowSpan="3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dad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dia ± D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gridSpan="2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5.9 ± 16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diana </a:t>
                      </a: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± R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gridSpan="2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8.0 </a:t>
                      </a: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± 20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Mínimo; Máximo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gridSpan="2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21; 8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 rowSpan="4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totipo cutáne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42720">
                <a:tc rowSpan="2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ugar de residenc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rbana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CuadroTexto 5"/>
          <p:cNvSpPr/>
          <p:nvPr/>
        </p:nvSpPr>
        <p:spPr>
          <a:xfrm>
            <a:off x="0" y="6458040"/>
            <a:ext cx="654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: Desviación Estándar; RI: Rango intercuartílic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uente:</a:t>
            </a:r>
            <a:r>
              <a:rPr b="0" lang="es-PA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adernos de recolección de datos CRD(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CuadroTexto 2"/>
          <p:cNvSpPr/>
          <p:nvPr/>
        </p:nvSpPr>
        <p:spPr>
          <a:xfrm>
            <a:off x="250920" y="1341360"/>
            <a:ext cx="871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áfico 1. Pacientes con carcinoma basocelular tratados con </a:t>
            </a:r>
            <a:r>
              <a:rPr b="1" lang="es-ES_tradn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berFERON® según localización del tum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8" name="Imagen 8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724360" cy="3587760"/>
          </a:xfrm>
          <a:prstGeom prst="rect">
            <a:avLst/>
          </a:prstGeom>
          <a:ln w="0">
            <a:noFill/>
          </a:ln>
        </p:spPr>
      </p:pic>
      <p:sp>
        <p:nvSpPr>
          <p:cNvPr id="549" name="CuadroTexto 6"/>
          <p:cNvSpPr/>
          <p:nvPr/>
        </p:nvSpPr>
        <p:spPr>
          <a:xfrm>
            <a:off x="395280" y="6264360"/>
            <a:ext cx="654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uente:</a:t>
            </a:r>
            <a:r>
              <a:rPr b="0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adernos de recolección de datos CRD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CuadroTexto 7"/>
          <p:cNvSpPr/>
          <p:nvPr/>
        </p:nvSpPr>
        <p:spPr>
          <a:xfrm>
            <a:off x="231840" y="1557360"/>
            <a:ext cx="871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bla 2. </a:t>
            </a:r>
            <a:r>
              <a:rPr b="0" lang="es-PA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acientes con carcinoma basocelular tratados con </a:t>
            </a:r>
            <a:r>
              <a:rPr b="0" lang="es-ES_tradnl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berFERON® según variantes clínicas, dermatoscópicas e histológic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84360" y="2708280"/>
          <a:ext cx="7103880" cy="3056040"/>
        </p:xfrm>
        <a:graphic>
          <a:graphicData uri="http://schemas.openxmlformats.org/drawingml/2006/table">
            <a:tbl>
              <a:tblPr/>
              <a:tblGrid>
                <a:gridCol w="1366560"/>
                <a:gridCol w="2568600"/>
                <a:gridCol w="1728720"/>
                <a:gridCol w="1440000"/>
              </a:tblGrid>
              <a:tr h="379440">
                <a:tc gridSpan="2"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ntes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4320">
                      <a:solidFill>
                        <a:srgbClr val="1b60ad"/>
                      </a:solidFill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cuencia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solidFill>
                      <a:srgbClr val="1f63ad"/>
                    </a:solidFill>
                  </a:tcPr>
                </a:tc>
              </a:tr>
              <a:tr h="379440">
                <a:tc gridSpan="2"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160200">
                <a:tc rowSpan="6"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ubtipo clínico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128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dular </a:t>
                      </a: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128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lano cicatrizal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1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igmentado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uperficial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egetant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lcerado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160200">
                <a:tc rowSpan="4"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ubtipo histológico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4320">
                      <a:solidFill>
                        <a:srgbClr val="1b60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5760">
                      <a:solidFill>
                        <a:srgbClr val="1f63ad"/>
                      </a:solidFill>
                    </a:lnT>
                    <a:lnB w="5760">
                      <a:solidFill>
                        <a:srgbClr val="1f63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dular/solido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filtrant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uperficial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oescamoso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5760">
                      <a:solidFill>
                        <a:srgbClr val="1f63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marL="38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1f63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</a:tr>
              <a:tr h="338400">
                <a:tc gridSpan="4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agnóstico dermatoscópico confirmatorio en el 100% de los pacient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4320">
                      <a:solidFill>
                        <a:srgbClr val="1b60ad"/>
                      </a:solidFill>
                    </a:lnL>
                    <a:lnR w="4320">
                      <a:solidFill>
                        <a:srgbClr val="1b60ad"/>
                      </a:solidFill>
                    </a:lnR>
                    <a:lnT w="4320">
                      <a:solidFill>
                        <a:srgbClr val="1b60ad"/>
                      </a:solidFill>
                    </a:lnT>
                    <a:lnB w="4320">
                      <a:solidFill>
                        <a:srgbClr val="1b60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3" name="CuadroTexto 6"/>
          <p:cNvSpPr/>
          <p:nvPr/>
        </p:nvSpPr>
        <p:spPr>
          <a:xfrm>
            <a:off x="395280" y="6264360"/>
            <a:ext cx="654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uente:</a:t>
            </a:r>
            <a:r>
              <a:rPr b="0" lang="es-PA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adernos de recolección de datos CRD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Secretaria Dermatologia</cp:lastModifiedBy>
  <dcterms:modified xsi:type="dcterms:W3CDTF">2020-11-03T14:45:25Z</dcterms:modified>
  <cp:revision>89</cp:revision>
  <dc:subject/>
  <dc:title>PowerPoint Template</dc:title>
</cp:coreProperties>
</file>