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F84D-3A6D-474A-B0DC-55B83B13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AC89-5F12-4F7E-876A-D5D0B246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D78F1-8B11-4D65-BEC9-2E2D5F1E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9103B-5C04-4590-9285-9451EE8E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70E4C-91A2-48F6-9266-0D9734B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E117D-7616-4260-B10C-95FD722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7D7E-1CCE-4968-9AF0-3199D6E4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9245-07D2-4876-8EA1-B915FD8C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7DE31-B660-4F27-B58F-E542C6C6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B8FD-2EEF-4DC4-8926-5A588405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1C64-CDB8-487B-921C-DC75A38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F3B6-297E-4191-AC69-80542A3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5179B-CFB4-4EA9-8D1A-8E9A829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F35C1-3BC5-4955-B0C1-A42C5279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04328-F26B-4E20-A938-76315A3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ABF3-2360-4D25-BC7A-0F4D17D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60247-5013-45AC-B2E6-39AB71F6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7053-4FFF-43A2-9928-8B7C8A06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9FC9-972A-4A03-A769-B8D6E6C9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1124-67F8-4CD3-AE22-843FF7E3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6184-ABBA-47E0-8CB5-78CEE49D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E16B7-320B-4AAE-888B-7DFF1BD9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D84C-E696-469F-88A3-6DAF10BF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F389-0BF9-48AD-965D-96ECF80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F57E8-6230-4E99-9509-DF2C190D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43E3-4B0F-41AB-8F64-28F00155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52F2-729B-4348-923A-F08EF466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01066-45E5-4F15-AD7C-AA2BBAA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3A76B-8B78-4D01-B71B-6CCBF57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4140-3ED4-404C-AF31-8D1362F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7EAC5-DEF9-458E-B7F9-7D20B096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9677-A8D7-4EFC-B837-D2E17CEB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E4E81-0664-4471-A347-78980E77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7DBC0-1FB9-411F-BC2D-E9B44204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8AAC1-CA22-47ED-945F-359F488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F18AA-EB91-49BA-B371-54F4C13A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F6960-9B5D-4631-A96B-8B79C32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D0B87-EF96-4434-B84C-4EFDC8E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090B-02D2-41C5-9BF2-CF091AC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2FB8-8459-4CE8-B10C-331FDFD4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831F9-5B0C-4E5E-84C6-1B71CBC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537F2-3298-47EB-BC0D-BE32020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87523-FABA-4854-9EEB-D6F5135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8CDF-01CD-4E6C-96C8-C3E813FF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8329C-C3BA-4562-8822-429CE518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976-264C-4B61-8B51-B6B8F572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D32-4627-41E8-8149-FF91094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BF8-A99D-4CDF-B31A-4777CC7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21E-13E0-4F99-9C36-2085E062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CD6-8176-4001-AA3E-03F31F6D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59B-64A5-45A1-99D2-513E3782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D4D-8A22-4141-AFA0-0606B76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CE8-BF95-4B4B-80F5-EF1BF1A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0BB-6350-4A75-B17E-3BF9EE0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ACE-CE82-4769-93A5-FF1B382C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EA8-D958-47F8-BD02-90770A8E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ECF-0ACE-4ED3-A0A1-152152E5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2BA-5CCF-4E74-97CC-1F1E4CD1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1CC7-71A7-4C74-BBAE-A54CD8F5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373-05F2-47ED-8537-227622A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BA1A-22DA-475F-95C0-B91F796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3240-2C00-4CA5-83C3-6BC20F3F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7FAB-FF19-40B1-9A36-04D091FB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F0C5-3276-4409-A757-D8F380E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2920-4B16-401D-ABD7-FF8E45B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6B2-2238-423D-B067-04CEB8E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6039-CCEC-44F9-9791-E9C8924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3CD4-FF36-4961-93C2-859E217E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3357-ACE5-49FC-89B8-1653EB11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5B839-20DA-4B7A-A771-C33D3C11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3CCC-C77B-4063-A93F-0B37AE3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2F1B-68B1-4B34-994E-3AAF95AA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F03F-AC68-4FE6-8BA9-6745211A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1CB6-158D-406D-8FE8-3B15B48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3C08-4F6A-404D-9C82-5386159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4217-FCF2-434A-8B8E-2069B62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E752-4B2D-4639-B29A-AB31D72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309E-4DC9-4C25-8870-0A49267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3304-E7C4-4AA1-A5B6-B4348654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D74E-3CA8-4648-8F90-2D3A3CB9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BA9E-B64F-4B67-82A5-51E504A5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966F-B60F-4FE9-9023-E1F7A185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EA78-095F-4976-8EDB-C2A0D0A9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8D4D-7E5F-4180-8498-A880B2B7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109A-CE3A-4AB2-B6C8-8314B90D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DE4B-75B8-4A4C-98C0-9792E26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46CB-857E-4033-B8EF-8F45A4EB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5AEB-8078-47EA-A7B8-548847CA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83A0-78E7-4486-A40B-56416B01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8793-E9EC-4F1D-BA6F-CDA17C3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5E40-4B33-482A-A8B1-84FFC2AF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0C1B-2BA0-4D32-9D87-A57672D1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01A6-A462-4BE9-BAE0-A7F5CDF9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39C5-FABE-45BF-B4F6-2971102E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B516-9283-499D-A4FE-9F082BDE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AD7D-2407-45CB-960E-B303A94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B0FF-31B5-4DC9-A898-550CD709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7330-5E55-4155-9622-6B40026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40CE-3CD4-40B1-BBD3-F607CDBC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5BDE-A5EF-4000-B9A4-C14D63BE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7704A-CECD-486E-BA62-AC09191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AB96-5090-4ABA-9DFF-F20958D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678E1-CD23-4555-8B67-E4FAD9C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8AFC-0276-4980-9365-8872A6EA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F0F1-395B-4AB0-BDD5-812BDFE9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31B6-DD74-4FF7-B8C3-5282641A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3EAD-B331-4064-BE17-BFB0143E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1013-0F9B-4E5B-B1F9-B8EADBBC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E457-617D-4CDF-B2A4-EB234D026A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D8A-90B5-4060-87A9-9A26545383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C68-F480-4736-9F9D-63743C4395E4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D687-A09A-4A13-A2F2-AD3D8378A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90F-3F5D-439A-8139-73ABB0344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1BB0-4384-4D54-A303-3ADF2852B2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AF7-6160-4062-8190-42A6F0127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F82-2AD1-4740-9A5E-CCE34969EA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9862-DB74-4B17-9330-16A3BD939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énicas de colgajo cutáneo en dermatocirugía en pacientes con diagnóstico de tumores malignos de la piel, No Melanom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utores: Dr. Manuel Salazar Sedano          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r. David Elías Yaury Larrazáball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rvicio  de Dermatologí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Imagen 6" descr=""/>
          <p:cNvPicPr/>
          <p:nvPr/>
        </p:nvPicPr>
        <p:blipFill>
          <a:blip r:embed="rId1"/>
          <a:srcRect l="19224" t="20079" r="20671" b="27692"/>
          <a:stretch/>
        </p:blipFill>
        <p:spPr>
          <a:xfrm>
            <a:off x="1692360" y="1700280"/>
            <a:ext cx="6119640" cy="47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Imagen 1" descr=""/>
          <p:cNvPicPr/>
          <p:nvPr/>
        </p:nvPicPr>
        <p:blipFill>
          <a:blip r:embed="rId1"/>
          <a:srcRect l="17536" t="17662" r="18981" b="27667"/>
          <a:stretch/>
        </p:blipFill>
        <p:spPr>
          <a:xfrm>
            <a:off x="1403280" y="1628640"/>
            <a:ext cx="6408720" cy="47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Imagen 1" descr=""/>
          <p:cNvPicPr/>
          <p:nvPr/>
        </p:nvPicPr>
        <p:blipFill>
          <a:blip r:embed="rId1"/>
          <a:srcRect l="28734" t="21585" r="29965" b="33140"/>
          <a:stretch/>
        </p:blipFill>
        <p:spPr>
          <a:xfrm>
            <a:off x="1116000" y="1557360"/>
            <a:ext cx="6610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n 2" descr=""/>
          <p:cNvPicPr/>
          <p:nvPr/>
        </p:nvPicPr>
        <p:blipFill>
          <a:blip r:embed="rId1"/>
          <a:srcRect l="16585" t="10684" r="17606" b="15290"/>
          <a:stretch/>
        </p:blipFill>
        <p:spPr>
          <a:xfrm>
            <a:off x="1243080" y="1557360"/>
            <a:ext cx="64245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543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28302"/>
                </a:solidFill>
                <a:latin typeface="Arial"/>
                <a:ea typeface="Arial"/>
              </a:rPr>
              <a:t>CONCLUSION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94920" y="2491920"/>
            <a:ext cx="8132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Las variables demográficas, epidemiológicas y clínicas tuvieron un comportamiento similar a lo reportado en la literatura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Se emplearon las técnicas de colgajo de rotación, transposición y deslizamiento. El tipo de colgajo más utilizado fue el de deslizamiento (tipo lateral)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La frecuencia de complicaciones fue baja. Las más frecuentes fueron el sangrado transoperatorio y la sepsis postoperatoria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La mayoría de los pacientes tuvieron resultados estéticos buenos y un alto grado de satisfacción con el proceder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3" name="Marcador de contenido 5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2376720" cy="2797200"/>
          </a:xfrm>
          <a:prstGeom prst="rect">
            <a:avLst/>
          </a:prstGeom>
          <a:ln w="0">
            <a:noFill/>
          </a:ln>
        </p:spPr>
      </p:pic>
      <p:pic>
        <p:nvPicPr>
          <p:cNvPr id="544" name="Marcador de contenido 7" descr=""/>
          <p:cNvPicPr/>
          <p:nvPr/>
        </p:nvPicPr>
        <p:blipFill>
          <a:blip r:embed="rId2"/>
          <a:stretch/>
        </p:blipFill>
        <p:spPr>
          <a:xfrm>
            <a:off x="2987640" y="851040"/>
            <a:ext cx="2665440" cy="2808000"/>
          </a:xfrm>
          <a:prstGeom prst="rect">
            <a:avLst/>
          </a:prstGeom>
          <a:ln w="0">
            <a:noFill/>
          </a:ln>
        </p:spPr>
      </p:pic>
      <p:pic>
        <p:nvPicPr>
          <p:cNvPr id="545" name="Imagen 9" descr=""/>
          <p:cNvPicPr/>
          <p:nvPr/>
        </p:nvPicPr>
        <p:blipFill>
          <a:blip r:embed="rId3"/>
          <a:srcRect l="9349" t="0" r="0" b="0"/>
          <a:stretch/>
        </p:blipFill>
        <p:spPr>
          <a:xfrm>
            <a:off x="6012000" y="847800"/>
            <a:ext cx="2660400" cy="281124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8" descr=""/>
          <p:cNvPicPr/>
          <p:nvPr/>
        </p:nvPicPr>
        <p:blipFill>
          <a:blip r:embed="rId4"/>
          <a:srcRect l="0" t="34583" r="0" b="34583"/>
          <a:stretch/>
        </p:blipFill>
        <p:spPr>
          <a:xfrm>
            <a:off x="3808440" y="487440"/>
            <a:ext cx="1233360" cy="506160"/>
          </a:xfrm>
          <a:prstGeom prst="rect">
            <a:avLst/>
          </a:prstGeom>
          <a:ln w="0">
            <a:noFill/>
          </a:ln>
        </p:spPr>
      </p:pic>
      <p:pic>
        <p:nvPicPr>
          <p:cNvPr id="547" name="Marcador de contenido 6" descr=""/>
          <p:cNvPicPr/>
          <p:nvPr/>
        </p:nvPicPr>
        <p:blipFill>
          <a:blip r:embed="rId5"/>
          <a:stretch/>
        </p:blipFill>
        <p:spPr>
          <a:xfrm>
            <a:off x="4716360" y="3794040"/>
            <a:ext cx="3103560" cy="2817720"/>
          </a:xfrm>
          <a:prstGeom prst="rect">
            <a:avLst/>
          </a:prstGeom>
          <a:ln w="0">
            <a:noFill/>
          </a:ln>
        </p:spPr>
      </p:pic>
      <p:pic>
        <p:nvPicPr>
          <p:cNvPr id="548" name="Marcador de contenido 4" descr=""/>
          <p:cNvPicPr/>
          <p:nvPr/>
        </p:nvPicPr>
        <p:blipFill>
          <a:blip r:embed="rId6"/>
          <a:stretch/>
        </p:blipFill>
        <p:spPr>
          <a:xfrm>
            <a:off x="1201680" y="3789360"/>
            <a:ext cx="30830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JORNADA DE TEMAS TERMINADO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3366"/>
                </a:solidFill>
                <a:latin typeface="Verdana"/>
              </a:rPr>
              <a:t>El cáncer de piel no melanoma (CCNM) es la neoplasia maligna de piel mas común y su tratamiento de elección es la cirugía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66"/>
                </a:solidFill>
                <a:latin typeface="Verdana"/>
              </a:rPr>
              <a:t>El colgajo cutáneo es el trozo de piel que cubre un defecto cercano (colgajo local) o lejano (colgajo a distancia), que mantiene un pedículo con su lecho primitiv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66"/>
                </a:solidFill>
                <a:latin typeface="Verdana"/>
              </a:rPr>
              <a:t>El CCNM está en los primeros diez más frecuentes en Cuba, no entre los primeros en  mortalidad, pero sí disminuye la calidad de vida de los afectado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528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617b"/>
                </a:solidFill>
                <a:latin typeface="Verdana"/>
              </a:rPr>
              <a:t>Introducción (contin.)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Nuestro país no cuenta con estadístcas analíticas relacionadas con nuestro estudio, lo que motivó nuestra investigación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Procuramos un estudio que nos muestre las técnicas utilizadas en el cierre de los defectos creados por las operaciones y relacionarlas con variables que aporten elementos de interé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528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Objetivos del estudio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Conocer las técnicas utilizadas en el cierre de los defectos creados por las operacione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Evaluar resultado curativo, complicaciones, resultado estético y satisfacción de los paciente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Relacionar variables entre el diagnóstico y técnicas utilizadas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Diseño metodológico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PE" sz="2000" spc="-1" strike="noStrike" u="sng">
                <a:solidFill>
                  <a:srgbClr val="404040"/>
                </a:solidFill>
                <a:uFillTx/>
                <a:latin typeface="Trebuchet MS"/>
              </a:rPr>
              <a:t>TIPO DE ESTUDI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404040"/>
                </a:solidFill>
                <a:latin typeface="Trebuchet MS"/>
              </a:rPr>
              <a:t>Se realizó un estudio descriptivo longitudinal </a:t>
            </a:r>
            <a:r>
              <a:rPr b="1" i="1" lang="es-ES" sz="2000" spc="-1" strike="noStrike">
                <a:solidFill>
                  <a:srgbClr val="000000"/>
                </a:solidFill>
                <a:latin typeface="Trebuchet MS"/>
              </a:rPr>
              <a:t>prospectivo</a:t>
            </a:r>
            <a:r>
              <a:rPr b="1" i="1" lang="es-ES" sz="2000" spc="-1" strike="noStrike">
                <a:solidFill>
                  <a:srgbClr val="404040"/>
                </a:solidFill>
                <a:latin typeface="Trebuchet MS"/>
              </a:rPr>
              <a:t> de serie de casos, en el Servicio de Dermatología d</a:t>
            </a:r>
            <a:r>
              <a:rPr b="1" i="1" lang="es-MX" sz="2000" spc="-1" strike="noStrike">
                <a:solidFill>
                  <a:srgbClr val="404040"/>
                </a:solidFill>
                <a:latin typeface="Trebuchet MS"/>
              </a:rPr>
              <a:t>el Hospital Clínico Quirúrgico “Hermanos Ameijeiras” </a:t>
            </a:r>
            <a:r>
              <a:rPr b="1" i="1" lang="es-ES" sz="2000" spc="-1" strike="noStrike">
                <a:solidFill>
                  <a:srgbClr val="404040"/>
                </a:solidFill>
                <a:latin typeface="Trebuchet MS"/>
              </a:rPr>
              <a:t>de la provincia de la Habana en el período comprendido desde octubre del 2018 a marzo del 2020</a:t>
            </a:r>
            <a:r>
              <a:rPr b="1" i="1" lang="es-MX" sz="20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PE" sz="2000" spc="-1" strike="noStrike" u="sng">
                <a:solidFill>
                  <a:srgbClr val="404040"/>
                </a:solidFill>
                <a:uFillTx/>
                <a:latin typeface="Trebuchet MS"/>
              </a:rPr>
              <a:t>UNIVERS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404040"/>
                </a:solidFill>
                <a:latin typeface="Trebuchet MS"/>
              </a:rPr>
              <a:t>Pacientes atendidos en la consulta protocolizada de Tumores del Servicio de  Dermatología, Hospital ¨Hermanos Ameijeiras¨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000" spc="-1" strike="noStrike" u="sng">
                <a:solidFill>
                  <a:srgbClr val="404040"/>
                </a:solidFill>
                <a:uFillTx/>
                <a:latin typeface="Trebuchet MS"/>
              </a:rPr>
              <a:t>MUESTRA</a:t>
            </a:r>
            <a:r>
              <a:rPr b="1" i="1" lang="es-MX" sz="2000" spc="-1" strike="noStrike">
                <a:solidFill>
                  <a:srgbClr val="404040"/>
                </a:solidFill>
                <a:latin typeface="Trebuchet MS"/>
              </a:rPr>
              <a:t> Todos los pacientes del universo operados y cerrados con técnicas de colgajos durante el período señalado y que cumplieron con los criterios de inclusión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1557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d28302"/>
                </a:solidFill>
                <a:latin typeface="Arial"/>
                <a:ea typeface="Arial"/>
              </a:rPr>
              <a:t> </a:t>
            </a:r>
            <a:r>
              <a:rPr b="1" i="1" lang="es-ES" sz="2800" spc="-1" strike="noStrike">
                <a:solidFill>
                  <a:srgbClr val="d28302"/>
                </a:solidFill>
                <a:latin typeface="Arial"/>
                <a:ea typeface="Arial"/>
              </a:rPr>
              <a:t>RESULT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2" name="Marcador de contenido 7" descr=""/>
          <p:cNvPicPr/>
          <p:nvPr/>
        </p:nvPicPr>
        <p:blipFill>
          <a:blip r:embed="rId1"/>
          <a:srcRect l="15146" t="17200" r="19232" b="10881"/>
          <a:stretch/>
        </p:blipFill>
        <p:spPr>
          <a:xfrm>
            <a:off x="2627280" y="2205000"/>
            <a:ext cx="4203720" cy="43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Imagen 4" descr=""/>
          <p:cNvPicPr/>
          <p:nvPr/>
        </p:nvPicPr>
        <p:blipFill>
          <a:blip r:embed="rId1"/>
          <a:srcRect l="20176" t="8430" r="22467" b="13031"/>
          <a:stretch/>
        </p:blipFill>
        <p:spPr>
          <a:xfrm>
            <a:off x="1332000" y="1773360"/>
            <a:ext cx="6192720" cy="469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Imagen 3" descr=""/>
          <p:cNvPicPr/>
          <p:nvPr/>
        </p:nvPicPr>
        <p:blipFill>
          <a:blip r:embed="rId1"/>
          <a:srcRect l="16269" t="12751" r="17500" b="13223"/>
          <a:stretch/>
        </p:blipFill>
        <p:spPr>
          <a:xfrm>
            <a:off x="1935000" y="1778040"/>
            <a:ext cx="5274000" cy="44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Imagen 1" descr=""/>
          <p:cNvPicPr/>
          <p:nvPr/>
        </p:nvPicPr>
        <p:blipFill>
          <a:blip r:embed="rId1"/>
          <a:srcRect l="28861" t="25094" r="29860" b="29405"/>
          <a:stretch/>
        </p:blipFill>
        <p:spPr>
          <a:xfrm>
            <a:off x="1487520" y="880920"/>
            <a:ext cx="61689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Doctor</cp:lastModifiedBy>
  <dcterms:modified xsi:type="dcterms:W3CDTF">2020-10-29T16:32:23Z</dcterms:modified>
  <cp:revision>98</cp:revision>
  <dc:subject/>
  <dc:title>PowerPoint Template</dc:title>
</cp:coreProperties>
</file>